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5.wmf" ContentType="image/x-wmf"/>
  <Override PartName="/ppt/media/image54.wmf" ContentType="image/x-wmf"/>
  <Override PartName="/ppt/media/image52.wmf" ContentType="image/x-wmf"/>
  <Override PartName="/ppt/media/image51.gif" ContentType="image/gif"/>
  <Override PartName="/ppt/media/image32.wmf" ContentType="image/x-wmf"/>
  <Override PartName="/ppt/media/image17.wmf" ContentType="image/x-wmf"/>
  <Override PartName="/ppt/media/image57.gif" ContentType="image/gif"/>
  <Override PartName="/ppt/media/image20.gif" ContentType="image/gif"/>
  <Override PartName="/ppt/media/image53.wmf" ContentType="image/x-wmf"/>
  <Override PartName="/ppt/media/image10.gif" ContentType="image/gif"/>
  <Override PartName="/ppt/media/image47.png" ContentType="image/png"/>
  <Override PartName="/ppt/media/image1.jpeg" ContentType="image/jpeg"/>
  <Override PartName="/ppt/media/image48.wmf" ContentType="image/x-wmf"/>
  <Override PartName="/ppt/media/image26.gif" ContentType="image/gif"/>
  <Override PartName="/ppt/media/image2.jpeg" ContentType="image/jpeg"/>
  <Override PartName="/ppt/media/image25.wmf" ContentType="image/x-wmf"/>
  <Override PartName="/ppt/media/image59.png" ContentType="image/png"/>
  <Override PartName="/ppt/media/image30.wmf" ContentType="image/x-wmf"/>
  <Override PartName="/ppt/media/image28.wmf" ContentType="image/x-wmf"/>
  <Override PartName="/ppt/media/image27.wmf" ContentType="image/x-wmf"/>
  <Override PartName="/ppt/media/image24.wmf" ContentType="image/x-wmf"/>
  <Override PartName="/ppt/media/image22.wmf" ContentType="image/x-wmf"/>
  <Override PartName="/ppt/media/image62.gif" ContentType="image/gif"/>
  <Override PartName="/ppt/media/image61.jpeg" ContentType="image/jpeg"/>
  <Override PartName="/ppt/media/image38.wmf" ContentType="image/x-wmf"/>
  <Override PartName="/ppt/media/image60.gif" ContentType="image/gif"/>
  <Override PartName="/ppt/media/image6.gif" ContentType="image/gif"/>
  <Override PartName="/ppt/media/image18.gif" ContentType="image/gif"/>
  <Override PartName="/ppt/media/image23.gif" ContentType="image/gif"/>
  <Override PartName="/ppt/media/image56.wmf" ContentType="image/x-wmf"/>
  <Override PartName="/ppt/media/image15.gif" ContentType="image/gif"/>
  <Override PartName="/ppt/media/image3.gif" ContentType="image/gif"/>
  <Override PartName="/ppt/media/image49.wmf" ContentType="image/x-wmf"/>
  <Override PartName="/ppt/media/image14.gif" ContentType="image/gif"/>
  <Override PartName="/ppt/media/image11.gif" ContentType="image/gif"/>
  <Override PartName="/ppt/media/image44.wmf" ContentType="image/x-wmf"/>
  <Override PartName="/ppt/media/image19.gif" ContentType="image/gif"/>
  <Override PartName="/ppt/media/donaldducktune-2.wav" ContentType="audio/x-wav"/>
  <Override PartName="/ppt/media/image7.gif" ContentType="image/gif"/>
  <Override PartName="/ppt/media/image33.wmf" ContentType="image/x-wmf"/>
  <Override PartName="/ppt/media/image12.gif" ContentType="image/gif"/>
  <Override PartName="/ppt/media/image21.wmf" ContentType="image/x-wmf"/>
  <Override PartName="/ppt/media/image58.wmf" ContentType="image/x-wmf"/>
  <Override PartName="/ppt/media/image45.wmf" ContentType="image/x-wmf"/>
  <Override PartName="/ppt/media/image8.gif" ContentType="image/gif"/>
  <Override PartName="/ppt/media/image34.wmf" ContentType="image/x-wmf"/>
  <Override PartName="/ppt/media/image13.gif" ContentType="image/gif"/>
  <Override PartName="/ppt/media/image46.wmf" ContentType="image/x-wmf"/>
  <Override PartName="/ppt/media/image9.gif" ContentType="image/gif"/>
  <Override PartName="/ppt/media/image29.wmf" ContentType="image/x-wmf"/>
  <Override PartName="/ppt/media/image31.gif" ContentType="image/gif"/>
  <Override PartName="/ppt/media/image35.png" ContentType="image/png"/>
  <Override PartName="/ppt/media/image36.wmf" ContentType="image/x-wmf"/>
  <Override PartName="/ppt/media/image37.wmf" ContentType="image/x-wmf"/>
  <Override PartName="/ppt/media/image39.wmf" ContentType="image/x-wmf"/>
  <Override PartName="/ppt/media/image40.gif" ContentType="image/gif"/>
  <Override PartName="/ppt/media/image4.gif" ContentType="image/gif"/>
  <Override PartName="/ppt/media/image16.gif" ContentType="image/gif"/>
  <Override PartName="/ppt/media/image41.wmf" ContentType="image/x-wmf"/>
  <Override PartName="/ppt/media/image5.gif" ContentType="image/gif"/>
  <Override PartName="/ppt/media/image42.wmf" ContentType="image/x-wmf"/>
  <Override PartName="/ppt/media/image43.gif" ContentType="image/gif"/>
  <Override PartName="/ppt/media/image50.gif" ContentType="image/gi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74D2-4313-4083-967C-3B41275CC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D526-8F9F-4087-947A-B8BD41176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B0E0-85CB-47CC-B3E7-B56E81D41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03A4-2D47-4768-8BC8-C244F8E0A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2A1D1-4659-48FF-8B53-268888296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2DA36-B53D-4289-9FFA-2482353E7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52C5B-4C1C-4056-90BC-F226D84D6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6AC6F-6192-4C86-8DBC-10A14D918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55EBD-4172-4143-BC20-974A22FA8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53145-0B62-478B-BED2-9CC66F458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34FDA-4DB6-4E67-97E0-CA795496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6198-74C9-401C-9584-D676DEE55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5515A-3B52-49E1-B0F6-80BF1D0D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BC1AB-7949-4829-86A2-B930D2BD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7B58E-265C-4077-A128-84610BED6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8122B-A007-405A-8F37-4B2BB673E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0DD3C-E61B-4178-A477-ADEC9F8D7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915F-7B3A-4DA2-A3C6-B78ABD85B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B259-4A02-4D43-89BC-37A3EA63A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70DF-A628-45D8-A466-D28523CF0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7E92-AE8C-428D-A91A-5275C1B5C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3AAC-3611-41E2-9DC8-464F529D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3010-51B0-4FB9-8356-A691D223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417F-FDD3-4295-BFDD-C693C98D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63E9D-B149-484F-B82B-E37C67D2DAB0}" type="slidenum">
              <a:rPr b="0" lang="ro-RO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DDCBC-D43B-40B6-A84E-22DDAFA3A17F}" type="slidenum">
              <a:rPr b="0" lang="ro-RO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9.gif"/><Relationship Id="rId9" Type="http://schemas.openxmlformats.org/officeDocument/2006/relationships/image" Target="../media/image10.gif"/><Relationship Id="rId10" Type="http://schemas.openxmlformats.org/officeDocument/2006/relationships/image" Target="../media/image11.gif"/><Relationship Id="rId11" Type="http://schemas.openxmlformats.org/officeDocument/2006/relationships/image" Target="../media/image12.gif"/><Relationship Id="rId12" Type="http://schemas.openxmlformats.org/officeDocument/2006/relationships/image" Target="../media/image6.gif"/><Relationship Id="rId13" Type="http://schemas.openxmlformats.org/officeDocument/2006/relationships/image" Target="../media/image13.gif"/><Relationship Id="rId14" Type="http://schemas.openxmlformats.org/officeDocument/2006/relationships/image" Target="../media/image14.gif"/><Relationship Id="rId15" Type="http://schemas.openxmlformats.org/officeDocument/2006/relationships/image" Target="../media/image15.gif"/><Relationship Id="rId16" Type="http://schemas.openxmlformats.org/officeDocument/2006/relationships/image" Target="../media/image14.gif"/><Relationship Id="rId17" Type="http://schemas.openxmlformats.org/officeDocument/2006/relationships/image" Target="../media/image15.gif"/><Relationship Id="rId18" Type="http://schemas.openxmlformats.org/officeDocument/2006/relationships/image" Target="../media/image8.gif"/><Relationship Id="rId19" Type="http://schemas.openxmlformats.org/officeDocument/2006/relationships/audio" Target="../media/donaldducktune-2.wav"/><Relationship Id="rId20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" Target="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image" Target="../media/image25.wmf"/><Relationship Id="rId4" Type="http://schemas.openxmlformats.org/officeDocument/2006/relationships/slide" Target="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image" Target="../media/image22.wmf"/><Relationship Id="rId4" Type="http://schemas.openxmlformats.org/officeDocument/2006/relationships/slide" Target="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gif"/><Relationship Id="rId3" Type="http://schemas.openxmlformats.org/officeDocument/2006/relationships/image" Target="../media/image26.gif"/><Relationship Id="rId4" Type="http://schemas.openxmlformats.org/officeDocument/2006/relationships/image" Target="../media/image26.gif"/><Relationship Id="rId5" Type="http://schemas.openxmlformats.org/officeDocument/2006/relationships/image" Target="../media/image26.gif"/><Relationship Id="rId6" Type="http://schemas.openxmlformats.org/officeDocument/2006/relationships/image" Target="../media/image26.gif"/><Relationship Id="rId7" Type="http://schemas.openxmlformats.org/officeDocument/2006/relationships/image" Target="../media/image26.gif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slide18.xml"/><Relationship Id="rId13" Type="http://schemas.openxmlformats.org/officeDocument/2006/relationships/image" Target="../media/image3.gif"/><Relationship Id="rId14" Type="http://schemas.openxmlformats.org/officeDocument/2006/relationships/image" Target="../media/image27.wmf"/><Relationship Id="rId15" Type="http://schemas.openxmlformats.org/officeDocument/2006/relationships/image" Target="../media/image28.wmf"/><Relationship Id="rId16" Type="http://schemas.openxmlformats.org/officeDocument/2006/relationships/slide" Target=""/><Relationship Id="rId17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20.gi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image" Target="../media/image30.wmf"/><Relationship Id="rId4" Type="http://schemas.openxmlformats.org/officeDocument/2006/relationships/slide" Target="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image" Target="../media/image16.gif"/><Relationship Id="rId8" Type="http://schemas.openxmlformats.org/officeDocument/2006/relationships/image" Target="../media/image3.gif"/><Relationship Id="rId9" Type="http://schemas.openxmlformats.org/officeDocument/2006/relationships/slide" Target=""/><Relationship Id="rId10" Type="http://schemas.openxmlformats.org/officeDocument/2006/relationships/slide" Target="slide7.xml"/><Relationship Id="rId11" Type="http://schemas.openxmlformats.org/officeDocument/2006/relationships/slide" Target="slide4.xml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image" Target="../media/image17.wmf"/><Relationship Id="rId16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8.gi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8.gif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gif"/><Relationship Id="rId3" Type="http://schemas.openxmlformats.org/officeDocument/2006/relationships/image" Target="../media/image31.gif"/><Relationship Id="rId4" Type="http://schemas.openxmlformats.org/officeDocument/2006/relationships/image" Target="../media/image31.gif"/><Relationship Id="rId5" Type="http://schemas.openxmlformats.org/officeDocument/2006/relationships/image" Target="../media/image31.gif"/><Relationship Id="rId6" Type="http://schemas.openxmlformats.org/officeDocument/2006/relationships/image" Target="../media/image31.gif"/><Relationship Id="rId7" Type="http://schemas.openxmlformats.org/officeDocument/2006/relationships/image" Target="../media/image31.gif"/><Relationship Id="rId8" Type="http://schemas.openxmlformats.org/officeDocument/2006/relationships/slide" Target="slide27.xml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image" Target="../media/image3.gif"/><Relationship Id="rId15" Type="http://schemas.openxmlformats.org/officeDocument/2006/relationships/image" Target="../media/image32.wmf"/><Relationship Id="rId16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" Target=""/><Relationship Id="rId4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8.gif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8.gi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gif"/><Relationship Id="rId3" Type="http://schemas.openxmlformats.org/officeDocument/2006/relationships/image" Target="../media/image23.gif"/><Relationship Id="rId4" Type="http://schemas.openxmlformats.org/officeDocument/2006/relationships/image" Target="../media/image23.gif"/><Relationship Id="rId5" Type="http://schemas.openxmlformats.org/officeDocument/2006/relationships/image" Target="../media/image23.gif"/><Relationship Id="rId6" Type="http://schemas.openxmlformats.org/officeDocument/2006/relationships/image" Target="../media/image23.gif"/><Relationship Id="rId7" Type="http://schemas.openxmlformats.org/officeDocument/2006/relationships/image" Target="../media/image23.gif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slide31.xml"/><Relationship Id="rId11" Type="http://schemas.openxmlformats.org/officeDocument/2006/relationships/slide" Target="slide31.xml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image" Target="../media/image3.gif"/><Relationship Id="rId15" Type="http://schemas.openxmlformats.org/officeDocument/2006/relationships/image" Target="../media/image33.wmf"/><Relationship Id="rId16" Type="http://schemas.openxmlformats.org/officeDocument/2006/relationships/image" Target="../media/image34.wmf"/><Relationship Id="rId17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35.png"/><Relationship Id="rId4" Type="http://schemas.openxmlformats.org/officeDocument/2006/relationships/image" Target="../media/image19.gi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slide" Target=""/><Relationship Id="rId4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slide" Target=""/><Relationship Id="rId4" Type="http://schemas.openxmlformats.org/officeDocument/2006/relationships/slideLayout" Target="../slideLayouts/slideLayout2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8.gi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gif"/><Relationship Id="rId3" Type="http://schemas.openxmlformats.org/officeDocument/2006/relationships/image" Target="../media/image31.gif"/><Relationship Id="rId4" Type="http://schemas.openxmlformats.org/officeDocument/2006/relationships/image" Target="../media/image31.gif"/><Relationship Id="rId5" Type="http://schemas.openxmlformats.org/officeDocument/2006/relationships/image" Target="../media/image31.gif"/><Relationship Id="rId6" Type="http://schemas.openxmlformats.org/officeDocument/2006/relationships/image" Target="../media/image31.gif"/><Relationship Id="rId7" Type="http://schemas.openxmlformats.org/officeDocument/2006/relationships/image" Target="../media/image31.gif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image" Target="../media/image3.gif"/><Relationship Id="rId15" Type="http://schemas.openxmlformats.org/officeDocument/2006/relationships/image" Target="../media/image38.wmf"/><Relationship Id="rId16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" Target=""/><Relationship Id="rId4" Type="http://schemas.openxmlformats.org/officeDocument/2006/relationships/image" Target="../media/image35.png"/><Relationship Id="rId5" Type="http://schemas.openxmlformats.org/officeDocument/2006/relationships/image" Target="../media/image39.wmf"/><Relationship Id="rId6" Type="http://schemas.openxmlformats.org/officeDocument/2006/relationships/image" Target="../media/image19.gif"/><Relationship Id="rId7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slide" Target=""/><Relationship Id="rId4" Type="http://schemas.openxmlformats.org/officeDocument/2006/relationships/slideLayout" Target="../slideLayouts/slideLayout20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8.gi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gif"/><Relationship Id="rId3" Type="http://schemas.openxmlformats.org/officeDocument/2006/relationships/image" Target="../media/image40.gif"/><Relationship Id="rId4" Type="http://schemas.openxmlformats.org/officeDocument/2006/relationships/image" Target="../media/image40.gif"/><Relationship Id="rId5" Type="http://schemas.openxmlformats.org/officeDocument/2006/relationships/image" Target="../media/image40.gif"/><Relationship Id="rId6" Type="http://schemas.openxmlformats.org/officeDocument/2006/relationships/image" Target="../media/image40.gif"/><Relationship Id="rId7" Type="http://schemas.openxmlformats.org/officeDocument/2006/relationships/image" Target="../media/image40.gif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image" Target="../media/image3.gif"/><Relationship Id="rId14" Type="http://schemas.openxmlformats.org/officeDocument/2006/relationships/slide" Target=""/><Relationship Id="rId15" Type="http://schemas.openxmlformats.org/officeDocument/2006/relationships/image" Target="../media/image41.wmf"/><Relationship Id="rId16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" Target=""/><Relationship Id="rId4" Type="http://schemas.openxmlformats.org/officeDocument/2006/relationships/slideLayout" Target="../slideLayouts/slideLayout20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9.gif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8.gi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gif"/><Relationship Id="rId3" Type="http://schemas.openxmlformats.org/officeDocument/2006/relationships/image" Target="../media/image44.wmf"/><Relationship Id="rId4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slide" Target=""/><Relationship Id="rId4" Type="http://schemas.openxmlformats.org/officeDocument/2006/relationships/slideLayout" Target="../slideLayouts/slideLayout20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gif"/><Relationship Id="rId3" Type="http://schemas.openxmlformats.org/officeDocument/2006/relationships/image" Target="../media/image35.png"/><Relationship Id="rId4" Type="http://schemas.openxmlformats.org/officeDocument/2006/relationships/image" Target="../media/image31.gif"/><Relationship Id="rId5" Type="http://schemas.openxmlformats.org/officeDocument/2006/relationships/image" Target="../media/image31.gif"/><Relationship Id="rId6" Type="http://schemas.openxmlformats.org/officeDocument/2006/relationships/image" Target="../media/image31.gif"/><Relationship Id="rId7" Type="http://schemas.openxmlformats.org/officeDocument/2006/relationships/image" Target="../media/image31.gif"/><Relationship Id="rId8" Type="http://schemas.openxmlformats.org/officeDocument/2006/relationships/image" Target="../media/image31.gif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slide50.xml"/><Relationship Id="rId14" Type="http://schemas.openxmlformats.org/officeDocument/2006/relationships/slide" Target=""/><Relationship Id="rId15" Type="http://schemas.openxmlformats.org/officeDocument/2006/relationships/image" Target="../media/image3.gif"/><Relationship Id="rId16" Type="http://schemas.openxmlformats.org/officeDocument/2006/relationships/image" Target="../media/image45.wmf"/><Relationship Id="rId17" Type="http://schemas.openxmlformats.org/officeDocument/2006/relationships/image" Target="../media/image46.wmf"/><Relationship Id="rId18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" Target=""/><Relationship Id="rId4" Type="http://schemas.openxmlformats.org/officeDocument/2006/relationships/image" Target="../media/image35.png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18.gif"/><Relationship Id="rId4" Type="http://schemas.openxmlformats.org/officeDocument/2006/relationships/slide" Target=""/><Relationship Id="rId5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8.gi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gif"/><Relationship Id="rId3" Type="http://schemas.openxmlformats.org/officeDocument/2006/relationships/slide" Target="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47.png"/><Relationship Id="rId4" Type="http://schemas.openxmlformats.org/officeDocument/2006/relationships/image" Target="../media/image47.png"/><Relationship Id="rId5" Type="http://schemas.openxmlformats.org/officeDocument/2006/relationships/image" Target="../media/image47.png"/><Relationship Id="rId6" Type="http://schemas.openxmlformats.org/officeDocument/2006/relationships/image" Target="../media/image47.png"/><Relationship Id="rId7" Type="http://schemas.openxmlformats.org/officeDocument/2006/relationships/image" Target="../media/image47.png"/><Relationship Id="rId8" Type="http://schemas.openxmlformats.org/officeDocument/2006/relationships/image" Target="../media/image47.png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slide55.xml"/><Relationship Id="rId12" Type="http://schemas.openxmlformats.org/officeDocument/2006/relationships/slide" Target=""/><Relationship Id="rId13" Type="http://schemas.openxmlformats.org/officeDocument/2006/relationships/slide" Target="slide55.xml"/><Relationship Id="rId14" Type="http://schemas.openxmlformats.org/officeDocument/2006/relationships/slide" Target=""/><Relationship Id="rId15" Type="http://schemas.openxmlformats.org/officeDocument/2006/relationships/image" Target="../media/image3.gif"/><Relationship Id="rId16" Type="http://schemas.openxmlformats.org/officeDocument/2006/relationships/image" Target="../media/image48.wmf"/><Relationship Id="rId17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wmf"/><Relationship Id="rId3" Type="http://schemas.openxmlformats.org/officeDocument/2006/relationships/slide" Target=""/><Relationship Id="rId4" Type="http://schemas.openxmlformats.org/officeDocument/2006/relationships/image" Target="../media/image50.gif"/><Relationship Id="rId5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8.gi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gif"/><Relationship Id="rId3" Type="http://schemas.openxmlformats.org/officeDocument/2006/relationships/image" Target="../media/image51.gif"/><Relationship Id="rId4" Type="http://schemas.openxmlformats.org/officeDocument/2006/relationships/image" Target="../media/image51.gif"/><Relationship Id="rId5" Type="http://schemas.openxmlformats.org/officeDocument/2006/relationships/image" Target="../media/image51.gif"/><Relationship Id="rId6" Type="http://schemas.openxmlformats.org/officeDocument/2006/relationships/image" Target="../media/image51.gif"/><Relationship Id="rId7" Type="http://schemas.openxmlformats.org/officeDocument/2006/relationships/image" Target="../media/image51.gif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image" Target="../media/image3.gif"/><Relationship Id="rId15" Type="http://schemas.openxmlformats.org/officeDocument/2006/relationships/slideLayout" Target="../slideLayouts/slideLayout20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wmf"/><Relationship Id="rId3" Type="http://schemas.openxmlformats.org/officeDocument/2006/relationships/slide" Target=""/><Relationship Id="rId4" Type="http://schemas.openxmlformats.org/officeDocument/2006/relationships/image" Target="../media/image19.gif"/><Relationship Id="rId5" Type="http://schemas.openxmlformats.org/officeDocument/2006/relationships/image" Target="../media/image53.wmf"/><Relationship Id="rId6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image" Target="../media/image47.png"/><Relationship Id="rId4" Type="http://schemas.openxmlformats.org/officeDocument/2006/relationships/image" Target="../media/image47.png"/><Relationship Id="rId5" Type="http://schemas.openxmlformats.org/officeDocument/2006/relationships/image" Target="../media/image47.png"/><Relationship Id="rId6" Type="http://schemas.openxmlformats.org/officeDocument/2006/relationships/image" Target="../media/image47.png"/><Relationship Id="rId7" Type="http://schemas.openxmlformats.org/officeDocument/2006/relationships/image" Target="../media/image47.png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image" Target="../media/image3.gif"/><Relationship Id="rId14" Type="http://schemas.openxmlformats.org/officeDocument/2006/relationships/slide" Target=""/><Relationship Id="rId15" Type="http://schemas.openxmlformats.org/officeDocument/2006/relationships/image" Target="../media/image54.wmf"/><Relationship Id="rId1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gif"/><Relationship Id="rId3" Type="http://schemas.openxmlformats.org/officeDocument/2006/relationships/image" Target="../media/image55.wmf"/><Relationship Id="rId4" Type="http://schemas.openxmlformats.org/officeDocument/2006/relationships/image" Target="../media/image56.wmf"/><Relationship Id="rId5" Type="http://schemas.openxmlformats.org/officeDocument/2006/relationships/slide" Target=""/><Relationship Id="rId6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gif"/><Relationship Id="rId3" Type="http://schemas.openxmlformats.org/officeDocument/2006/relationships/image" Target="../media/image58.wmf"/><Relationship Id="rId4" Type="http://schemas.openxmlformats.org/officeDocument/2006/relationships/slide" Target=""/><Relationship Id="rId5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image" Target="../media/image22.wmf"/><Relationship Id="rId4" Type="http://schemas.openxmlformats.org/officeDocument/2006/relationships/slide" Target=""/><Relationship Id="rId5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gif"/><Relationship Id="rId3" Type="http://schemas.openxmlformats.org/officeDocument/2006/relationships/image" Target="../media/image47.png"/><Relationship Id="rId4" Type="http://schemas.openxmlformats.org/officeDocument/2006/relationships/image" Target="../media/image16.gif"/><Relationship Id="rId5" Type="http://schemas.openxmlformats.org/officeDocument/2006/relationships/image" Target="../media/image51.gif"/><Relationship Id="rId6" Type="http://schemas.openxmlformats.org/officeDocument/2006/relationships/image" Target="../media/image59.png"/><Relationship Id="rId7" Type="http://schemas.openxmlformats.org/officeDocument/2006/relationships/image" Target="../media/image40.gif"/><Relationship Id="rId8" Type="http://schemas.openxmlformats.org/officeDocument/2006/relationships/slide" Target="slide68.xml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slide68.xml"/><Relationship Id="rId12" Type="http://schemas.openxmlformats.org/officeDocument/2006/relationships/slide" Target=""/><Relationship Id="rId13" Type="http://schemas.openxmlformats.org/officeDocument/2006/relationships/image" Target="../media/image3.gif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0.xml"/><Relationship Id="rId3" Type="http://schemas.openxmlformats.org/officeDocument/2006/relationships/image" Target="../media/image60.gif"/><Relationship Id="rId4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slide" Target=""/><Relationship Id="rId4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slide" Target="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61.jpeg"/><Relationship Id="rId4" Type="http://schemas.openxmlformats.org/officeDocument/2006/relationships/image" Target="../media/image59.png"/><Relationship Id="rId5" Type="http://schemas.openxmlformats.org/officeDocument/2006/relationships/image" Target="../media/image59.png"/><Relationship Id="rId6" Type="http://schemas.openxmlformats.org/officeDocument/2006/relationships/image" Target="../media/image59.png"/><Relationship Id="rId7" Type="http://schemas.openxmlformats.org/officeDocument/2006/relationships/image" Target="../media/image59.png"/><Relationship Id="rId8" Type="http://schemas.openxmlformats.org/officeDocument/2006/relationships/image" Target="../media/image59.png"/><Relationship Id="rId9" Type="http://schemas.openxmlformats.org/officeDocument/2006/relationships/image" Target="../media/image59.png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slide" Target="slide70.xml"/><Relationship Id="rId4" Type="http://schemas.openxmlformats.org/officeDocument/2006/relationships/slideLayout" Target="../slideLayouts/slideLayout1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2.gi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8.gi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gif"/><Relationship Id="rId3" Type="http://schemas.openxmlformats.org/officeDocument/2006/relationships/image" Target="../media/image23.gif"/><Relationship Id="rId4" Type="http://schemas.openxmlformats.org/officeDocument/2006/relationships/image" Target="../media/image23.gif"/><Relationship Id="rId5" Type="http://schemas.openxmlformats.org/officeDocument/2006/relationships/image" Target="../media/image23.gif"/><Relationship Id="rId6" Type="http://schemas.openxmlformats.org/officeDocument/2006/relationships/image" Target="../media/image23.gif"/><Relationship Id="rId7" Type="http://schemas.openxmlformats.org/officeDocument/2006/relationships/image" Target="../media/image23.gif"/><Relationship Id="rId8" Type="http://schemas.openxmlformats.org/officeDocument/2006/relationships/slide" Target="slide14.xml"/><Relationship Id="rId9" Type="http://schemas.openxmlformats.org/officeDocument/2006/relationships/slide" Target=""/><Relationship Id="rId10" Type="http://schemas.openxmlformats.org/officeDocument/2006/relationships/image" Target="../media/image3.gif"/><Relationship Id="rId11" Type="http://schemas.openxmlformats.org/officeDocument/2006/relationships/slide" Target=""/><Relationship Id="rId12" Type="http://schemas.openxmlformats.org/officeDocument/2006/relationships/image" Target="../media/image24.wmf"/><Relationship Id="rId13" Type="http://schemas.openxmlformats.org/officeDocument/2006/relationships/slide" Target=""/><Relationship Id="rId1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486400" y="5943600"/>
            <a:ext cx="2665440" cy="764280"/>
          </a:xfrm>
          <a:prstGeom prst="rect">
            <a:avLst/>
          </a:prstGeom>
          <a:solidFill>
            <a:srgbClr val="6699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00"/>
                </a:solidFill>
                <a:latin typeface="Arial"/>
              </a:rPr>
              <a:t>Clic aici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o-RO" sz="4400" spc="-1" strike="noStrike">
                <a:solidFill>
                  <a:srgbClr val="ffff00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" action="ppaction://hlinkshowjump?jump=nextslide"/>
          </p:cNvPr>
          <p:cNvSpPr/>
          <p:nvPr/>
        </p:nvSpPr>
        <p:spPr>
          <a:xfrm>
            <a:off x="8278920" y="5943600"/>
            <a:ext cx="865080" cy="722160"/>
          </a:xfrm>
          <a:custGeom>
            <a:avLst/>
            <a:gdLst>
              <a:gd name="textAreaLeft" fmla="*/ 46800 w 865080"/>
              <a:gd name="textAreaRight" fmla="*/ 818280 w 865080"/>
              <a:gd name="textAreaTop" fmla="*/ 46800 h 722160"/>
              <a:gd name="textAreaBottom" fmla="*/ 675360 h 722160"/>
            </a:gdLst>
            <a:ahLst/>
            <a:rect l="textAreaLeft" t="textAreaTop" r="textAreaRight" b="textAreaBottom"/>
            <a:pathLst>
              <a:path w="25873" h="21600">
                <a:moveTo>
                  <a:pt x="0" y="0"/>
                </a:moveTo>
                <a:lnTo>
                  <a:pt x="25873" y="0"/>
                </a:lnTo>
                <a:lnTo>
                  <a:pt x="25873" y="21600"/>
                </a:lnTo>
                <a:lnTo>
                  <a:pt x="0" y="21600"/>
                </a:lnTo>
                <a:close/>
              </a:path>
              <a:path fill="lightenLess" w="25873" h="21600">
                <a:moveTo>
                  <a:pt x="0" y="0"/>
                </a:moveTo>
                <a:lnTo>
                  <a:pt x="25873" y="0"/>
                </a:lnTo>
                <a:lnTo>
                  <a:pt x="24473" y="1400"/>
                </a:lnTo>
                <a:lnTo>
                  <a:pt x="1400" y="1400"/>
                </a:lnTo>
                <a:close/>
              </a:path>
              <a:path fill="darken" w="25873" h="21600">
                <a:moveTo>
                  <a:pt x="25873" y="0"/>
                </a:moveTo>
                <a:lnTo>
                  <a:pt x="25873" y="21600"/>
                </a:lnTo>
                <a:lnTo>
                  <a:pt x="24473" y="20200"/>
                </a:lnTo>
                <a:lnTo>
                  <a:pt x="24473" y="1400"/>
                </a:lnTo>
                <a:close/>
              </a:path>
              <a:path fill="darkenLess" w="25873" h="21600">
                <a:moveTo>
                  <a:pt x="258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73" y="20200"/>
                </a:lnTo>
                <a:close/>
              </a:path>
              <a:path fill="lighten" w="258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73" h="21600">
                <a:moveTo>
                  <a:pt x="5930" y="3794"/>
                </a:moveTo>
                <a:lnTo>
                  <a:pt x="19943" y="10800"/>
                </a:lnTo>
                <a:lnTo>
                  <a:pt x="5930" y="17806"/>
                </a:lnTo>
                <a:close/>
              </a:path>
            </a:pathLst>
          </a:custGeom>
          <a:solidFill>
            <a:srgbClr val="ffff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819520" y="3645000"/>
            <a:ext cx="2747880" cy="3213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2270160" y="668160"/>
            <a:ext cx="1396800" cy="12718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3567240" y="2050920"/>
            <a:ext cx="998280" cy="11559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4214880" y="2054160"/>
            <a:ext cx="1184040" cy="1096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6375240" y="668160"/>
            <a:ext cx="1305000" cy="1208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685800" y="668160"/>
            <a:ext cx="1258920" cy="12718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8"/>
          <a:stretch/>
        </p:blipFill>
        <p:spPr>
          <a:xfrm>
            <a:off x="4286160" y="609480"/>
            <a:ext cx="1309680" cy="12128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9"/>
          <a:stretch/>
        </p:blipFill>
        <p:spPr>
          <a:xfrm>
            <a:off x="6734160" y="725400"/>
            <a:ext cx="1870200" cy="1079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0"/>
          <a:stretch/>
        </p:blipFill>
        <p:spPr>
          <a:xfrm>
            <a:off x="2558880" y="3094200"/>
            <a:ext cx="1248120" cy="11556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1"/>
          <a:stretch/>
        </p:blipFill>
        <p:spPr>
          <a:xfrm>
            <a:off x="5222880" y="3035160"/>
            <a:ext cx="1247760" cy="11559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2"/>
          <a:stretch/>
        </p:blipFill>
        <p:spPr>
          <a:xfrm>
            <a:off x="5294160" y="668160"/>
            <a:ext cx="1184400" cy="1097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3"/>
          <a:stretch/>
        </p:blipFill>
        <p:spPr>
          <a:xfrm>
            <a:off x="1585800" y="644400"/>
            <a:ext cx="1285920" cy="1192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4"/>
          <a:stretch/>
        </p:blipFill>
        <p:spPr>
          <a:xfrm>
            <a:off x="3278160" y="609480"/>
            <a:ext cx="1434960" cy="13287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5"/>
          <a:stretch/>
        </p:blipFill>
        <p:spPr>
          <a:xfrm>
            <a:off x="1693800" y="3267000"/>
            <a:ext cx="1428840" cy="1324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6"/>
          <a:stretch/>
        </p:blipFill>
        <p:spPr>
          <a:xfrm>
            <a:off x="3557520" y="3094200"/>
            <a:ext cx="1371600" cy="1096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7"/>
          <a:stretch/>
        </p:blipFill>
        <p:spPr>
          <a:xfrm>
            <a:off x="5867280" y="3276720"/>
            <a:ext cx="1428840" cy="13237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8"/>
          <a:stretch/>
        </p:blipFill>
        <p:spPr>
          <a:xfrm>
            <a:off x="4502160" y="2978280"/>
            <a:ext cx="1144440" cy="115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57200" y="609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7200" spc="-1" strike="noStrike">
                <a:solidFill>
                  <a:srgbClr val="ffff00"/>
                </a:solidFill>
                <a:latin typeface="Comic Sans MS"/>
              </a:rPr>
              <a:t>EXCELENT!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6019920" y="1371600"/>
            <a:ext cx="2862000" cy="4797360"/>
          </a:xfrm>
          <a:prstGeom prst="rect">
            <a:avLst/>
          </a:prstGeom>
          <a:ln w="0">
            <a:noFill/>
          </a:ln>
        </p:spPr>
      </p:pic>
      <p:sp>
        <p:nvSpPr>
          <p:cNvPr id="176" name="">
            <a:hlinkClick r:id="rId3" action="ppaction://hlinksldjump"/>
          </p:cNvPr>
          <p:cNvSpPr/>
          <p:nvPr/>
        </p:nvSpPr>
        <p:spPr>
          <a:xfrm>
            <a:off x="1476360" y="4653000"/>
            <a:ext cx="863640" cy="1008000"/>
          </a:xfrm>
          <a:custGeom>
            <a:avLst/>
            <a:gdLst>
              <a:gd name="textAreaLeft" fmla="*/ 55800 w 863640"/>
              <a:gd name="textAreaRight" fmla="*/ 807840 w 863640"/>
              <a:gd name="textAreaTop" fmla="*/ 55800 h 1008000"/>
              <a:gd name="textAreaBottom" fmla="*/ 952200 h 1008000"/>
            </a:gdLst>
            <a:ahLst/>
            <a:rect l="textAreaLeft" t="textAreaTop" r="textAreaRight" b="textAreaBottom"/>
            <a:pathLst>
              <a:path w="21600" h="25209">
                <a:moveTo>
                  <a:pt x="0" y="0"/>
                </a:moveTo>
                <a:lnTo>
                  <a:pt x="21600" y="0"/>
                </a:lnTo>
                <a:lnTo>
                  <a:pt x="21600" y="25209"/>
                </a:lnTo>
                <a:lnTo>
                  <a:pt x="0" y="25209"/>
                </a:lnTo>
                <a:close/>
              </a:path>
              <a:path fill="lightenLess" w="21600" h="25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9">
                <a:moveTo>
                  <a:pt x="21600" y="0"/>
                </a:moveTo>
                <a:lnTo>
                  <a:pt x="21600" y="25209"/>
                </a:lnTo>
                <a:lnTo>
                  <a:pt x="20200" y="23809"/>
                </a:lnTo>
                <a:lnTo>
                  <a:pt x="20200" y="1400"/>
                </a:lnTo>
                <a:close/>
              </a:path>
              <a:path fill="darkenLess" w="21600" h="25209">
                <a:moveTo>
                  <a:pt x="21600" y="25209"/>
                </a:moveTo>
                <a:lnTo>
                  <a:pt x="0" y="25209"/>
                </a:lnTo>
                <a:lnTo>
                  <a:pt x="1400" y="23809"/>
                </a:lnTo>
                <a:lnTo>
                  <a:pt x="20200" y="23809"/>
                </a:lnTo>
                <a:close/>
              </a:path>
              <a:path fill="lighten" w="21600" h="25209">
                <a:moveTo>
                  <a:pt x="0" y="25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9"/>
                </a:lnTo>
                <a:close/>
              </a:path>
              <a:path fill="darken" w="21600" h="25209">
                <a:moveTo>
                  <a:pt x="3794" y="5598"/>
                </a:moveTo>
                <a:lnTo>
                  <a:pt x="17806" y="12605"/>
                </a:lnTo>
                <a:lnTo>
                  <a:pt x="3794" y="19611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2209680"/>
            <a:ext cx="4496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O altă aventură 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41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00"/>
                            </p:stCondLst>
                            <p:childTnLst>
                              <p:par>
                                <p:cTn id="195" nodeType="afterEffect" fill="hold" presetClass="entr" presetID="27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300"/>
                            </p:stCondLst>
                            <p:childTnLst>
                              <p:par>
                                <p:cTn id="201" nodeType="after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0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0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200"/>
                            </p:stCondLst>
                            <p:childTnLst>
                              <p:par>
                                <p:cTn id="208" nodeType="afterEffect" fill="hold" presetClass="entr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800"/>
                            </p:stCondLst>
                            <p:childTnLst>
                              <p:par>
                                <p:cTn id="214" nodeType="afterEffect" fill="hold" presetClass="emph" presetID="34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1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1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395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5219640" y="2421000"/>
            <a:ext cx="2673360" cy="41050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1763640" y="404640"/>
            <a:ext cx="5794560" cy="20289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58640" y="3017880"/>
            <a:ext cx="3503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f800"/>
                </a:solidFill>
                <a:latin typeface="Arial"/>
              </a:rPr>
              <a:t>Dă clic  şi încearcă din n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rId4" action="ppaction://hlinksldjump"/>
          </p:cNvPr>
          <p:cNvSpPr/>
          <p:nvPr/>
        </p:nvSpPr>
        <p:spPr>
          <a:xfrm>
            <a:off x="4419720" y="3809880"/>
            <a:ext cx="1152360" cy="792360"/>
          </a:xfrm>
          <a:custGeom>
            <a:avLst/>
            <a:gdLst>
              <a:gd name="textAreaLeft" fmla="*/ 51120 w 1152360"/>
              <a:gd name="textAreaRight" fmla="*/ 1101240 w 115236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31409" h="21600">
                <a:moveTo>
                  <a:pt x="0" y="0"/>
                </a:moveTo>
                <a:lnTo>
                  <a:pt x="31409" y="0"/>
                </a:lnTo>
                <a:lnTo>
                  <a:pt x="31409" y="21600"/>
                </a:lnTo>
                <a:lnTo>
                  <a:pt x="0" y="21600"/>
                </a:lnTo>
                <a:close/>
              </a:path>
              <a:path fill="lightenLess" w="31409" h="21600">
                <a:moveTo>
                  <a:pt x="0" y="0"/>
                </a:moveTo>
                <a:lnTo>
                  <a:pt x="31409" y="0"/>
                </a:lnTo>
                <a:lnTo>
                  <a:pt x="30009" y="1400"/>
                </a:lnTo>
                <a:lnTo>
                  <a:pt x="1400" y="1400"/>
                </a:lnTo>
                <a:close/>
              </a:path>
              <a:path fill="darken" w="31409" h="21600">
                <a:moveTo>
                  <a:pt x="31409" y="0"/>
                </a:moveTo>
                <a:lnTo>
                  <a:pt x="31409" y="21600"/>
                </a:lnTo>
                <a:lnTo>
                  <a:pt x="30009" y="20200"/>
                </a:lnTo>
                <a:lnTo>
                  <a:pt x="30009" y="1400"/>
                </a:lnTo>
                <a:close/>
              </a:path>
              <a:path fill="darkenLess" w="31409" h="21600">
                <a:moveTo>
                  <a:pt x="314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9" y="20200"/>
                </a:lnTo>
                <a:close/>
              </a:path>
              <a:path fill="lighten" w="314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409" h="21600">
                <a:moveTo>
                  <a:pt x="8698" y="3794"/>
                </a:moveTo>
                <a:lnTo>
                  <a:pt x="22711" y="10800"/>
                </a:lnTo>
                <a:lnTo>
                  <a:pt x="8698" y="17806"/>
                </a:lnTo>
                <a:close/>
              </a:path>
            </a:pathLst>
          </a:cu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path" presetID="4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305 0.01503 C -0.03871 0.01457 -0.02777 0.01341 -0.02326 0.01272 C 0.00139 0.00994 0.02674 0.00231 0.02622 -0.00254 C 0.02657 -0.00046 0.03959 0.00069 0.05174 -0.00069 C 0.06476 -0.00208 0.07657 -0.00624 0.07622 -0.00902 C 0.07657 -0.00763 0.08316 -0.00717 0.08959 -0.00786 C 0.09636 -0.00879 0.10243 -0.01064 0.10243 -0.01202 C 0.10243 -0.01133 0.10556 -0.0111 0.10886 -0.01156 C 0.11233 -0.01202 0.11528 -0.01272 0.11476 -0.01364 C 0.11528 -0.01272 0.11719 -0.01295 0.11875 -0.01318 C 0.11962 -0.01341 0.12153 -0.0141 0.12153 -0.01433 C 0.12153 -0.0141 0.1224 -0.0141 0.12362 -0.0141 C 0.12362 -0.01433 0.12518 -0.01457 0.12518 -0.01503 C 0.12518 -0.0148 0.12518 -0.01457 0.12587 -0.01503 C 0.12587 -0.01526 0.12709 -0.01503 0.12709 -0.01526 C 0.12709 -0.01503 0.12709 -0.01526 0.12709 -0.01503 C 0.12778 -0.01503 0.12778 -0.01526 0.12778 -0.01503 C 0.12882 -0.01503 0.12882 -0.01526 0.12882 -0.01503 C 0.12882 -0.01526 0.12882 -0.01503 0.12882 -0.01526 E">
                                      <p:cBhvr>
                                        <p:cTn id="239" dur="5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460"/>
                            </p:stCondLst>
                            <p:childTnLst>
                              <p:par>
                                <p:cTn id="24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>
            <a:hlinkClick r:id="rId2" action="ppaction://hlinksldjump"/>
          </p:cNvPr>
          <p:cNvSpPr/>
          <p:nvPr/>
        </p:nvSpPr>
        <p:spPr>
          <a:xfrm>
            <a:off x="4419720" y="4038480"/>
            <a:ext cx="1081080" cy="792360"/>
          </a:xfrm>
          <a:custGeom>
            <a:avLst/>
            <a:gdLst>
              <a:gd name="textAreaLeft" fmla="*/ 51120 w 1081080"/>
              <a:gd name="textAreaRight" fmla="*/ 1029960 w 108108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9467" h="21600">
                <a:moveTo>
                  <a:pt x="0" y="0"/>
                </a:moveTo>
                <a:lnTo>
                  <a:pt x="29467" y="0"/>
                </a:lnTo>
                <a:lnTo>
                  <a:pt x="29467" y="21600"/>
                </a:lnTo>
                <a:lnTo>
                  <a:pt x="0" y="21600"/>
                </a:lnTo>
                <a:close/>
              </a:path>
              <a:path fill="lightenLess" w="29467" h="21600">
                <a:moveTo>
                  <a:pt x="0" y="0"/>
                </a:moveTo>
                <a:lnTo>
                  <a:pt x="29467" y="0"/>
                </a:lnTo>
                <a:lnTo>
                  <a:pt x="28067" y="1400"/>
                </a:lnTo>
                <a:lnTo>
                  <a:pt x="1400" y="1400"/>
                </a:lnTo>
                <a:close/>
              </a:path>
              <a:path fill="darken" w="29467" h="21600">
                <a:moveTo>
                  <a:pt x="29467" y="0"/>
                </a:moveTo>
                <a:lnTo>
                  <a:pt x="29467" y="21600"/>
                </a:lnTo>
                <a:lnTo>
                  <a:pt x="28067" y="20200"/>
                </a:lnTo>
                <a:lnTo>
                  <a:pt x="28067" y="1400"/>
                </a:lnTo>
                <a:close/>
              </a:path>
              <a:path fill="darkenLess" w="29467" h="21600">
                <a:moveTo>
                  <a:pt x="294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67" y="20200"/>
                </a:lnTo>
                <a:close/>
              </a:path>
              <a:path fill="lighten" w="294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67" h="21600">
                <a:moveTo>
                  <a:pt x="7727" y="3794"/>
                </a:moveTo>
                <a:lnTo>
                  <a:pt x="21740" y="10800"/>
                </a:lnTo>
                <a:lnTo>
                  <a:pt x="7727" y="17806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6191280" y="3290760"/>
            <a:ext cx="2814480" cy="33782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2771640" y="404640"/>
            <a:ext cx="39592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c521"/>
                    </a:gs>
                  </a:gsLst>
                  <a:lin ang="5400000"/>
                </a:gradFill>
                <a:latin typeface="Times New Roman"/>
              </a:rPr>
              <a:t>Oar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c521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8640" y="3017880"/>
            <a:ext cx="2741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f800"/>
                </a:solidFill>
                <a:latin typeface="Arial"/>
              </a:rPr>
              <a:t>Dă clic  şi încearcă din n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77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4" dur="770" fill="hold"/>
                                        <p:tgtEl>
                                          <p:spTgt spid="1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6" dur="77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8" dur="77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6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6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6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6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500"/>
                            </p:stCondLst>
                            <p:childTnLst>
                              <p:par>
                                <p:cTn id="2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46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724360" y="1700280"/>
            <a:ext cx="3419640" cy="49417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609480" y="228600"/>
            <a:ext cx="8242560" cy="1219320"/>
          </a:xfrm>
          <a:prstGeom prst="rect">
            <a:avLst/>
          </a:prstGeom>
          <a:ln w="0">
            <a:noFill/>
          </a:ln>
        </p:spPr>
      </p:pic>
      <p:sp>
        <p:nvSpPr>
          <p:cNvPr id="188" name="">
            <a:hlinkClick r:id="rId4" action="ppaction://hlinksldjump"/>
          </p:cNvPr>
          <p:cNvSpPr/>
          <p:nvPr/>
        </p:nvSpPr>
        <p:spPr>
          <a:xfrm>
            <a:off x="4038480" y="5105520"/>
            <a:ext cx="1081080" cy="792000"/>
          </a:xfrm>
          <a:custGeom>
            <a:avLst/>
            <a:gdLst>
              <a:gd name="textAreaLeft" fmla="*/ 51120 w 1081080"/>
              <a:gd name="textAreaRight" fmla="*/ 1029960 w 1081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9480" h="21600">
                <a:moveTo>
                  <a:pt x="0" y="0"/>
                </a:moveTo>
                <a:lnTo>
                  <a:pt x="29480" y="0"/>
                </a:lnTo>
                <a:lnTo>
                  <a:pt x="29480" y="21600"/>
                </a:lnTo>
                <a:lnTo>
                  <a:pt x="0" y="21600"/>
                </a:lnTo>
                <a:close/>
              </a:path>
              <a:path fill="lightenLess" w="29480" h="21600">
                <a:moveTo>
                  <a:pt x="0" y="0"/>
                </a:moveTo>
                <a:lnTo>
                  <a:pt x="29480" y="0"/>
                </a:lnTo>
                <a:lnTo>
                  <a:pt x="28080" y="1400"/>
                </a:lnTo>
                <a:lnTo>
                  <a:pt x="1400" y="1400"/>
                </a:lnTo>
                <a:close/>
              </a:path>
              <a:path fill="darken" w="29480" h="21600">
                <a:moveTo>
                  <a:pt x="29480" y="0"/>
                </a:moveTo>
                <a:lnTo>
                  <a:pt x="29480" y="21600"/>
                </a:lnTo>
                <a:lnTo>
                  <a:pt x="28080" y="20200"/>
                </a:lnTo>
                <a:lnTo>
                  <a:pt x="28080" y="1400"/>
                </a:lnTo>
                <a:close/>
              </a:path>
              <a:path fill="darkenLess" w="29480" h="21600">
                <a:moveTo>
                  <a:pt x="294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80" y="20200"/>
                </a:lnTo>
                <a:close/>
              </a:path>
              <a:path fill="lighten" w="294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80" h="21600">
                <a:moveTo>
                  <a:pt x="7734" y="3794"/>
                </a:moveTo>
                <a:lnTo>
                  <a:pt x="21747" y="10800"/>
                </a:lnTo>
                <a:lnTo>
                  <a:pt x="7734" y="17806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04920" y="3429000"/>
            <a:ext cx="3274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f800"/>
                </a:solidFill>
                <a:latin typeface="Arial"/>
              </a:rPr>
              <a:t>Dă clic  şi încearcă din n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5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46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Se poate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>
            <a:hlinkClick r:id="rId2" action="ppaction://hlinksldjump"/>
          </p:cNvPr>
          <p:cNvSpPr/>
          <p:nvPr/>
        </p:nvSpPr>
        <p:spPr>
          <a:xfrm>
            <a:off x="3809880" y="4495680"/>
            <a:ext cx="1081080" cy="792360"/>
          </a:xfrm>
          <a:custGeom>
            <a:avLst/>
            <a:gdLst>
              <a:gd name="textAreaLeft" fmla="*/ 51120 w 1081080"/>
              <a:gd name="textAreaRight" fmla="*/ 1029960 w 108108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9467" h="21600">
                <a:moveTo>
                  <a:pt x="0" y="0"/>
                </a:moveTo>
                <a:lnTo>
                  <a:pt x="29467" y="0"/>
                </a:lnTo>
                <a:lnTo>
                  <a:pt x="29467" y="21600"/>
                </a:lnTo>
                <a:lnTo>
                  <a:pt x="0" y="21600"/>
                </a:lnTo>
                <a:close/>
              </a:path>
              <a:path fill="lightenLess" w="29467" h="21600">
                <a:moveTo>
                  <a:pt x="0" y="0"/>
                </a:moveTo>
                <a:lnTo>
                  <a:pt x="29467" y="0"/>
                </a:lnTo>
                <a:lnTo>
                  <a:pt x="28067" y="1400"/>
                </a:lnTo>
                <a:lnTo>
                  <a:pt x="1400" y="1400"/>
                </a:lnTo>
                <a:close/>
              </a:path>
              <a:path fill="darken" w="29467" h="21600">
                <a:moveTo>
                  <a:pt x="29467" y="0"/>
                </a:moveTo>
                <a:lnTo>
                  <a:pt x="29467" y="21600"/>
                </a:lnTo>
                <a:lnTo>
                  <a:pt x="28067" y="20200"/>
                </a:lnTo>
                <a:lnTo>
                  <a:pt x="28067" y="1400"/>
                </a:lnTo>
                <a:close/>
              </a:path>
              <a:path fill="darkenLess" w="29467" h="21600">
                <a:moveTo>
                  <a:pt x="294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67" y="20200"/>
                </a:lnTo>
                <a:close/>
              </a:path>
              <a:path fill="lighten" w="294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67" h="21600">
                <a:moveTo>
                  <a:pt x="7727" y="3794"/>
                </a:moveTo>
                <a:lnTo>
                  <a:pt x="21740" y="10800"/>
                </a:lnTo>
                <a:lnTo>
                  <a:pt x="7727" y="17806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5724360" y="1700280"/>
            <a:ext cx="3419640" cy="49417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52280" y="3124080"/>
            <a:ext cx="3275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f800"/>
                </a:solidFill>
                <a:latin typeface="Arial"/>
              </a:rPr>
              <a:t>Dă clic  şi încearcă din n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350"/>
                            </p:stCondLst>
                            <p:childTnLst>
                              <p:par>
                                <p:cTn id="3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710"/>
                            </p:stCondLst>
                            <p:childTnLst>
                              <p:par>
                                <p:cTn id="3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67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859280" y="4292640"/>
            <a:ext cx="4505400" cy="1801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638600" y="2924280"/>
            <a:ext cx="4505400" cy="15843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4356000" y="1916280"/>
            <a:ext cx="4505400" cy="14414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-324000" y="2708280"/>
            <a:ext cx="4505400" cy="14414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-396720" y="3981600"/>
            <a:ext cx="5256000" cy="16808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-396720" y="1125360"/>
            <a:ext cx="4505040" cy="14418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 flipV="1" rot="30600">
            <a:off x="469800" y="1555920"/>
            <a:ext cx="20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1280" y="5013360"/>
            <a:ext cx="35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1557360"/>
            <a:ext cx="2158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66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58920" y="3284640"/>
            <a:ext cx="21589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ffff66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8920" y="4869000"/>
            <a:ext cx="21589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66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>
            <a:hlinkClick r:id="rId8" action="ppaction://hlinksldjump"/>
          </p:cNvPr>
          <p:cNvSpPr/>
          <p:nvPr/>
        </p:nvSpPr>
        <p:spPr>
          <a:xfrm>
            <a:off x="611280" y="1628640"/>
            <a:ext cx="2016000" cy="1008360"/>
          </a:xfrm>
          <a:custGeom>
            <a:avLst/>
            <a:gdLst>
              <a:gd name="textAreaLeft" fmla="*/ 65160 w 2016000"/>
              <a:gd name="textAreaRight" fmla="*/ 1950840 w 2016000"/>
              <a:gd name="textAreaTop" fmla="*/ 65160 h 1008360"/>
              <a:gd name="textAreaBottom" fmla="*/ 943200 h 1008360"/>
            </a:gdLst>
            <a:ahLst/>
            <a:rect l="textAreaLeft" t="textAreaTop" r="textAreaRight" b="textAreaBottom"/>
            <a:pathLst>
              <a:path w="43177" h="21600">
                <a:moveTo>
                  <a:pt x="0" y="0"/>
                </a:moveTo>
                <a:lnTo>
                  <a:pt x="43177" y="0"/>
                </a:lnTo>
                <a:lnTo>
                  <a:pt x="43177" y="21600"/>
                </a:lnTo>
                <a:lnTo>
                  <a:pt x="0" y="21600"/>
                </a:lnTo>
                <a:close/>
              </a:path>
              <a:path fill="lightenLess" w="43177" h="21600">
                <a:moveTo>
                  <a:pt x="0" y="0"/>
                </a:moveTo>
                <a:lnTo>
                  <a:pt x="43177" y="0"/>
                </a:lnTo>
                <a:lnTo>
                  <a:pt x="41777" y="1400"/>
                </a:lnTo>
                <a:lnTo>
                  <a:pt x="1400" y="1400"/>
                </a:lnTo>
                <a:close/>
              </a:path>
              <a:path fill="darken" w="43177" h="21600">
                <a:moveTo>
                  <a:pt x="43177" y="0"/>
                </a:moveTo>
                <a:lnTo>
                  <a:pt x="43177" y="21600"/>
                </a:lnTo>
                <a:lnTo>
                  <a:pt x="41777" y="20200"/>
                </a:lnTo>
                <a:lnTo>
                  <a:pt x="41777" y="1400"/>
                </a:lnTo>
                <a:close/>
              </a:path>
              <a:path fill="darkenLess" w="43177" h="21600">
                <a:moveTo>
                  <a:pt x="431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7" y="20200"/>
                </a:lnTo>
                <a:close/>
              </a:path>
              <a:path fill="lighten" w="431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7" h="21600">
                <a:moveTo>
                  <a:pt x="14582" y="3794"/>
                </a:moveTo>
                <a:lnTo>
                  <a:pt x="28595" y="10800"/>
                </a:lnTo>
                <a:lnTo>
                  <a:pt x="1458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>
            <a:hlinkClick r:id="rId9" action="ppaction://hlinksldjump"/>
          </p:cNvPr>
          <p:cNvSpPr/>
          <p:nvPr/>
        </p:nvSpPr>
        <p:spPr>
          <a:xfrm>
            <a:off x="539640" y="4869000"/>
            <a:ext cx="1943280" cy="1081080"/>
          </a:xfrm>
          <a:custGeom>
            <a:avLst/>
            <a:gdLst>
              <a:gd name="textAreaLeft" fmla="*/ 69840 w 1943280"/>
              <a:gd name="textAreaRight" fmla="*/ 1873440 w 1943280"/>
              <a:gd name="textAreaTop" fmla="*/ 69840 h 1081080"/>
              <a:gd name="textAreaBottom" fmla="*/ 1011240 h 1081080"/>
            </a:gdLst>
            <a:ahLst/>
            <a:rect l="textAreaLeft" t="textAreaTop" r="textAreaRight" b="textAreaBottom"/>
            <a:pathLst>
              <a:path w="38821" h="21600">
                <a:moveTo>
                  <a:pt x="0" y="0"/>
                </a:moveTo>
                <a:lnTo>
                  <a:pt x="38821" y="0"/>
                </a:lnTo>
                <a:lnTo>
                  <a:pt x="38821" y="21600"/>
                </a:lnTo>
                <a:lnTo>
                  <a:pt x="0" y="21600"/>
                </a:lnTo>
                <a:close/>
              </a:path>
              <a:path fill="lightenLess" w="38821" h="21600">
                <a:moveTo>
                  <a:pt x="0" y="0"/>
                </a:moveTo>
                <a:lnTo>
                  <a:pt x="38821" y="0"/>
                </a:lnTo>
                <a:lnTo>
                  <a:pt x="37421" y="1400"/>
                </a:lnTo>
                <a:lnTo>
                  <a:pt x="1400" y="1400"/>
                </a:lnTo>
                <a:close/>
              </a:path>
              <a:path fill="darken" w="38821" h="21600">
                <a:moveTo>
                  <a:pt x="38821" y="0"/>
                </a:moveTo>
                <a:lnTo>
                  <a:pt x="38821" y="21600"/>
                </a:lnTo>
                <a:lnTo>
                  <a:pt x="37421" y="20200"/>
                </a:lnTo>
                <a:lnTo>
                  <a:pt x="37421" y="1400"/>
                </a:lnTo>
                <a:close/>
              </a:path>
              <a:path fill="darkenLess" w="38821" h="21600">
                <a:moveTo>
                  <a:pt x="388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21" y="20200"/>
                </a:lnTo>
                <a:close/>
              </a:path>
              <a:path fill="lighten" w="388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21" h="21600">
                <a:moveTo>
                  <a:pt x="12404" y="3794"/>
                </a:moveTo>
                <a:lnTo>
                  <a:pt x="26417" y="10800"/>
                </a:lnTo>
                <a:lnTo>
                  <a:pt x="1240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35640" y="2492280"/>
            <a:ext cx="2158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66"/>
                </a:solidFill>
                <a:latin typeface="Comic Sans MS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227640" y="3645000"/>
            <a:ext cx="21592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66"/>
                </a:solidFill>
                <a:latin typeface="Comic Sans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300720" y="5202360"/>
            <a:ext cx="21589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ffff66"/>
                </a:solidFill>
                <a:latin typeface="Comic Sans MS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rId10" action="ppaction://hlinksldjump"/>
          </p:cNvPr>
          <p:cNvSpPr/>
          <p:nvPr/>
        </p:nvSpPr>
        <p:spPr>
          <a:xfrm>
            <a:off x="5651640" y="2276640"/>
            <a:ext cx="2087280" cy="1081080"/>
          </a:xfrm>
          <a:custGeom>
            <a:avLst/>
            <a:gdLst>
              <a:gd name="textAreaLeft" fmla="*/ 69840 w 2087280"/>
              <a:gd name="textAreaRight" fmla="*/ 2017440 w 2087280"/>
              <a:gd name="textAreaTop" fmla="*/ 69840 h 1081080"/>
              <a:gd name="textAreaBottom" fmla="*/ 1011240 h 1081080"/>
            </a:gdLst>
            <a:ahLst/>
            <a:rect l="textAreaLeft" t="textAreaTop" r="textAreaRight" b="textAreaBottom"/>
            <a:pathLst>
              <a:path w="41697" h="21600">
                <a:moveTo>
                  <a:pt x="0" y="0"/>
                </a:moveTo>
                <a:lnTo>
                  <a:pt x="41697" y="0"/>
                </a:lnTo>
                <a:lnTo>
                  <a:pt x="41697" y="21600"/>
                </a:lnTo>
                <a:lnTo>
                  <a:pt x="0" y="21600"/>
                </a:lnTo>
                <a:close/>
              </a:path>
              <a:path fill="lightenLess" w="41697" h="21600">
                <a:moveTo>
                  <a:pt x="0" y="0"/>
                </a:moveTo>
                <a:lnTo>
                  <a:pt x="41697" y="0"/>
                </a:lnTo>
                <a:lnTo>
                  <a:pt x="40297" y="1400"/>
                </a:lnTo>
                <a:lnTo>
                  <a:pt x="1400" y="1400"/>
                </a:lnTo>
                <a:close/>
              </a:path>
              <a:path fill="darken" w="41697" h="21600">
                <a:moveTo>
                  <a:pt x="41697" y="0"/>
                </a:moveTo>
                <a:lnTo>
                  <a:pt x="41697" y="21600"/>
                </a:lnTo>
                <a:lnTo>
                  <a:pt x="40297" y="20200"/>
                </a:lnTo>
                <a:lnTo>
                  <a:pt x="40297" y="1400"/>
                </a:lnTo>
                <a:close/>
              </a:path>
              <a:path fill="darkenLess" w="41697" h="21600">
                <a:moveTo>
                  <a:pt x="41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297" y="20200"/>
                </a:lnTo>
                <a:close/>
              </a:path>
              <a:path fill="lighten" w="41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697" h="21600">
                <a:moveTo>
                  <a:pt x="13842" y="3794"/>
                </a:moveTo>
                <a:lnTo>
                  <a:pt x="27855" y="10800"/>
                </a:lnTo>
                <a:lnTo>
                  <a:pt x="1384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>
            <a:hlinkClick r:id="rId11" action="ppaction://hlinksldjump"/>
          </p:cNvPr>
          <p:cNvSpPr/>
          <p:nvPr/>
        </p:nvSpPr>
        <p:spPr>
          <a:xfrm>
            <a:off x="6443640" y="3645000"/>
            <a:ext cx="2016000" cy="1008000"/>
          </a:xfrm>
          <a:custGeom>
            <a:avLst/>
            <a:gdLst>
              <a:gd name="textAreaLeft" fmla="*/ 65160 w 2016000"/>
              <a:gd name="textAreaRight" fmla="*/ 1950840 w 2016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43192" h="21600">
                <a:moveTo>
                  <a:pt x="0" y="0"/>
                </a:moveTo>
                <a:lnTo>
                  <a:pt x="43192" y="0"/>
                </a:lnTo>
                <a:lnTo>
                  <a:pt x="43192" y="21600"/>
                </a:lnTo>
                <a:lnTo>
                  <a:pt x="0" y="21600"/>
                </a:lnTo>
                <a:close/>
              </a:path>
              <a:path fill="lightenLess" w="43192" h="21600">
                <a:moveTo>
                  <a:pt x="0" y="0"/>
                </a:moveTo>
                <a:lnTo>
                  <a:pt x="43192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2" h="21600">
                <a:moveTo>
                  <a:pt x="43192" y="0"/>
                </a:moveTo>
                <a:lnTo>
                  <a:pt x="43192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2" h="21600">
                <a:moveTo>
                  <a:pt x="431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92" h="21600">
                <a:moveTo>
                  <a:pt x="14590" y="3794"/>
                </a:moveTo>
                <a:lnTo>
                  <a:pt x="28603" y="10800"/>
                </a:lnTo>
                <a:lnTo>
                  <a:pt x="1459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>
            <a:hlinkClick r:id="rId12" action="ppaction://hlinksldjump"/>
          </p:cNvPr>
          <p:cNvSpPr/>
          <p:nvPr/>
        </p:nvSpPr>
        <p:spPr>
          <a:xfrm>
            <a:off x="611280" y="3284640"/>
            <a:ext cx="2085840" cy="1008000"/>
          </a:xfrm>
          <a:custGeom>
            <a:avLst/>
            <a:gdLst>
              <a:gd name="textAreaLeft" fmla="*/ 65160 w 2085840"/>
              <a:gd name="textAreaRight" fmla="*/ 2020680 w 208584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44688" h="21600">
                <a:moveTo>
                  <a:pt x="0" y="0"/>
                </a:moveTo>
                <a:lnTo>
                  <a:pt x="44688" y="0"/>
                </a:lnTo>
                <a:lnTo>
                  <a:pt x="44688" y="21600"/>
                </a:lnTo>
                <a:lnTo>
                  <a:pt x="0" y="21600"/>
                </a:lnTo>
                <a:close/>
              </a:path>
              <a:path fill="lightenLess" w="44688" h="21600">
                <a:moveTo>
                  <a:pt x="0" y="0"/>
                </a:moveTo>
                <a:lnTo>
                  <a:pt x="44688" y="0"/>
                </a:lnTo>
                <a:lnTo>
                  <a:pt x="43288" y="1400"/>
                </a:lnTo>
                <a:lnTo>
                  <a:pt x="1400" y="1400"/>
                </a:lnTo>
                <a:close/>
              </a:path>
              <a:path fill="darken" w="44688" h="21600">
                <a:moveTo>
                  <a:pt x="44688" y="0"/>
                </a:moveTo>
                <a:lnTo>
                  <a:pt x="44688" y="21600"/>
                </a:lnTo>
                <a:lnTo>
                  <a:pt x="43288" y="20200"/>
                </a:lnTo>
                <a:lnTo>
                  <a:pt x="43288" y="1400"/>
                </a:lnTo>
                <a:close/>
              </a:path>
              <a:path fill="darkenLess" w="44688" h="21600">
                <a:moveTo>
                  <a:pt x="4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288" y="20200"/>
                </a:lnTo>
                <a:close/>
              </a:path>
              <a:path fill="lighten" w="4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688" h="21600">
                <a:moveTo>
                  <a:pt x="15338" y="3794"/>
                </a:moveTo>
                <a:lnTo>
                  <a:pt x="29351" y="10800"/>
                </a:lnTo>
                <a:lnTo>
                  <a:pt x="15338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3"/>
          <a:stretch/>
        </p:blipFill>
        <p:spPr>
          <a:xfrm>
            <a:off x="3276720" y="3789360"/>
            <a:ext cx="2462040" cy="30686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14"/>
          <a:stretch/>
        </p:blipFill>
        <p:spPr>
          <a:xfrm>
            <a:off x="324000" y="260280"/>
            <a:ext cx="8242200" cy="14623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15"/>
          <a:stretch/>
        </p:blipFill>
        <p:spPr>
          <a:xfrm>
            <a:off x="3595680" y="2181240"/>
            <a:ext cx="1954080" cy="2496960"/>
          </a:xfrm>
          <a:prstGeom prst="rect">
            <a:avLst/>
          </a:prstGeom>
          <a:ln w="0">
            <a:noFill/>
          </a:ln>
        </p:spPr>
      </p:pic>
      <p:sp>
        <p:nvSpPr>
          <p:cNvPr id="216" name="">
            <a:hlinkClick r:id="rId16" action="ppaction://hlinksldjump"/>
          </p:cNvPr>
          <p:cNvSpPr/>
          <p:nvPr/>
        </p:nvSpPr>
        <p:spPr>
          <a:xfrm>
            <a:off x="6372360" y="5084640"/>
            <a:ext cx="2016000" cy="1081080"/>
          </a:xfrm>
          <a:custGeom>
            <a:avLst/>
            <a:gdLst>
              <a:gd name="textAreaLeft" fmla="*/ 69840 w 2016000"/>
              <a:gd name="textAreaRight" fmla="*/ 1946160 w 2016000"/>
              <a:gd name="textAreaTop" fmla="*/ 69840 h 1081080"/>
              <a:gd name="textAreaBottom" fmla="*/ 1011240 h 1081080"/>
            </a:gdLst>
            <a:ahLst/>
            <a:rect l="textAreaLeft" t="textAreaTop" r="textAreaRight" b="textAreaBottom"/>
            <a:pathLst>
              <a:path w="40274" h="21600">
                <a:moveTo>
                  <a:pt x="0" y="0"/>
                </a:moveTo>
                <a:lnTo>
                  <a:pt x="40274" y="0"/>
                </a:lnTo>
                <a:lnTo>
                  <a:pt x="40274" y="21600"/>
                </a:lnTo>
                <a:lnTo>
                  <a:pt x="0" y="21600"/>
                </a:lnTo>
                <a:close/>
              </a:path>
              <a:path fill="lightenLess" w="40274" h="21600">
                <a:moveTo>
                  <a:pt x="0" y="0"/>
                </a:moveTo>
                <a:lnTo>
                  <a:pt x="40274" y="0"/>
                </a:lnTo>
                <a:lnTo>
                  <a:pt x="38874" y="1400"/>
                </a:lnTo>
                <a:lnTo>
                  <a:pt x="1400" y="1400"/>
                </a:lnTo>
                <a:close/>
              </a:path>
              <a:path fill="darken" w="40274" h="21600">
                <a:moveTo>
                  <a:pt x="40274" y="0"/>
                </a:moveTo>
                <a:lnTo>
                  <a:pt x="40274" y="21600"/>
                </a:lnTo>
                <a:lnTo>
                  <a:pt x="38874" y="20200"/>
                </a:lnTo>
                <a:lnTo>
                  <a:pt x="38874" y="1400"/>
                </a:lnTo>
                <a:close/>
              </a:path>
              <a:path fill="darkenLess" w="40274" h="21600">
                <a:moveTo>
                  <a:pt x="402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874" y="20200"/>
                </a:lnTo>
                <a:close/>
              </a:path>
              <a:path fill="lighten" w="402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274" h="21600">
                <a:moveTo>
                  <a:pt x="13130" y="3794"/>
                </a:moveTo>
                <a:lnTo>
                  <a:pt x="27143" y="10800"/>
                </a:lnTo>
                <a:lnTo>
                  <a:pt x="1313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9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7200" spc="-1" strike="noStrike">
                <a:solidFill>
                  <a:srgbClr val="ffff00"/>
                </a:solidFill>
                <a:latin typeface="Comic Sans MS"/>
              </a:rPr>
              <a:t>Bravo</a:t>
            </a:r>
            <a:r>
              <a:rPr b="1" lang="en-GB" sz="7200" spc="-1" strike="noStrike">
                <a:solidFill>
                  <a:srgbClr val="ffff00"/>
                </a:solidFill>
                <a:latin typeface="Comic Sans MS"/>
              </a:rPr>
              <a:t>!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80880" y="1981080"/>
            <a:ext cx="4691160" cy="37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00"/>
                </a:solidFill>
                <a:latin typeface="Comic Sans MS"/>
              </a:rPr>
              <a:t>A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o-RO" sz="4400" spc="-1" strike="noStrike">
                <a:solidFill>
                  <a:srgbClr val="ffff00"/>
                </a:solidFill>
                <a:latin typeface="Comic Sans MS"/>
              </a:rPr>
              <a:t>exerciţiu </a:t>
            </a:r>
            <a:r>
              <a:rPr b="1" lang="en-GB" sz="5400" spc="-1" strike="noStrike">
                <a:solidFill>
                  <a:srgbClr val="ffff00"/>
                </a:solidFill>
                <a:latin typeface="Comic Sans MS"/>
              </a:rPr>
              <a:t>.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>
            <a:hlinkClick r:id="rId2" action="ppaction://hlinksldjump"/>
          </p:cNvPr>
          <p:cNvSpPr/>
          <p:nvPr/>
        </p:nvSpPr>
        <p:spPr>
          <a:xfrm>
            <a:off x="5364000" y="2565360"/>
            <a:ext cx="863640" cy="1008000"/>
          </a:xfrm>
          <a:custGeom>
            <a:avLst/>
            <a:gdLst>
              <a:gd name="textAreaLeft" fmla="*/ 55800 w 863640"/>
              <a:gd name="textAreaRight" fmla="*/ 807840 w 863640"/>
              <a:gd name="textAreaTop" fmla="*/ 55800 h 1008000"/>
              <a:gd name="textAreaBottom" fmla="*/ 952200 h 1008000"/>
            </a:gdLst>
            <a:ahLst/>
            <a:rect l="textAreaLeft" t="textAreaTop" r="textAreaRight" b="textAreaBottom"/>
            <a:pathLst>
              <a:path w="21600" h="25209">
                <a:moveTo>
                  <a:pt x="0" y="0"/>
                </a:moveTo>
                <a:lnTo>
                  <a:pt x="21600" y="0"/>
                </a:lnTo>
                <a:lnTo>
                  <a:pt x="21600" y="25209"/>
                </a:lnTo>
                <a:lnTo>
                  <a:pt x="0" y="25209"/>
                </a:lnTo>
                <a:close/>
              </a:path>
              <a:path fill="lightenLess" w="21600" h="25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9">
                <a:moveTo>
                  <a:pt x="21600" y="0"/>
                </a:moveTo>
                <a:lnTo>
                  <a:pt x="21600" y="25209"/>
                </a:lnTo>
                <a:lnTo>
                  <a:pt x="20200" y="23809"/>
                </a:lnTo>
                <a:lnTo>
                  <a:pt x="20200" y="1400"/>
                </a:lnTo>
                <a:close/>
              </a:path>
              <a:path fill="darkenLess" w="21600" h="25209">
                <a:moveTo>
                  <a:pt x="21600" y="25209"/>
                </a:moveTo>
                <a:lnTo>
                  <a:pt x="0" y="25209"/>
                </a:lnTo>
                <a:lnTo>
                  <a:pt x="1400" y="23809"/>
                </a:lnTo>
                <a:lnTo>
                  <a:pt x="20200" y="23809"/>
                </a:lnTo>
                <a:close/>
              </a:path>
              <a:path fill="lighten" w="21600" h="25209">
                <a:moveTo>
                  <a:pt x="0" y="25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9"/>
                </a:lnTo>
                <a:close/>
              </a:path>
              <a:path fill="darken" w="21600" h="25209">
                <a:moveTo>
                  <a:pt x="3794" y="5598"/>
                </a:moveTo>
                <a:lnTo>
                  <a:pt x="17806" y="12605"/>
                </a:lnTo>
                <a:lnTo>
                  <a:pt x="3794" y="19611"/>
                </a:lnTo>
                <a:close/>
              </a:path>
            </a:pathLst>
          </a:custGeom>
          <a:solidFill>
            <a:srgbClr val="ffff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2700360" y="3429000"/>
            <a:ext cx="2808360" cy="299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8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280"/>
                            </p:stCondLst>
                            <p:childTnLst>
                              <p:par>
                                <p:cTn id="3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920"/>
                            </p:stCondLst>
                            <p:childTnLst>
                              <p:par>
                                <p:cTn id="360" nodeType="after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6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6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6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6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6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3120"/>
                            </p:stCondLst>
                            <p:childTnLst>
                              <p:par>
                                <p:cTn id="3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>
            <a:hlinkClick r:id="rId2" action="ppaction://hlinksldjump"/>
          </p:cNvPr>
          <p:cNvSpPr/>
          <p:nvPr/>
        </p:nvSpPr>
        <p:spPr>
          <a:xfrm>
            <a:off x="3505320" y="3809880"/>
            <a:ext cx="1081080" cy="792360"/>
          </a:xfrm>
          <a:custGeom>
            <a:avLst/>
            <a:gdLst>
              <a:gd name="textAreaLeft" fmla="*/ 51120 w 1081080"/>
              <a:gd name="textAreaRight" fmla="*/ 1029960 w 108108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9467" h="21600">
                <a:moveTo>
                  <a:pt x="0" y="0"/>
                </a:moveTo>
                <a:lnTo>
                  <a:pt x="29467" y="0"/>
                </a:lnTo>
                <a:lnTo>
                  <a:pt x="29467" y="21600"/>
                </a:lnTo>
                <a:lnTo>
                  <a:pt x="0" y="21600"/>
                </a:lnTo>
                <a:close/>
              </a:path>
              <a:path fill="lightenLess" w="29467" h="21600">
                <a:moveTo>
                  <a:pt x="0" y="0"/>
                </a:moveTo>
                <a:lnTo>
                  <a:pt x="29467" y="0"/>
                </a:lnTo>
                <a:lnTo>
                  <a:pt x="28067" y="1400"/>
                </a:lnTo>
                <a:lnTo>
                  <a:pt x="1400" y="1400"/>
                </a:lnTo>
                <a:close/>
              </a:path>
              <a:path fill="darken" w="29467" h="21600">
                <a:moveTo>
                  <a:pt x="29467" y="0"/>
                </a:moveTo>
                <a:lnTo>
                  <a:pt x="29467" y="21600"/>
                </a:lnTo>
                <a:lnTo>
                  <a:pt x="28067" y="20200"/>
                </a:lnTo>
                <a:lnTo>
                  <a:pt x="28067" y="1400"/>
                </a:lnTo>
                <a:close/>
              </a:path>
              <a:path fill="darkenLess" w="29467" h="21600">
                <a:moveTo>
                  <a:pt x="294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67" y="20200"/>
                </a:lnTo>
                <a:close/>
              </a:path>
              <a:path fill="lighten" w="294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67" h="21600">
                <a:moveTo>
                  <a:pt x="7727" y="3794"/>
                </a:moveTo>
                <a:lnTo>
                  <a:pt x="21740" y="10800"/>
                </a:lnTo>
                <a:lnTo>
                  <a:pt x="7727" y="17806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5078520" y="3068640"/>
            <a:ext cx="4065480" cy="34560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0" y="2895480"/>
            <a:ext cx="3274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f800"/>
                </a:solidFill>
                <a:latin typeface="Arial"/>
              </a:rPr>
              <a:t>Dă clic  şi încearcă din n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914400" y="380880"/>
            <a:ext cx="7655040" cy="11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8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460"/>
                            </p:stCondLst>
                            <p:childTnLst>
                              <p:par>
                                <p:cTn id="3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Se poate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rId2" action="ppaction://hlinksldjump"/>
          </p:cNvPr>
          <p:cNvSpPr/>
          <p:nvPr/>
        </p:nvSpPr>
        <p:spPr>
          <a:xfrm>
            <a:off x="4356000" y="3429000"/>
            <a:ext cx="1081080" cy="792000"/>
          </a:xfrm>
          <a:custGeom>
            <a:avLst/>
            <a:gdLst>
              <a:gd name="textAreaLeft" fmla="*/ 51120 w 1081080"/>
              <a:gd name="textAreaRight" fmla="*/ 1029960 w 1081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9480" h="21600">
                <a:moveTo>
                  <a:pt x="0" y="0"/>
                </a:moveTo>
                <a:lnTo>
                  <a:pt x="29480" y="0"/>
                </a:lnTo>
                <a:lnTo>
                  <a:pt x="29480" y="21600"/>
                </a:lnTo>
                <a:lnTo>
                  <a:pt x="0" y="21600"/>
                </a:lnTo>
                <a:close/>
              </a:path>
              <a:path fill="lightenLess" w="29480" h="21600">
                <a:moveTo>
                  <a:pt x="0" y="0"/>
                </a:moveTo>
                <a:lnTo>
                  <a:pt x="29480" y="0"/>
                </a:lnTo>
                <a:lnTo>
                  <a:pt x="28080" y="1400"/>
                </a:lnTo>
                <a:lnTo>
                  <a:pt x="1400" y="1400"/>
                </a:lnTo>
                <a:close/>
              </a:path>
              <a:path fill="darken" w="29480" h="21600">
                <a:moveTo>
                  <a:pt x="29480" y="0"/>
                </a:moveTo>
                <a:lnTo>
                  <a:pt x="29480" y="21600"/>
                </a:lnTo>
                <a:lnTo>
                  <a:pt x="28080" y="20200"/>
                </a:lnTo>
                <a:lnTo>
                  <a:pt x="28080" y="1400"/>
                </a:lnTo>
                <a:close/>
              </a:path>
              <a:path fill="darkenLess" w="29480" h="21600">
                <a:moveTo>
                  <a:pt x="294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80" y="20200"/>
                </a:lnTo>
                <a:close/>
              </a:path>
              <a:path fill="lighten" w="294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80" h="21600">
                <a:moveTo>
                  <a:pt x="7734" y="3794"/>
                </a:moveTo>
                <a:lnTo>
                  <a:pt x="21747" y="10800"/>
                </a:lnTo>
                <a:lnTo>
                  <a:pt x="7734" y="17806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5724360" y="1700280"/>
            <a:ext cx="3419640" cy="49417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533520" y="2743200"/>
            <a:ext cx="3274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f800"/>
                </a:solidFill>
                <a:latin typeface="Arial"/>
              </a:rPr>
              <a:t>Dă clic  şi încearcă din n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360"/>
                            </p:stCondLst>
                            <p:childTnLst>
                              <p:par>
                                <p:cTn id="3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1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32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5292720" y="2708280"/>
            <a:ext cx="3238560" cy="38876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539640" y="333360"/>
            <a:ext cx="8242560" cy="1157400"/>
          </a:xfrm>
          <a:prstGeom prst="rect">
            <a:avLst/>
          </a:prstGeom>
          <a:ln w="0">
            <a:noFill/>
          </a:ln>
        </p:spPr>
      </p:pic>
      <p:sp>
        <p:nvSpPr>
          <p:cNvPr id="234" name="">
            <a:hlinkClick r:id="rId4" action="ppaction://hlinksldjump"/>
          </p:cNvPr>
          <p:cNvSpPr/>
          <p:nvPr/>
        </p:nvSpPr>
        <p:spPr>
          <a:xfrm>
            <a:off x="4038480" y="3886200"/>
            <a:ext cx="936720" cy="792000"/>
          </a:xfrm>
          <a:custGeom>
            <a:avLst/>
            <a:gdLst>
              <a:gd name="textAreaLeft" fmla="*/ 51120 w 936720"/>
              <a:gd name="textAreaRight" fmla="*/ 885600 w 9367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5545" h="21600">
                <a:moveTo>
                  <a:pt x="0" y="0"/>
                </a:moveTo>
                <a:lnTo>
                  <a:pt x="25545" y="0"/>
                </a:lnTo>
                <a:lnTo>
                  <a:pt x="25545" y="21600"/>
                </a:lnTo>
                <a:lnTo>
                  <a:pt x="0" y="21600"/>
                </a:lnTo>
                <a:close/>
              </a:path>
              <a:path fill="lightenLess" w="25545" h="21600">
                <a:moveTo>
                  <a:pt x="0" y="0"/>
                </a:moveTo>
                <a:lnTo>
                  <a:pt x="25545" y="0"/>
                </a:lnTo>
                <a:lnTo>
                  <a:pt x="24145" y="1400"/>
                </a:lnTo>
                <a:lnTo>
                  <a:pt x="1400" y="1400"/>
                </a:lnTo>
                <a:close/>
              </a:path>
              <a:path fill="darken" w="25545" h="21600">
                <a:moveTo>
                  <a:pt x="25545" y="0"/>
                </a:moveTo>
                <a:lnTo>
                  <a:pt x="25545" y="21600"/>
                </a:lnTo>
                <a:lnTo>
                  <a:pt x="24145" y="20200"/>
                </a:lnTo>
                <a:lnTo>
                  <a:pt x="24145" y="1400"/>
                </a:lnTo>
                <a:close/>
              </a:path>
              <a:path fill="darkenLess" w="25545" h="21600">
                <a:moveTo>
                  <a:pt x="255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45" y="20200"/>
                </a:lnTo>
                <a:close/>
              </a:path>
              <a:path fill="lighten" w="255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45" h="21600">
                <a:moveTo>
                  <a:pt x="5766" y="3794"/>
                </a:moveTo>
                <a:lnTo>
                  <a:pt x="19779" y="10800"/>
                </a:lnTo>
                <a:lnTo>
                  <a:pt x="5766" y="17806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28600" y="2666880"/>
            <a:ext cx="3274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f800"/>
                </a:solidFill>
                <a:latin typeface="Arial"/>
              </a:rPr>
              <a:t>Dă clic  şi încearcă din n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8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960"/>
                            </p:stCondLst>
                            <p:childTnLst>
                              <p:par>
                                <p:cTn id="4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516720" y="1052640"/>
            <a:ext cx="1798560" cy="2158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300720" y="2637000"/>
            <a:ext cx="2376720" cy="2592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6346800" y="3500280"/>
            <a:ext cx="2797200" cy="3357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179280" y="4076640"/>
            <a:ext cx="3311640" cy="2590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6"/>
          <a:stretch/>
        </p:blipFill>
        <p:spPr>
          <a:xfrm>
            <a:off x="127080" y="2205000"/>
            <a:ext cx="2644560" cy="2735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7"/>
          <a:stretch/>
        </p:blipFill>
        <p:spPr>
          <a:xfrm>
            <a:off x="533520" y="1066680"/>
            <a:ext cx="2019240" cy="2160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39640" y="119700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 rot="30600">
            <a:off x="395280" y="1916280"/>
            <a:ext cx="20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5013360"/>
            <a:ext cx="35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8920" y="1700280"/>
            <a:ext cx="21589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0000"/>
                </a:solidFill>
                <a:latin typeface="Arial"/>
              </a:rPr>
              <a:t>de</a:t>
            </a:r>
            <a:r>
              <a:rPr b="1" lang="ro-RO" sz="4800" spc="-1" strike="noStrike">
                <a:solidFill>
                  <a:srgbClr val="3333cc"/>
                </a:solidFill>
                <a:latin typeface="Arial"/>
              </a:rPr>
              <a:t>4</a:t>
            </a:r>
            <a:r>
              <a:rPr b="1" lang="ro-RO" sz="1800" spc="-1" strike="noStrike">
                <a:solidFill>
                  <a:srgbClr val="ff0000"/>
                </a:solidFill>
                <a:latin typeface="Arial"/>
              </a:rPr>
              <a:t>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3284640"/>
            <a:ext cx="21589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0000"/>
                </a:solidFill>
                <a:latin typeface="Arial"/>
              </a:rPr>
              <a:t>de</a:t>
            </a:r>
            <a:r>
              <a:rPr b="1" lang="ro-RO" sz="4800" spc="-1" strike="noStrike">
                <a:solidFill>
                  <a:srgbClr val="3333cc"/>
                </a:solidFill>
                <a:latin typeface="Arial"/>
              </a:rPr>
              <a:t>7</a:t>
            </a:r>
            <a:r>
              <a:rPr b="1" lang="ro-RO" sz="1800" spc="-1" strike="noStrike">
                <a:solidFill>
                  <a:srgbClr val="ff0000"/>
                </a:solidFill>
                <a:latin typeface="Arial"/>
              </a:rPr>
              <a:t>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8920" y="4869000"/>
            <a:ext cx="21589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0000"/>
                </a:solidFill>
                <a:latin typeface="Arial"/>
              </a:rPr>
              <a:t>de</a:t>
            </a:r>
            <a:r>
              <a:rPr b="1" lang="en-GB" sz="4800" spc="-1" strike="noStrike">
                <a:solidFill>
                  <a:srgbClr val="3333cc"/>
                </a:solidFill>
                <a:latin typeface="Arial"/>
              </a:rPr>
              <a:t>5</a:t>
            </a:r>
            <a:r>
              <a:rPr b="1" lang="ro-RO" sz="1800" spc="-1" strike="noStrike">
                <a:solidFill>
                  <a:srgbClr val="ff0000"/>
                </a:solidFill>
                <a:latin typeface="Arial"/>
              </a:rPr>
              <a:t>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19640" y="1197000"/>
            <a:ext cx="2592360" cy="2303280"/>
          </a:xfrm>
          <a:prstGeom prst="wedgeRoundRectCallout">
            <a:avLst>
              <a:gd name="adj1" fmla="val -17055"/>
              <a:gd name="adj2" fmla="val 92796"/>
              <a:gd name="adj3" fmla="val 16667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8"/>
          <a:stretch/>
        </p:blipFill>
        <p:spPr>
          <a:xfrm>
            <a:off x="3203640" y="4221000"/>
            <a:ext cx="2628720" cy="263700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9" action="ppaction://hlinksldjump"/>
          </p:cNvPr>
          <p:cNvSpPr/>
          <p:nvPr/>
        </p:nvSpPr>
        <p:spPr>
          <a:xfrm>
            <a:off x="539640" y="1628640"/>
            <a:ext cx="2087640" cy="865440"/>
          </a:xfrm>
          <a:custGeom>
            <a:avLst/>
            <a:gdLst>
              <a:gd name="textAreaLeft" fmla="*/ 55800 w 2087640"/>
              <a:gd name="textAreaRight" fmla="*/ 2031840 w 2087640"/>
              <a:gd name="textAreaTop" fmla="*/ 55800 h 865440"/>
              <a:gd name="textAreaBottom" fmla="*/ 809640 h 865440"/>
            </a:gdLst>
            <a:ahLst/>
            <a:rect l="textAreaLeft" t="textAreaTop" r="textAreaRight" b="textAreaBottom"/>
            <a:pathLst>
              <a:path w="52091" h="21600">
                <a:moveTo>
                  <a:pt x="0" y="0"/>
                </a:moveTo>
                <a:lnTo>
                  <a:pt x="52091" y="0"/>
                </a:lnTo>
                <a:lnTo>
                  <a:pt x="52091" y="21600"/>
                </a:lnTo>
                <a:lnTo>
                  <a:pt x="0" y="21600"/>
                </a:lnTo>
                <a:close/>
              </a:path>
              <a:path fill="lightenLess" w="52091" h="21600">
                <a:moveTo>
                  <a:pt x="0" y="0"/>
                </a:moveTo>
                <a:lnTo>
                  <a:pt x="52091" y="0"/>
                </a:lnTo>
                <a:lnTo>
                  <a:pt x="50691" y="1400"/>
                </a:lnTo>
                <a:lnTo>
                  <a:pt x="1400" y="1400"/>
                </a:lnTo>
                <a:close/>
              </a:path>
              <a:path fill="darken" w="52091" h="21600">
                <a:moveTo>
                  <a:pt x="52091" y="0"/>
                </a:moveTo>
                <a:lnTo>
                  <a:pt x="52091" y="21600"/>
                </a:lnTo>
                <a:lnTo>
                  <a:pt x="50691" y="20200"/>
                </a:lnTo>
                <a:lnTo>
                  <a:pt x="50691" y="1400"/>
                </a:lnTo>
                <a:close/>
              </a:path>
              <a:path fill="darkenLess" w="52091" h="21600">
                <a:moveTo>
                  <a:pt x="520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691" y="20200"/>
                </a:lnTo>
                <a:close/>
              </a:path>
              <a:path fill="lighten" w="520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091" h="21600">
                <a:moveTo>
                  <a:pt x="19039" y="3794"/>
                </a:moveTo>
                <a:lnTo>
                  <a:pt x="33052" y="10800"/>
                </a:lnTo>
                <a:lnTo>
                  <a:pt x="19039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10" action="ppaction://hlinksldjump"/>
          </p:cNvPr>
          <p:cNvSpPr/>
          <p:nvPr/>
        </p:nvSpPr>
        <p:spPr>
          <a:xfrm>
            <a:off x="468360" y="3213000"/>
            <a:ext cx="2016000" cy="1081080"/>
          </a:xfrm>
          <a:custGeom>
            <a:avLst/>
            <a:gdLst>
              <a:gd name="textAreaLeft" fmla="*/ 69840 w 2016000"/>
              <a:gd name="textAreaRight" fmla="*/ 1946160 w 2016000"/>
              <a:gd name="textAreaTop" fmla="*/ 69840 h 1081080"/>
              <a:gd name="textAreaBottom" fmla="*/ 1011240 h 1081080"/>
            </a:gdLst>
            <a:ahLst/>
            <a:rect l="textAreaLeft" t="textAreaTop" r="textAreaRight" b="textAreaBottom"/>
            <a:pathLst>
              <a:path w="40274" h="21600">
                <a:moveTo>
                  <a:pt x="0" y="0"/>
                </a:moveTo>
                <a:lnTo>
                  <a:pt x="40274" y="0"/>
                </a:lnTo>
                <a:lnTo>
                  <a:pt x="40274" y="21600"/>
                </a:lnTo>
                <a:lnTo>
                  <a:pt x="0" y="21600"/>
                </a:lnTo>
                <a:close/>
              </a:path>
              <a:path fill="lightenLess" w="40274" h="21600">
                <a:moveTo>
                  <a:pt x="0" y="0"/>
                </a:moveTo>
                <a:lnTo>
                  <a:pt x="40274" y="0"/>
                </a:lnTo>
                <a:lnTo>
                  <a:pt x="38874" y="1400"/>
                </a:lnTo>
                <a:lnTo>
                  <a:pt x="1400" y="1400"/>
                </a:lnTo>
                <a:close/>
              </a:path>
              <a:path fill="darken" w="40274" h="21600">
                <a:moveTo>
                  <a:pt x="40274" y="0"/>
                </a:moveTo>
                <a:lnTo>
                  <a:pt x="40274" y="21600"/>
                </a:lnTo>
                <a:lnTo>
                  <a:pt x="38874" y="20200"/>
                </a:lnTo>
                <a:lnTo>
                  <a:pt x="38874" y="1400"/>
                </a:lnTo>
                <a:close/>
              </a:path>
              <a:path fill="darkenLess" w="40274" h="21600">
                <a:moveTo>
                  <a:pt x="402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874" y="20200"/>
                </a:lnTo>
                <a:close/>
              </a:path>
              <a:path fill="lighten" w="402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274" h="21600">
                <a:moveTo>
                  <a:pt x="13130" y="3794"/>
                </a:moveTo>
                <a:lnTo>
                  <a:pt x="27143" y="10800"/>
                </a:lnTo>
                <a:lnTo>
                  <a:pt x="1313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rId11" action="ppaction://hlinksldjump"/>
          </p:cNvPr>
          <p:cNvSpPr/>
          <p:nvPr/>
        </p:nvSpPr>
        <p:spPr>
          <a:xfrm>
            <a:off x="533520" y="4876920"/>
            <a:ext cx="2016000" cy="934920"/>
          </a:xfrm>
          <a:custGeom>
            <a:avLst/>
            <a:gdLst>
              <a:gd name="textAreaLeft" fmla="*/ 60480 w 2016000"/>
              <a:gd name="textAreaRight" fmla="*/ 1955520 w 201600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46567" h="21600">
                <a:moveTo>
                  <a:pt x="0" y="0"/>
                </a:moveTo>
                <a:lnTo>
                  <a:pt x="46567" y="0"/>
                </a:lnTo>
                <a:lnTo>
                  <a:pt x="46567" y="21600"/>
                </a:lnTo>
                <a:lnTo>
                  <a:pt x="0" y="21600"/>
                </a:lnTo>
                <a:close/>
              </a:path>
              <a:path fill="lightenLess" w="46567" h="21600">
                <a:moveTo>
                  <a:pt x="0" y="0"/>
                </a:moveTo>
                <a:lnTo>
                  <a:pt x="46567" y="0"/>
                </a:lnTo>
                <a:lnTo>
                  <a:pt x="45167" y="1400"/>
                </a:lnTo>
                <a:lnTo>
                  <a:pt x="1400" y="1400"/>
                </a:lnTo>
                <a:close/>
              </a:path>
              <a:path fill="darken" w="46567" h="21600">
                <a:moveTo>
                  <a:pt x="46567" y="0"/>
                </a:moveTo>
                <a:lnTo>
                  <a:pt x="46567" y="21600"/>
                </a:lnTo>
                <a:lnTo>
                  <a:pt x="45167" y="20200"/>
                </a:lnTo>
                <a:lnTo>
                  <a:pt x="45167" y="1400"/>
                </a:lnTo>
                <a:close/>
              </a:path>
              <a:path fill="darkenLess" w="46567" h="21600">
                <a:moveTo>
                  <a:pt x="465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167" y="20200"/>
                </a:lnTo>
                <a:close/>
              </a:path>
              <a:path fill="lighten" w="465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567" h="21600">
                <a:moveTo>
                  <a:pt x="16277" y="3794"/>
                </a:moveTo>
                <a:lnTo>
                  <a:pt x="30290" y="10800"/>
                </a:lnTo>
                <a:lnTo>
                  <a:pt x="16277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227640" y="1700280"/>
            <a:ext cx="21592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0000"/>
                </a:solidFill>
                <a:latin typeface="Arial"/>
              </a:rPr>
              <a:t>de</a:t>
            </a:r>
            <a:r>
              <a:rPr b="1" lang="ro-RO" sz="4800" spc="-1" strike="noStrike">
                <a:solidFill>
                  <a:srgbClr val="3333cc"/>
                </a:solidFill>
                <a:latin typeface="Comic Sans MS"/>
              </a:rPr>
              <a:t>9</a:t>
            </a:r>
            <a:r>
              <a:rPr b="1" lang="ro-RO" sz="1800" spc="-1" strike="noStrike">
                <a:solidFill>
                  <a:srgbClr val="ff0000"/>
                </a:solidFill>
                <a:latin typeface="Arial"/>
              </a:rPr>
              <a:t>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227640" y="3429000"/>
            <a:ext cx="2159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0000"/>
                </a:solidFill>
                <a:latin typeface="Arial"/>
              </a:rPr>
              <a:t>de</a:t>
            </a:r>
            <a:r>
              <a:rPr b="1" lang="ro-RO" sz="4800" spc="-1" strike="noStrike">
                <a:solidFill>
                  <a:srgbClr val="3333cc"/>
                </a:solidFill>
                <a:latin typeface="Comic Sans MS"/>
              </a:rPr>
              <a:t>6</a:t>
            </a:r>
            <a:r>
              <a:rPr b="1" lang="ro-RO" sz="1800" spc="-1" strike="noStrike">
                <a:solidFill>
                  <a:srgbClr val="ff0000"/>
                </a:solidFill>
                <a:latin typeface="Arial"/>
              </a:rPr>
              <a:t>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516720" y="4653000"/>
            <a:ext cx="2158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0000"/>
                </a:solidFill>
                <a:latin typeface="Arial"/>
              </a:rPr>
              <a:t>de</a:t>
            </a:r>
            <a:r>
              <a:rPr b="1" lang="ro-RO" sz="4800" spc="-1" strike="noStrike">
                <a:solidFill>
                  <a:srgbClr val="3333cc"/>
                </a:solidFill>
                <a:latin typeface="Comic Sans MS"/>
              </a:rPr>
              <a:t>8</a:t>
            </a:r>
            <a:r>
              <a:rPr b="1" lang="ro-RO" sz="1800" spc="-1" strike="noStrike">
                <a:solidFill>
                  <a:srgbClr val="ff0000"/>
                </a:solidFill>
                <a:latin typeface="Arial"/>
              </a:rPr>
              <a:t>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>
            <a:hlinkClick r:id="rId12" action="ppaction://hlinksldjump"/>
          </p:cNvPr>
          <p:cNvSpPr/>
          <p:nvPr/>
        </p:nvSpPr>
        <p:spPr>
          <a:xfrm>
            <a:off x="6372360" y="1628640"/>
            <a:ext cx="2087280" cy="935280"/>
          </a:xfrm>
          <a:custGeom>
            <a:avLst/>
            <a:gdLst>
              <a:gd name="textAreaLeft" fmla="*/ 60480 w 2087280"/>
              <a:gd name="textAreaRight" fmla="*/ 2026800 w 2087280"/>
              <a:gd name="textAreaTop" fmla="*/ 60480 h 935280"/>
              <a:gd name="textAreaBottom" fmla="*/ 874800 h 935280"/>
            </a:gdLst>
            <a:ahLst/>
            <a:rect l="textAreaLeft" t="textAreaTop" r="textAreaRight" b="textAreaBottom"/>
            <a:pathLst>
              <a:path w="48195" h="21600">
                <a:moveTo>
                  <a:pt x="0" y="0"/>
                </a:moveTo>
                <a:lnTo>
                  <a:pt x="48195" y="0"/>
                </a:lnTo>
                <a:lnTo>
                  <a:pt x="48195" y="21600"/>
                </a:lnTo>
                <a:lnTo>
                  <a:pt x="0" y="21600"/>
                </a:lnTo>
                <a:close/>
              </a:path>
              <a:path fill="lightenLess" w="48195" h="21600">
                <a:moveTo>
                  <a:pt x="0" y="0"/>
                </a:moveTo>
                <a:lnTo>
                  <a:pt x="48195" y="0"/>
                </a:lnTo>
                <a:lnTo>
                  <a:pt x="46795" y="1400"/>
                </a:lnTo>
                <a:lnTo>
                  <a:pt x="1400" y="1400"/>
                </a:lnTo>
                <a:close/>
              </a:path>
              <a:path fill="darken" w="48195" h="21600">
                <a:moveTo>
                  <a:pt x="48195" y="0"/>
                </a:moveTo>
                <a:lnTo>
                  <a:pt x="48195" y="21600"/>
                </a:lnTo>
                <a:lnTo>
                  <a:pt x="46795" y="20200"/>
                </a:lnTo>
                <a:lnTo>
                  <a:pt x="46795" y="1400"/>
                </a:lnTo>
                <a:close/>
              </a:path>
              <a:path fill="darkenLess" w="48195" h="21600">
                <a:moveTo>
                  <a:pt x="48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795" y="20200"/>
                </a:lnTo>
                <a:close/>
              </a:path>
              <a:path fill="lighten" w="48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195" h="21600">
                <a:moveTo>
                  <a:pt x="17091" y="3794"/>
                </a:moveTo>
                <a:lnTo>
                  <a:pt x="31104" y="10800"/>
                </a:lnTo>
                <a:lnTo>
                  <a:pt x="17091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rId13" action="ppaction://hlinksldjump"/>
          </p:cNvPr>
          <p:cNvSpPr/>
          <p:nvPr/>
        </p:nvSpPr>
        <p:spPr>
          <a:xfrm>
            <a:off x="6443640" y="3357720"/>
            <a:ext cx="2087640" cy="1008000"/>
          </a:xfrm>
          <a:custGeom>
            <a:avLst/>
            <a:gdLst>
              <a:gd name="textAreaLeft" fmla="*/ 65160 w 2087640"/>
              <a:gd name="textAreaRight" fmla="*/ 2022480 w 208764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44727" h="21600">
                <a:moveTo>
                  <a:pt x="0" y="0"/>
                </a:moveTo>
                <a:lnTo>
                  <a:pt x="44727" y="0"/>
                </a:lnTo>
                <a:lnTo>
                  <a:pt x="44727" y="21600"/>
                </a:lnTo>
                <a:lnTo>
                  <a:pt x="0" y="21600"/>
                </a:lnTo>
                <a:close/>
              </a:path>
              <a:path fill="lightenLess" w="44727" h="21600">
                <a:moveTo>
                  <a:pt x="0" y="0"/>
                </a:moveTo>
                <a:lnTo>
                  <a:pt x="44727" y="0"/>
                </a:lnTo>
                <a:lnTo>
                  <a:pt x="43327" y="1400"/>
                </a:lnTo>
                <a:lnTo>
                  <a:pt x="1400" y="1400"/>
                </a:lnTo>
                <a:close/>
              </a:path>
              <a:path fill="darken" w="44727" h="21600">
                <a:moveTo>
                  <a:pt x="44727" y="0"/>
                </a:moveTo>
                <a:lnTo>
                  <a:pt x="44727" y="21600"/>
                </a:lnTo>
                <a:lnTo>
                  <a:pt x="43327" y="20200"/>
                </a:lnTo>
                <a:lnTo>
                  <a:pt x="43327" y="1400"/>
                </a:lnTo>
                <a:close/>
              </a:path>
              <a:path fill="darkenLess" w="44727" h="21600">
                <a:moveTo>
                  <a:pt x="447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327" y="20200"/>
                </a:lnTo>
                <a:close/>
              </a:path>
              <a:path fill="lighten" w="447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727" h="21600">
                <a:moveTo>
                  <a:pt x="15357" y="3794"/>
                </a:moveTo>
                <a:lnTo>
                  <a:pt x="29370" y="10800"/>
                </a:lnTo>
                <a:lnTo>
                  <a:pt x="15357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>
            <a:hlinkClick r:id="rId14" action="ppaction://hlinksldjump"/>
          </p:cNvPr>
          <p:cNvSpPr/>
          <p:nvPr/>
        </p:nvSpPr>
        <p:spPr>
          <a:xfrm>
            <a:off x="6443640" y="4797360"/>
            <a:ext cx="2085840" cy="935280"/>
          </a:xfrm>
          <a:custGeom>
            <a:avLst/>
            <a:gdLst>
              <a:gd name="textAreaLeft" fmla="*/ 60480 w 2085840"/>
              <a:gd name="textAreaRight" fmla="*/ 2025360 w 2085840"/>
              <a:gd name="textAreaTop" fmla="*/ 60480 h 935280"/>
              <a:gd name="textAreaBottom" fmla="*/ 874800 h 935280"/>
            </a:gdLst>
            <a:ahLst/>
            <a:rect l="textAreaLeft" t="textAreaTop" r="textAreaRight" b="textAreaBottom"/>
            <a:pathLst>
              <a:path w="48162" h="21600">
                <a:moveTo>
                  <a:pt x="0" y="0"/>
                </a:moveTo>
                <a:lnTo>
                  <a:pt x="48162" y="0"/>
                </a:lnTo>
                <a:lnTo>
                  <a:pt x="48162" y="21600"/>
                </a:lnTo>
                <a:lnTo>
                  <a:pt x="0" y="21600"/>
                </a:lnTo>
                <a:close/>
              </a:path>
              <a:path fill="lightenLess" w="48162" h="21600">
                <a:moveTo>
                  <a:pt x="0" y="0"/>
                </a:moveTo>
                <a:lnTo>
                  <a:pt x="48162" y="0"/>
                </a:lnTo>
                <a:lnTo>
                  <a:pt x="46762" y="1400"/>
                </a:lnTo>
                <a:lnTo>
                  <a:pt x="1400" y="1400"/>
                </a:lnTo>
                <a:close/>
              </a:path>
              <a:path fill="darken" w="48162" h="21600">
                <a:moveTo>
                  <a:pt x="48162" y="0"/>
                </a:moveTo>
                <a:lnTo>
                  <a:pt x="48162" y="21600"/>
                </a:lnTo>
                <a:lnTo>
                  <a:pt x="46762" y="20200"/>
                </a:lnTo>
                <a:lnTo>
                  <a:pt x="46762" y="1400"/>
                </a:lnTo>
                <a:close/>
              </a:path>
              <a:path fill="darkenLess" w="48162" h="21600">
                <a:moveTo>
                  <a:pt x="481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762" y="20200"/>
                </a:lnTo>
                <a:close/>
              </a:path>
              <a:path fill="lighten" w="481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162" h="21600">
                <a:moveTo>
                  <a:pt x="17074" y="3794"/>
                </a:moveTo>
                <a:lnTo>
                  <a:pt x="31087" y="10800"/>
                </a:lnTo>
                <a:lnTo>
                  <a:pt x="1707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5"/>
          <a:stretch/>
        </p:blipFill>
        <p:spPr>
          <a:xfrm>
            <a:off x="3564000" y="1413000"/>
            <a:ext cx="2276280" cy="18936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375920" y="304920"/>
            <a:ext cx="607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66cc"/>
                </a:solidFill>
                <a:latin typeface="Arial"/>
              </a:rPr>
              <a:t>Clic</a:t>
            </a:r>
            <a:r>
              <a:rPr b="1" lang="en-US" sz="40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0066cc"/>
                </a:solidFill>
                <a:latin typeface="Arial"/>
              </a:rPr>
              <a:t>pe</a:t>
            </a:r>
            <a:r>
              <a:rPr b="1" lang="en-US" sz="40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0066cc"/>
                </a:solidFill>
                <a:latin typeface="Arial"/>
              </a:rPr>
              <a:t>rezultatul</a:t>
            </a:r>
            <a:r>
              <a:rPr b="1" lang="en-US" sz="40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0066cc"/>
                </a:solidFill>
                <a:latin typeface="Arial"/>
              </a:rPr>
              <a:t>corect</a:t>
            </a:r>
            <a:r>
              <a:rPr b="1" lang="en-US" sz="4000" spc="-1" strike="noStrike">
                <a:solidFill>
                  <a:srgbClr val="0066cc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99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99"/>
                            </p:stCondLst>
                            <p:childTnLst>
                              <p:par>
                                <p:cTn id="28" nodeType="after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>
            <a:hlinkClick r:id="rId2" action="ppaction://hlinksldjump"/>
          </p:cNvPr>
          <p:cNvSpPr/>
          <p:nvPr/>
        </p:nvSpPr>
        <p:spPr>
          <a:xfrm>
            <a:off x="4643280" y="3645000"/>
            <a:ext cx="1081080" cy="792000"/>
          </a:xfrm>
          <a:custGeom>
            <a:avLst/>
            <a:gdLst>
              <a:gd name="textAreaLeft" fmla="*/ 51120 w 1081080"/>
              <a:gd name="textAreaRight" fmla="*/ 1029960 w 1081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9480" h="21600">
                <a:moveTo>
                  <a:pt x="0" y="0"/>
                </a:moveTo>
                <a:lnTo>
                  <a:pt x="29480" y="0"/>
                </a:lnTo>
                <a:lnTo>
                  <a:pt x="29480" y="21600"/>
                </a:lnTo>
                <a:lnTo>
                  <a:pt x="0" y="21600"/>
                </a:lnTo>
                <a:close/>
              </a:path>
              <a:path fill="lightenLess" w="29480" h="21600">
                <a:moveTo>
                  <a:pt x="0" y="0"/>
                </a:moveTo>
                <a:lnTo>
                  <a:pt x="29480" y="0"/>
                </a:lnTo>
                <a:lnTo>
                  <a:pt x="28080" y="1400"/>
                </a:lnTo>
                <a:lnTo>
                  <a:pt x="1400" y="1400"/>
                </a:lnTo>
                <a:close/>
              </a:path>
              <a:path fill="darken" w="29480" h="21600">
                <a:moveTo>
                  <a:pt x="29480" y="0"/>
                </a:moveTo>
                <a:lnTo>
                  <a:pt x="29480" y="21600"/>
                </a:lnTo>
                <a:lnTo>
                  <a:pt x="28080" y="20200"/>
                </a:lnTo>
                <a:lnTo>
                  <a:pt x="28080" y="1400"/>
                </a:lnTo>
                <a:close/>
              </a:path>
              <a:path fill="darkenLess" w="29480" h="21600">
                <a:moveTo>
                  <a:pt x="294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80" y="20200"/>
                </a:lnTo>
                <a:close/>
              </a:path>
              <a:path fill="lighten" w="294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80" h="21600">
                <a:moveTo>
                  <a:pt x="7734" y="3794"/>
                </a:moveTo>
                <a:lnTo>
                  <a:pt x="21747" y="10800"/>
                </a:lnTo>
                <a:lnTo>
                  <a:pt x="7734" y="17806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5724360" y="1700280"/>
            <a:ext cx="3419640" cy="49417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468360" y="333360"/>
            <a:ext cx="8242200" cy="12193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685800" y="1905120"/>
            <a:ext cx="3274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f800"/>
                </a:solidFill>
                <a:latin typeface="Arial"/>
              </a:rPr>
              <a:t>Dă clic  şi încearcă din n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2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3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960"/>
                            </p:stCondLst>
                            <p:childTnLst>
                              <p:par>
                                <p:cTn id="4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4572000" y="3789360"/>
            <a:ext cx="1152360" cy="792000"/>
          </a:xfrm>
          <a:custGeom>
            <a:avLst/>
            <a:gdLst>
              <a:gd name="textAreaLeft" fmla="*/ 51120 w 1152360"/>
              <a:gd name="textAreaRight" fmla="*/ 1101240 w 1152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31424" h="21600">
                <a:moveTo>
                  <a:pt x="0" y="0"/>
                </a:moveTo>
                <a:lnTo>
                  <a:pt x="31424" y="0"/>
                </a:lnTo>
                <a:lnTo>
                  <a:pt x="31424" y="21600"/>
                </a:lnTo>
                <a:lnTo>
                  <a:pt x="0" y="21600"/>
                </a:lnTo>
                <a:close/>
              </a:path>
              <a:path fill="lightenLess" w="31424" h="21600">
                <a:moveTo>
                  <a:pt x="0" y="0"/>
                </a:moveTo>
                <a:lnTo>
                  <a:pt x="31424" y="0"/>
                </a:lnTo>
                <a:lnTo>
                  <a:pt x="30024" y="1400"/>
                </a:lnTo>
                <a:lnTo>
                  <a:pt x="1400" y="1400"/>
                </a:lnTo>
                <a:close/>
              </a:path>
              <a:path fill="darken" w="31424" h="21600">
                <a:moveTo>
                  <a:pt x="31424" y="0"/>
                </a:moveTo>
                <a:lnTo>
                  <a:pt x="31424" y="21600"/>
                </a:lnTo>
                <a:lnTo>
                  <a:pt x="30024" y="20200"/>
                </a:lnTo>
                <a:lnTo>
                  <a:pt x="30024" y="1400"/>
                </a:lnTo>
                <a:close/>
              </a:path>
              <a:path fill="darkenLess" w="31424" h="21600">
                <a:moveTo>
                  <a:pt x="31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4" y="20200"/>
                </a:lnTo>
                <a:close/>
              </a:path>
              <a:path fill="lighten" w="31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424" h="21600">
                <a:moveTo>
                  <a:pt x="8705" y="3794"/>
                </a:moveTo>
                <a:lnTo>
                  <a:pt x="22718" y="10800"/>
                </a:lnTo>
                <a:lnTo>
                  <a:pt x="8705" y="17806"/>
                </a:lnTo>
                <a:close/>
              </a:path>
            </a:pathLst>
          </a:cu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5219640" y="2421000"/>
            <a:ext cx="2673360" cy="4105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1763640" y="404640"/>
            <a:ext cx="5794560" cy="20289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304920" y="2971800"/>
            <a:ext cx="3274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f800"/>
                </a:solidFill>
                <a:latin typeface="Arial"/>
              </a:rPr>
              <a:t>Dă clic  şi încearcă din n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path" presetID="4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305 0.01503 C -0.03871 0.01457 -0.02777 0.01341 -0.02326 0.01272 C 0.00139 0.00994 0.02674 0.00231 0.02622 -0.00254 C 0.02657 -0.00046 0.03959 0.00069 0.05174 -0.00069 C 0.06476 -0.00208 0.07657 -0.00624 0.07622 -0.00902 C 0.07657 -0.00763 0.08316 -0.00717 0.08959 -0.00786 C 0.09636 -0.00879 0.10243 -0.01064 0.10243 -0.01202 C 0.10243 -0.01133 0.10556 -0.0111 0.10886 -0.01156 C 0.11233 -0.01202 0.11528 -0.01272 0.11476 -0.01364 C 0.11528 -0.01272 0.11719 -0.01295 0.11875 -0.01318 C 0.11962 -0.01341 0.12153 -0.0141 0.12153 -0.01433 C 0.12153 -0.0141 0.1224 -0.0141 0.12362 -0.0141 C 0.12362 -0.01433 0.12518 -0.01457 0.12518 -0.01503 C 0.12518 -0.0148 0.12518 -0.01457 0.12587 -0.01503 C 0.12587 -0.01526 0.12709 -0.01503 0.12709 -0.01526 C 0.12709 -0.01503 0.12709 -0.01526 0.12709 -0.01503 C 0.12778 -0.01503 0.12778 -0.01526 0.12778 -0.01503 C 0.12882 -0.01503 0.12882 -0.01526 0.12882 -0.01503 C 0.12882 -0.01526 0.12882 -0.01503 0.12882 -0.01526 E">
                                      <p:cBhvr>
                                        <p:cTn id="463" dur="1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500"/>
                            </p:stCondLst>
                            <p:childTnLst>
                              <p:par>
                                <p:cTn id="4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88000" cy="30988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179280" y="1700280"/>
            <a:ext cx="4716720" cy="30718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0" y="3214800"/>
            <a:ext cx="4427640" cy="36432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5"/>
          <a:stretch/>
        </p:blipFill>
        <p:spPr>
          <a:xfrm>
            <a:off x="5148360" y="333360"/>
            <a:ext cx="4244760" cy="28447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6"/>
          <a:stretch/>
        </p:blipFill>
        <p:spPr>
          <a:xfrm>
            <a:off x="5364000" y="1773360"/>
            <a:ext cx="4249800" cy="33591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7"/>
          <a:stretch/>
        </p:blipFill>
        <p:spPr>
          <a:xfrm>
            <a:off x="4932360" y="2924280"/>
            <a:ext cx="4897440" cy="39337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 flipV="1" rot="30600">
            <a:off x="469800" y="1555920"/>
            <a:ext cx="20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11280" y="5013360"/>
            <a:ext cx="35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332000" y="620640"/>
            <a:ext cx="2158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0000"/>
                </a:solidFill>
                <a:latin typeface="Arial"/>
              </a:rPr>
              <a:t>de</a:t>
            </a:r>
            <a:r>
              <a:rPr b="1" lang="ro-RO" sz="60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ro-RO" sz="4000" spc="-1" strike="noStrike">
                <a:solidFill>
                  <a:srgbClr val="ff0000"/>
                </a:solidFill>
                <a:latin typeface="Arial"/>
              </a:rPr>
              <a:t>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332000" y="2276640"/>
            <a:ext cx="21589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0000"/>
                </a:solidFill>
                <a:latin typeface="Arial"/>
              </a:rPr>
              <a:t>de</a:t>
            </a:r>
            <a:r>
              <a:rPr b="1" lang="en-GB" sz="60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ro-RO" sz="4000" spc="-1" strike="noStrike">
                <a:solidFill>
                  <a:srgbClr val="ff0000"/>
                </a:solidFill>
                <a:latin typeface="Arial"/>
              </a:rPr>
              <a:t>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143000" y="4191120"/>
            <a:ext cx="21589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0000"/>
                </a:solidFill>
                <a:latin typeface="Arial"/>
              </a:rPr>
              <a:t>de</a:t>
            </a:r>
            <a:r>
              <a:rPr b="1" lang="en-GB" sz="60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ro-RO" sz="4000" spc="-1" strike="noStrike">
                <a:solidFill>
                  <a:srgbClr val="ff0000"/>
                </a:solidFill>
                <a:latin typeface="Arial"/>
              </a:rPr>
              <a:t>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8" action="ppaction://hlinksldjump"/>
          </p:cNvPr>
          <p:cNvSpPr/>
          <p:nvPr/>
        </p:nvSpPr>
        <p:spPr>
          <a:xfrm>
            <a:off x="1403280" y="620640"/>
            <a:ext cx="2087640" cy="1152720"/>
          </a:xfrm>
          <a:custGeom>
            <a:avLst/>
            <a:gdLst>
              <a:gd name="textAreaLeft" fmla="*/ 74520 w 2087640"/>
              <a:gd name="textAreaRight" fmla="*/ 2013120 w 208764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39113" h="21600">
                <a:moveTo>
                  <a:pt x="0" y="0"/>
                </a:moveTo>
                <a:lnTo>
                  <a:pt x="39113" y="0"/>
                </a:lnTo>
                <a:lnTo>
                  <a:pt x="39113" y="21600"/>
                </a:lnTo>
                <a:lnTo>
                  <a:pt x="0" y="21600"/>
                </a:lnTo>
                <a:close/>
              </a:path>
              <a:path fill="lightenLess" w="39113" h="21600">
                <a:moveTo>
                  <a:pt x="0" y="0"/>
                </a:moveTo>
                <a:lnTo>
                  <a:pt x="39113" y="0"/>
                </a:lnTo>
                <a:lnTo>
                  <a:pt x="37713" y="1400"/>
                </a:lnTo>
                <a:lnTo>
                  <a:pt x="1400" y="1400"/>
                </a:lnTo>
                <a:close/>
              </a:path>
              <a:path fill="darken" w="39113" h="21600">
                <a:moveTo>
                  <a:pt x="39113" y="0"/>
                </a:moveTo>
                <a:lnTo>
                  <a:pt x="39113" y="21600"/>
                </a:lnTo>
                <a:lnTo>
                  <a:pt x="37713" y="20200"/>
                </a:lnTo>
                <a:lnTo>
                  <a:pt x="37713" y="1400"/>
                </a:lnTo>
                <a:close/>
              </a:path>
              <a:path fill="darkenLess" w="39113" h="21600">
                <a:moveTo>
                  <a:pt x="391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13" y="20200"/>
                </a:lnTo>
                <a:close/>
              </a:path>
              <a:path fill="lighten" w="391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113" h="21600">
                <a:moveTo>
                  <a:pt x="12550" y="3794"/>
                </a:moveTo>
                <a:lnTo>
                  <a:pt x="26563" y="10800"/>
                </a:lnTo>
                <a:lnTo>
                  <a:pt x="1255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>
            <a:hlinkClick r:id="rId9" action="ppaction://hlinksldjump"/>
          </p:cNvPr>
          <p:cNvSpPr/>
          <p:nvPr/>
        </p:nvSpPr>
        <p:spPr>
          <a:xfrm>
            <a:off x="1332000" y="2421000"/>
            <a:ext cx="2089080" cy="792000"/>
          </a:xfrm>
          <a:custGeom>
            <a:avLst/>
            <a:gdLst>
              <a:gd name="textAreaLeft" fmla="*/ 51120 w 2089080"/>
              <a:gd name="textAreaRight" fmla="*/ 2037960 w 2089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56959" h="21600">
                <a:moveTo>
                  <a:pt x="0" y="0"/>
                </a:moveTo>
                <a:lnTo>
                  <a:pt x="56959" y="0"/>
                </a:lnTo>
                <a:lnTo>
                  <a:pt x="56959" y="21600"/>
                </a:lnTo>
                <a:lnTo>
                  <a:pt x="0" y="21600"/>
                </a:lnTo>
                <a:close/>
              </a:path>
              <a:path fill="lightenLess" w="56959" h="21600">
                <a:moveTo>
                  <a:pt x="0" y="0"/>
                </a:moveTo>
                <a:lnTo>
                  <a:pt x="56959" y="0"/>
                </a:lnTo>
                <a:lnTo>
                  <a:pt x="55559" y="1400"/>
                </a:lnTo>
                <a:lnTo>
                  <a:pt x="1400" y="1400"/>
                </a:lnTo>
                <a:close/>
              </a:path>
              <a:path fill="darken" w="56959" h="21600">
                <a:moveTo>
                  <a:pt x="56959" y="0"/>
                </a:moveTo>
                <a:lnTo>
                  <a:pt x="56959" y="21600"/>
                </a:lnTo>
                <a:lnTo>
                  <a:pt x="55559" y="20200"/>
                </a:lnTo>
                <a:lnTo>
                  <a:pt x="55559" y="1400"/>
                </a:lnTo>
                <a:close/>
              </a:path>
              <a:path fill="darkenLess" w="56959" h="21600">
                <a:moveTo>
                  <a:pt x="569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559" y="20200"/>
                </a:lnTo>
                <a:close/>
              </a:path>
              <a:path fill="lighten" w="569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959" h="21600">
                <a:moveTo>
                  <a:pt x="21473" y="3794"/>
                </a:moveTo>
                <a:lnTo>
                  <a:pt x="35486" y="10800"/>
                </a:lnTo>
                <a:lnTo>
                  <a:pt x="2147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>
            <a:hlinkClick r:id="rId10" action="ppaction://hlinksldjump"/>
          </p:cNvPr>
          <p:cNvSpPr/>
          <p:nvPr/>
        </p:nvSpPr>
        <p:spPr>
          <a:xfrm>
            <a:off x="1219320" y="4038480"/>
            <a:ext cx="2232000" cy="1513080"/>
          </a:xfrm>
          <a:custGeom>
            <a:avLst/>
            <a:gdLst>
              <a:gd name="textAreaLeft" fmla="*/ 97920 w 2232000"/>
              <a:gd name="textAreaRight" fmla="*/ 2134080 w 2232000"/>
              <a:gd name="textAreaTop" fmla="*/ 97920 h 1513080"/>
              <a:gd name="textAreaBottom" fmla="*/ 1415160 h 1513080"/>
            </a:gdLst>
            <a:ahLst/>
            <a:rect l="textAreaLeft" t="textAreaTop" r="textAreaRight" b="textAreaBottom"/>
            <a:pathLst>
              <a:path w="31861" h="21600">
                <a:moveTo>
                  <a:pt x="0" y="0"/>
                </a:moveTo>
                <a:lnTo>
                  <a:pt x="31861" y="0"/>
                </a:lnTo>
                <a:lnTo>
                  <a:pt x="31861" y="21600"/>
                </a:lnTo>
                <a:lnTo>
                  <a:pt x="0" y="21600"/>
                </a:lnTo>
                <a:close/>
              </a:path>
              <a:path fill="lightenLess" w="31861" h="21600">
                <a:moveTo>
                  <a:pt x="0" y="0"/>
                </a:moveTo>
                <a:lnTo>
                  <a:pt x="31861" y="0"/>
                </a:lnTo>
                <a:lnTo>
                  <a:pt x="30461" y="1400"/>
                </a:lnTo>
                <a:lnTo>
                  <a:pt x="1400" y="1400"/>
                </a:lnTo>
                <a:close/>
              </a:path>
              <a:path fill="darken" w="31861" h="21600">
                <a:moveTo>
                  <a:pt x="31861" y="0"/>
                </a:moveTo>
                <a:lnTo>
                  <a:pt x="31861" y="21600"/>
                </a:lnTo>
                <a:lnTo>
                  <a:pt x="30461" y="20200"/>
                </a:lnTo>
                <a:lnTo>
                  <a:pt x="30461" y="1400"/>
                </a:lnTo>
                <a:close/>
              </a:path>
              <a:path fill="darkenLess" w="31861" h="21600">
                <a:moveTo>
                  <a:pt x="318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461" y="20200"/>
                </a:lnTo>
                <a:close/>
              </a:path>
              <a:path fill="lighten" w="318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861" h="21600">
                <a:moveTo>
                  <a:pt x="8924" y="3794"/>
                </a:moveTo>
                <a:lnTo>
                  <a:pt x="22937" y="10800"/>
                </a:lnTo>
                <a:lnTo>
                  <a:pt x="892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012000" y="836640"/>
            <a:ext cx="2158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0000"/>
                </a:solidFill>
                <a:latin typeface="Comic Sans MS"/>
              </a:rPr>
              <a:t>de</a:t>
            </a:r>
            <a:r>
              <a:rPr b="1" lang="ro-RO" sz="60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1" lang="ro-RO" sz="4000" spc="-1" strike="noStrike">
                <a:solidFill>
                  <a:srgbClr val="ff0000"/>
                </a:solidFill>
                <a:latin typeface="Comic Sans MS"/>
              </a:rPr>
              <a:t>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588000" y="2637000"/>
            <a:ext cx="21592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0000"/>
                </a:solidFill>
                <a:latin typeface="Comic Sans MS"/>
              </a:rPr>
              <a:t>de</a:t>
            </a:r>
            <a:r>
              <a:rPr b="1" lang="ro-RO" sz="6000" spc="-1" strike="noStrike">
                <a:solidFill>
                  <a:srgbClr val="ff0000"/>
                </a:solidFill>
                <a:latin typeface="Comic Sans MS"/>
              </a:rPr>
              <a:t>7</a:t>
            </a:r>
            <a:r>
              <a:rPr b="1" lang="ro-RO" sz="4000" spc="-1" strike="noStrike">
                <a:solidFill>
                  <a:srgbClr val="ff0000"/>
                </a:solidFill>
                <a:latin typeface="Comic Sans MS"/>
              </a:rPr>
              <a:t>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48520" y="4038480"/>
            <a:ext cx="2158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0000"/>
                </a:solidFill>
                <a:latin typeface="Comic Sans MS"/>
              </a:rPr>
              <a:t>de</a:t>
            </a:r>
            <a:r>
              <a:rPr b="1" lang="ro-RO" sz="6000" spc="-1" strike="noStrike">
                <a:solidFill>
                  <a:srgbClr val="ff0000"/>
                </a:solidFill>
                <a:latin typeface="Comic Sans MS"/>
              </a:rPr>
              <a:t>4</a:t>
            </a:r>
            <a:r>
              <a:rPr b="1" lang="ro-RO" sz="4000" spc="-1" strike="noStrike">
                <a:solidFill>
                  <a:srgbClr val="ff0000"/>
                </a:solidFill>
                <a:latin typeface="Comic Sans MS"/>
              </a:rPr>
              <a:t>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>
            <a:hlinkClick r:id="rId11" action="ppaction://hlinksldjump"/>
          </p:cNvPr>
          <p:cNvSpPr/>
          <p:nvPr/>
        </p:nvSpPr>
        <p:spPr>
          <a:xfrm>
            <a:off x="5867280" y="836640"/>
            <a:ext cx="2806920" cy="1224000"/>
          </a:xfrm>
          <a:custGeom>
            <a:avLst/>
            <a:gdLst>
              <a:gd name="textAreaLeft" fmla="*/ 79200 w 2806920"/>
              <a:gd name="textAreaRight" fmla="*/ 2727720 w 280692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49526" h="21600">
                <a:moveTo>
                  <a:pt x="0" y="0"/>
                </a:moveTo>
                <a:lnTo>
                  <a:pt x="49526" y="0"/>
                </a:lnTo>
                <a:lnTo>
                  <a:pt x="49526" y="21600"/>
                </a:lnTo>
                <a:lnTo>
                  <a:pt x="0" y="21600"/>
                </a:lnTo>
                <a:close/>
              </a:path>
              <a:path fill="lightenLess" w="49526" h="21600">
                <a:moveTo>
                  <a:pt x="0" y="0"/>
                </a:moveTo>
                <a:lnTo>
                  <a:pt x="49526" y="0"/>
                </a:lnTo>
                <a:lnTo>
                  <a:pt x="48126" y="1400"/>
                </a:lnTo>
                <a:lnTo>
                  <a:pt x="1400" y="1400"/>
                </a:lnTo>
                <a:close/>
              </a:path>
              <a:path fill="darken" w="49526" h="21600">
                <a:moveTo>
                  <a:pt x="49526" y="0"/>
                </a:moveTo>
                <a:lnTo>
                  <a:pt x="49526" y="21600"/>
                </a:lnTo>
                <a:lnTo>
                  <a:pt x="48126" y="20200"/>
                </a:lnTo>
                <a:lnTo>
                  <a:pt x="48126" y="1400"/>
                </a:lnTo>
                <a:close/>
              </a:path>
              <a:path fill="darkenLess" w="49526" h="21600">
                <a:moveTo>
                  <a:pt x="495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126" y="20200"/>
                </a:lnTo>
                <a:close/>
              </a:path>
              <a:path fill="lighten" w="495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526" h="21600">
                <a:moveTo>
                  <a:pt x="17756" y="3794"/>
                </a:moveTo>
                <a:lnTo>
                  <a:pt x="31769" y="10800"/>
                </a:lnTo>
                <a:lnTo>
                  <a:pt x="1775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>
            <a:hlinkClick r:id="rId12" action="ppaction://hlinksldjump"/>
          </p:cNvPr>
          <p:cNvSpPr/>
          <p:nvPr/>
        </p:nvSpPr>
        <p:spPr>
          <a:xfrm>
            <a:off x="6477120" y="4191120"/>
            <a:ext cx="2016000" cy="1008000"/>
          </a:xfrm>
          <a:custGeom>
            <a:avLst/>
            <a:gdLst>
              <a:gd name="textAreaLeft" fmla="*/ 65160 w 2016000"/>
              <a:gd name="textAreaRight" fmla="*/ 1950840 w 2016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43192" h="21600">
                <a:moveTo>
                  <a:pt x="0" y="0"/>
                </a:moveTo>
                <a:lnTo>
                  <a:pt x="43192" y="0"/>
                </a:lnTo>
                <a:lnTo>
                  <a:pt x="43192" y="21600"/>
                </a:lnTo>
                <a:lnTo>
                  <a:pt x="0" y="21600"/>
                </a:lnTo>
                <a:close/>
              </a:path>
              <a:path fill="lightenLess" w="43192" h="21600">
                <a:moveTo>
                  <a:pt x="0" y="0"/>
                </a:moveTo>
                <a:lnTo>
                  <a:pt x="43192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2" h="21600">
                <a:moveTo>
                  <a:pt x="43192" y="0"/>
                </a:moveTo>
                <a:lnTo>
                  <a:pt x="43192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2" h="21600">
                <a:moveTo>
                  <a:pt x="431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92" h="21600">
                <a:moveTo>
                  <a:pt x="14590" y="3794"/>
                </a:moveTo>
                <a:lnTo>
                  <a:pt x="28603" y="10800"/>
                </a:lnTo>
                <a:lnTo>
                  <a:pt x="1459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>
            <a:hlinkClick r:id="rId13" action="ppaction://hlinksldjump"/>
          </p:cNvPr>
          <p:cNvSpPr/>
          <p:nvPr/>
        </p:nvSpPr>
        <p:spPr>
          <a:xfrm>
            <a:off x="6804000" y="2492280"/>
            <a:ext cx="2014560" cy="1008000"/>
          </a:xfrm>
          <a:custGeom>
            <a:avLst/>
            <a:gdLst>
              <a:gd name="textAreaLeft" fmla="*/ 65160 w 2014560"/>
              <a:gd name="textAreaRight" fmla="*/ 1949400 w 201456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43161" h="21600">
                <a:moveTo>
                  <a:pt x="0" y="0"/>
                </a:moveTo>
                <a:lnTo>
                  <a:pt x="43161" y="0"/>
                </a:lnTo>
                <a:lnTo>
                  <a:pt x="43161" y="21600"/>
                </a:lnTo>
                <a:lnTo>
                  <a:pt x="0" y="21600"/>
                </a:lnTo>
                <a:close/>
              </a:path>
              <a:path fill="lightenLess" w="43161" h="21600">
                <a:moveTo>
                  <a:pt x="0" y="0"/>
                </a:moveTo>
                <a:lnTo>
                  <a:pt x="43161" y="0"/>
                </a:lnTo>
                <a:lnTo>
                  <a:pt x="41761" y="1400"/>
                </a:lnTo>
                <a:lnTo>
                  <a:pt x="1400" y="1400"/>
                </a:lnTo>
                <a:close/>
              </a:path>
              <a:path fill="darken" w="43161" h="21600">
                <a:moveTo>
                  <a:pt x="43161" y="0"/>
                </a:moveTo>
                <a:lnTo>
                  <a:pt x="43161" y="21600"/>
                </a:lnTo>
                <a:lnTo>
                  <a:pt x="41761" y="20200"/>
                </a:lnTo>
                <a:lnTo>
                  <a:pt x="41761" y="1400"/>
                </a:lnTo>
                <a:close/>
              </a:path>
              <a:path fill="darkenLess" w="43161" h="21600">
                <a:moveTo>
                  <a:pt x="43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1" y="20200"/>
                </a:lnTo>
                <a:close/>
              </a:path>
              <a:path fill="lighten" w="43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1" h="21600">
                <a:moveTo>
                  <a:pt x="14574" y="3794"/>
                </a:moveTo>
                <a:lnTo>
                  <a:pt x="28587" y="10800"/>
                </a:lnTo>
                <a:lnTo>
                  <a:pt x="1457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4"/>
          <a:stretch/>
        </p:blipFill>
        <p:spPr>
          <a:xfrm>
            <a:off x="3203640" y="4005360"/>
            <a:ext cx="2592360" cy="28526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15"/>
          <a:stretch/>
        </p:blipFill>
        <p:spPr>
          <a:xfrm>
            <a:off x="3575160" y="2185920"/>
            <a:ext cx="1995480" cy="248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395280" y="549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Comic Sans MS"/>
              </a:rPr>
              <a:t>Fantastic!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28600" y="1828800"/>
            <a:ext cx="4114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omic Sans MS"/>
              </a:rPr>
              <a:t>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o-RO" sz="5400" spc="-1" strike="noStrike">
                <a:solidFill>
                  <a:srgbClr val="ffff00"/>
                </a:solidFill>
                <a:latin typeface="Comic Sans MS"/>
              </a:rPr>
              <a:t>Mergi   mai  departe</a:t>
            </a:r>
            <a:r>
              <a:rPr b="1" lang="en-GB" sz="5400" spc="-1" strike="noStrike">
                <a:solidFill>
                  <a:srgbClr val="ffff00"/>
                </a:solidFill>
                <a:latin typeface="Comic Sans MS"/>
              </a:rPr>
              <a:t>.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6156360" y="3284640"/>
            <a:ext cx="2641680" cy="3168720"/>
          </a:xfrm>
          <a:prstGeom prst="rect">
            <a:avLst/>
          </a:prstGeom>
          <a:ln w="0">
            <a:noFill/>
          </a:ln>
        </p:spPr>
      </p:pic>
      <p:sp>
        <p:nvSpPr>
          <p:cNvPr id="269" name="">
            <a:hlinkClick r:id="rId3" action="ppaction://hlinksldjump"/>
          </p:cNvPr>
          <p:cNvSpPr/>
          <p:nvPr/>
        </p:nvSpPr>
        <p:spPr>
          <a:xfrm>
            <a:off x="4500720" y="4076640"/>
            <a:ext cx="863280" cy="1008000"/>
          </a:xfrm>
          <a:custGeom>
            <a:avLst/>
            <a:gdLst>
              <a:gd name="textAreaLeft" fmla="*/ 55800 w 863280"/>
              <a:gd name="textAreaRight" fmla="*/ 807480 w 863280"/>
              <a:gd name="textAreaTop" fmla="*/ 55800 h 1008000"/>
              <a:gd name="textAreaBottom" fmla="*/ 952200 h 1008000"/>
            </a:gdLst>
            <a:ahLst/>
            <a:rect l="textAreaLeft" t="textAreaTop" r="textAreaRight" b="textAreaBottom"/>
            <a:pathLst>
              <a:path w="21600" h="25220">
                <a:moveTo>
                  <a:pt x="0" y="0"/>
                </a:moveTo>
                <a:lnTo>
                  <a:pt x="21600" y="0"/>
                </a:lnTo>
                <a:lnTo>
                  <a:pt x="21600" y="25220"/>
                </a:lnTo>
                <a:lnTo>
                  <a:pt x="0" y="25220"/>
                </a:lnTo>
                <a:close/>
              </a:path>
              <a:path fill="lightenLess" w="21600" h="25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20">
                <a:moveTo>
                  <a:pt x="21600" y="0"/>
                </a:moveTo>
                <a:lnTo>
                  <a:pt x="21600" y="25220"/>
                </a:lnTo>
                <a:lnTo>
                  <a:pt x="20200" y="23820"/>
                </a:lnTo>
                <a:lnTo>
                  <a:pt x="20200" y="1400"/>
                </a:lnTo>
                <a:close/>
              </a:path>
              <a:path fill="darkenLess" w="21600" h="25220">
                <a:moveTo>
                  <a:pt x="21600" y="25220"/>
                </a:moveTo>
                <a:lnTo>
                  <a:pt x="0" y="25220"/>
                </a:lnTo>
                <a:lnTo>
                  <a:pt x="1400" y="23820"/>
                </a:lnTo>
                <a:lnTo>
                  <a:pt x="20200" y="23820"/>
                </a:lnTo>
                <a:close/>
              </a:path>
              <a:path fill="lighten" w="21600" h="25220">
                <a:moveTo>
                  <a:pt x="0" y="25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20"/>
                </a:lnTo>
                <a:close/>
              </a:path>
              <a:path fill="darken" w="21600" h="25220">
                <a:moveTo>
                  <a:pt x="3794" y="5603"/>
                </a:moveTo>
                <a:lnTo>
                  <a:pt x="17806" y="12610"/>
                </a:lnTo>
                <a:lnTo>
                  <a:pt x="3794" y="19616"/>
                </a:lnTo>
                <a:close/>
              </a:path>
            </a:pathLst>
          </a:custGeom>
          <a:solidFill>
            <a:srgbClr val="ffff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8" dur="8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9" dur="8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0" dur="8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940"/>
                            </p:stCondLst>
                            <p:childTnLst>
                              <p:par>
                                <p:cTn id="502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440"/>
                            </p:stCondLst>
                            <p:childTnLst>
                              <p:par>
                                <p:cTn id="506" nodeType="afterEffect" fill="hold" presetClass="emph" presetID="36" repeatCount="indefinite">
                                  <p:stCondLst>
                                    <p:cond delay="1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5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5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0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51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890"/>
                            </p:stCondLst>
                            <p:childTnLst>
                              <p:par>
                                <p:cTn id="5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4" dur="8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8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3650"/>
                            </p:stCondLst>
                            <p:childTnLst>
                              <p:par>
                                <p:cTn id="518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>
            <a:hlinkClick r:id="rId2" action="ppaction://hlinksldjump"/>
          </p:cNvPr>
          <p:cNvSpPr/>
          <p:nvPr/>
        </p:nvSpPr>
        <p:spPr>
          <a:xfrm>
            <a:off x="4038480" y="3733920"/>
            <a:ext cx="936720" cy="792000"/>
          </a:xfrm>
          <a:custGeom>
            <a:avLst/>
            <a:gdLst>
              <a:gd name="textAreaLeft" fmla="*/ 51120 w 936720"/>
              <a:gd name="textAreaRight" fmla="*/ 885600 w 9367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5545" h="21600">
                <a:moveTo>
                  <a:pt x="0" y="0"/>
                </a:moveTo>
                <a:lnTo>
                  <a:pt x="25545" y="0"/>
                </a:lnTo>
                <a:lnTo>
                  <a:pt x="25545" y="21600"/>
                </a:lnTo>
                <a:lnTo>
                  <a:pt x="0" y="21600"/>
                </a:lnTo>
                <a:close/>
              </a:path>
              <a:path fill="lightenLess" w="25545" h="21600">
                <a:moveTo>
                  <a:pt x="0" y="0"/>
                </a:moveTo>
                <a:lnTo>
                  <a:pt x="25545" y="0"/>
                </a:lnTo>
                <a:lnTo>
                  <a:pt x="24145" y="1400"/>
                </a:lnTo>
                <a:lnTo>
                  <a:pt x="1400" y="1400"/>
                </a:lnTo>
                <a:close/>
              </a:path>
              <a:path fill="darken" w="25545" h="21600">
                <a:moveTo>
                  <a:pt x="25545" y="0"/>
                </a:moveTo>
                <a:lnTo>
                  <a:pt x="25545" y="21600"/>
                </a:lnTo>
                <a:lnTo>
                  <a:pt x="24145" y="20200"/>
                </a:lnTo>
                <a:lnTo>
                  <a:pt x="24145" y="1400"/>
                </a:lnTo>
                <a:close/>
              </a:path>
              <a:path fill="darkenLess" w="25545" h="21600">
                <a:moveTo>
                  <a:pt x="255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45" y="20200"/>
                </a:lnTo>
                <a:close/>
              </a:path>
              <a:path fill="lighten" w="255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45" h="21600">
                <a:moveTo>
                  <a:pt x="5766" y="3794"/>
                </a:moveTo>
                <a:lnTo>
                  <a:pt x="19779" y="10800"/>
                </a:lnTo>
                <a:lnTo>
                  <a:pt x="5766" y="17806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3"/>
          <a:stretch/>
        </p:blipFill>
        <p:spPr>
          <a:xfrm>
            <a:off x="5292720" y="2708280"/>
            <a:ext cx="3238560" cy="3887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4"/>
          <a:stretch/>
        </p:blipFill>
        <p:spPr>
          <a:xfrm>
            <a:off x="539640" y="333360"/>
            <a:ext cx="8242560" cy="11574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304920" y="2971800"/>
            <a:ext cx="3274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f800"/>
                </a:solidFill>
                <a:latin typeface="Arial"/>
              </a:rPr>
              <a:t>Dă clic  şi încearcă din n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5" dur="8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7" dur="8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960"/>
                            </p:stCondLst>
                            <p:childTnLst>
                              <p:par>
                                <p:cTn id="5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>
            <a:hlinkClick r:id="rId2" action="ppaction://hlinksldjump"/>
          </p:cNvPr>
          <p:cNvSpPr/>
          <p:nvPr/>
        </p:nvSpPr>
        <p:spPr>
          <a:xfrm>
            <a:off x="4191120" y="3657600"/>
            <a:ext cx="936360" cy="792000"/>
          </a:xfrm>
          <a:custGeom>
            <a:avLst/>
            <a:gdLst>
              <a:gd name="textAreaLeft" fmla="*/ 51120 w 936360"/>
              <a:gd name="textAreaRight" fmla="*/ 885240 w 936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5535" h="21600">
                <a:moveTo>
                  <a:pt x="0" y="0"/>
                </a:moveTo>
                <a:lnTo>
                  <a:pt x="25535" y="0"/>
                </a:lnTo>
                <a:lnTo>
                  <a:pt x="25535" y="21600"/>
                </a:lnTo>
                <a:lnTo>
                  <a:pt x="0" y="21600"/>
                </a:lnTo>
                <a:close/>
              </a:path>
              <a:path fill="lightenLess" w="25535" h="21600">
                <a:moveTo>
                  <a:pt x="0" y="0"/>
                </a:moveTo>
                <a:lnTo>
                  <a:pt x="25535" y="0"/>
                </a:lnTo>
                <a:lnTo>
                  <a:pt x="24135" y="1400"/>
                </a:lnTo>
                <a:lnTo>
                  <a:pt x="1400" y="1400"/>
                </a:lnTo>
                <a:close/>
              </a:path>
              <a:path fill="darken" w="25535" h="21600">
                <a:moveTo>
                  <a:pt x="25535" y="0"/>
                </a:moveTo>
                <a:lnTo>
                  <a:pt x="25535" y="21600"/>
                </a:lnTo>
                <a:lnTo>
                  <a:pt x="24135" y="20200"/>
                </a:lnTo>
                <a:lnTo>
                  <a:pt x="24135" y="1400"/>
                </a:lnTo>
                <a:close/>
              </a:path>
              <a:path fill="darkenLess" w="25535" h="21600">
                <a:moveTo>
                  <a:pt x="255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5" y="20200"/>
                </a:lnTo>
                <a:close/>
              </a:path>
              <a:path fill="lighten" w="255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5" h="21600">
                <a:moveTo>
                  <a:pt x="5761" y="3794"/>
                </a:moveTo>
                <a:lnTo>
                  <a:pt x="19774" y="10800"/>
                </a:lnTo>
                <a:lnTo>
                  <a:pt x="5761" y="17806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5292720" y="2708280"/>
            <a:ext cx="3238560" cy="38876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 txBox="1"/>
          <p:nvPr/>
        </p:nvSpPr>
        <p:spPr>
          <a:xfrm>
            <a:off x="2771640" y="404640"/>
            <a:ext cx="39592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c521"/>
                    </a:gs>
                  </a:gsLst>
                  <a:lin ang="5400000"/>
                </a:gradFill>
                <a:latin typeface="Times New Roman"/>
              </a:rPr>
              <a:t>Oar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c521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4920" y="2971800"/>
            <a:ext cx="3274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f800"/>
                </a:solidFill>
                <a:latin typeface="Arial"/>
              </a:rPr>
              <a:t>Dă clic  şi încearcă din n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99ff"/>
                                      </p:to>
                                    </p:animClr>
                                    <p:set>
                                      <p:cBhvr>
                                        <p:cTn id="55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8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9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0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960"/>
                            </p:stCondLst>
                            <p:childTnLst>
                              <p:par>
                                <p:cTn id="5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>
            <a:hlinkClick r:id="rId2" action="ppaction://hlinksldjump"/>
          </p:cNvPr>
          <p:cNvSpPr/>
          <p:nvPr/>
        </p:nvSpPr>
        <p:spPr>
          <a:xfrm>
            <a:off x="4643280" y="3645000"/>
            <a:ext cx="1081080" cy="792000"/>
          </a:xfrm>
          <a:custGeom>
            <a:avLst/>
            <a:gdLst>
              <a:gd name="textAreaLeft" fmla="*/ 51120 w 1081080"/>
              <a:gd name="textAreaRight" fmla="*/ 1029960 w 1081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9480" h="21600">
                <a:moveTo>
                  <a:pt x="0" y="0"/>
                </a:moveTo>
                <a:lnTo>
                  <a:pt x="29480" y="0"/>
                </a:lnTo>
                <a:lnTo>
                  <a:pt x="29480" y="21600"/>
                </a:lnTo>
                <a:lnTo>
                  <a:pt x="0" y="21600"/>
                </a:lnTo>
                <a:close/>
              </a:path>
              <a:path fill="lightenLess" w="29480" h="21600">
                <a:moveTo>
                  <a:pt x="0" y="0"/>
                </a:moveTo>
                <a:lnTo>
                  <a:pt x="29480" y="0"/>
                </a:lnTo>
                <a:lnTo>
                  <a:pt x="28080" y="1400"/>
                </a:lnTo>
                <a:lnTo>
                  <a:pt x="1400" y="1400"/>
                </a:lnTo>
                <a:close/>
              </a:path>
              <a:path fill="darken" w="29480" h="21600">
                <a:moveTo>
                  <a:pt x="29480" y="0"/>
                </a:moveTo>
                <a:lnTo>
                  <a:pt x="29480" y="21600"/>
                </a:lnTo>
                <a:lnTo>
                  <a:pt x="28080" y="20200"/>
                </a:lnTo>
                <a:lnTo>
                  <a:pt x="28080" y="1400"/>
                </a:lnTo>
                <a:close/>
              </a:path>
              <a:path fill="darkenLess" w="29480" h="21600">
                <a:moveTo>
                  <a:pt x="294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80" y="20200"/>
                </a:lnTo>
                <a:close/>
              </a:path>
              <a:path fill="lighten" w="294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80" h="21600">
                <a:moveTo>
                  <a:pt x="7734" y="3794"/>
                </a:moveTo>
                <a:lnTo>
                  <a:pt x="21747" y="10800"/>
                </a:lnTo>
                <a:lnTo>
                  <a:pt x="7734" y="17806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5724360" y="1676520"/>
            <a:ext cx="3419640" cy="494172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468360" y="333360"/>
            <a:ext cx="8242200" cy="12193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304920" y="2971800"/>
            <a:ext cx="3274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f800"/>
                </a:solidFill>
                <a:latin typeface="Arial"/>
              </a:rPr>
              <a:t>Dă clic  şi încearcă din n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0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5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500"/>
                            </p:stCondLst>
                            <p:childTnLst>
                              <p:par>
                                <p:cTn id="585" nodeType="afterEffect" fill="hold" presetClass="entr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7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8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9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2460"/>
                            </p:stCondLst>
                            <p:childTnLst>
                              <p:par>
                                <p:cTn id="5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Se poate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>
            <a:hlinkClick r:id="rId2" action="ppaction://hlinksldjump"/>
          </p:cNvPr>
          <p:cNvSpPr/>
          <p:nvPr/>
        </p:nvSpPr>
        <p:spPr>
          <a:xfrm>
            <a:off x="4356000" y="3429000"/>
            <a:ext cx="1081080" cy="792000"/>
          </a:xfrm>
          <a:custGeom>
            <a:avLst/>
            <a:gdLst>
              <a:gd name="textAreaLeft" fmla="*/ 51120 w 1081080"/>
              <a:gd name="textAreaRight" fmla="*/ 1029960 w 1081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9480" h="21600">
                <a:moveTo>
                  <a:pt x="0" y="0"/>
                </a:moveTo>
                <a:lnTo>
                  <a:pt x="29480" y="0"/>
                </a:lnTo>
                <a:lnTo>
                  <a:pt x="29480" y="21600"/>
                </a:lnTo>
                <a:lnTo>
                  <a:pt x="0" y="21600"/>
                </a:lnTo>
                <a:close/>
              </a:path>
              <a:path fill="lightenLess" w="29480" h="21600">
                <a:moveTo>
                  <a:pt x="0" y="0"/>
                </a:moveTo>
                <a:lnTo>
                  <a:pt x="29480" y="0"/>
                </a:lnTo>
                <a:lnTo>
                  <a:pt x="28080" y="1400"/>
                </a:lnTo>
                <a:lnTo>
                  <a:pt x="1400" y="1400"/>
                </a:lnTo>
                <a:close/>
              </a:path>
              <a:path fill="darken" w="29480" h="21600">
                <a:moveTo>
                  <a:pt x="29480" y="0"/>
                </a:moveTo>
                <a:lnTo>
                  <a:pt x="29480" y="21600"/>
                </a:lnTo>
                <a:lnTo>
                  <a:pt x="28080" y="20200"/>
                </a:lnTo>
                <a:lnTo>
                  <a:pt x="28080" y="1400"/>
                </a:lnTo>
                <a:close/>
              </a:path>
              <a:path fill="darkenLess" w="29480" h="21600">
                <a:moveTo>
                  <a:pt x="294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80" y="20200"/>
                </a:lnTo>
                <a:close/>
              </a:path>
              <a:path fill="lighten" w="294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80" h="21600">
                <a:moveTo>
                  <a:pt x="7734" y="3794"/>
                </a:moveTo>
                <a:lnTo>
                  <a:pt x="21747" y="10800"/>
                </a:lnTo>
                <a:lnTo>
                  <a:pt x="7734" y="17806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3"/>
          <a:stretch/>
        </p:blipFill>
        <p:spPr>
          <a:xfrm>
            <a:off x="5724360" y="1700280"/>
            <a:ext cx="3419640" cy="494172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304920" y="2971800"/>
            <a:ext cx="3274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f800"/>
                </a:solidFill>
                <a:latin typeface="Arial"/>
              </a:rPr>
              <a:t>Dă clic  şi încearcă din n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0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250"/>
                            </p:stCondLst>
                            <p:childTnLst>
                              <p:par>
                                <p:cTn id="6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7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8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9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2610"/>
                            </p:stCondLst>
                            <p:childTnLst>
                              <p:par>
                                <p:cTn id="6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3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4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5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3570"/>
                            </p:stCondLst>
                            <p:childTnLst>
                              <p:par>
                                <p:cTn id="6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324000" y="476280"/>
            <a:ext cx="4213080" cy="336240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-612720" y="1773360"/>
            <a:ext cx="4608360" cy="360036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4"/>
          <a:stretch/>
        </p:blipFill>
        <p:spPr>
          <a:xfrm>
            <a:off x="-252360" y="2421000"/>
            <a:ext cx="3672000" cy="42210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5867280" y="333360"/>
            <a:ext cx="3024360" cy="293040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5292720" y="1413000"/>
            <a:ext cx="3851280" cy="373068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5508720" y="3335400"/>
            <a:ext cx="3635280" cy="35226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971640" y="1773360"/>
            <a:ext cx="7940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 rot="30600">
            <a:off x="179280" y="1627920"/>
            <a:ext cx="20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11280" y="5013360"/>
            <a:ext cx="35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372360" y="1628640"/>
            <a:ext cx="215892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cc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156360" y="2852640"/>
            <a:ext cx="21589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cc0000"/>
                </a:solidFill>
                <a:latin typeface="Comic Sans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11280" y="4724280"/>
            <a:ext cx="2158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cc0000"/>
                </a:solidFill>
                <a:latin typeface="Arial"/>
              </a:rPr>
              <a:t>1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>
            <a:hlinkClick r:id="rId8" action="ppaction://hlinksldjump"/>
          </p:cNvPr>
          <p:cNvSpPr/>
          <p:nvPr/>
        </p:nvSpPr>
        <p:spPr>
          <a:xfrm>
            <a:off x="6516720" y="1700280"/>
            <a:ext cx="2016000" cy="1008000"/>
          </a:xfrm>
          <a:custGeom>
            <a:avLst/>
            <a:gdLst>
              <a:gd name="textAreaLeft" fmla="*/ 65160 w 2016000"/>
              <a:gd name="textAreaRight" fmla="*/ 1950840 w 2016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43192" h="21600">
                <a:moveTo>
                  <a:pt x="0" y="0"/>
                </a:moveTo>
                <a:lnTo>
                  <a:pt x="43192" y="0"/>
                </a:lnTo>
                <a:lnTo>
                  <a:pt x="43192" y="21600"/>
                </a:lnTo>
                <a:lnTo>
                  <a:pt x="0" y="21600"/>
                </a:lnTo>
                <a:close/>
              </a:path>
              <a:path fill="lightenLess" w="43192" h="21600">
                <a:moveTo>
                  <a:pt x="0" y="0"/>
                </a:moveTo>
                <a:lnTo>
                  <a:pt x="43192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2" h="21600">
                <a:moveTo>
                  <a:pt x="43192" y="0"/>
                </a:moveTo>
                <a:lnTo>
                  <a:pt x="43192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2" h="21600">
                <a:moveTo>
                  <a:pt x="431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92" h="21600">
                <a:moveTo>
                  <a:pt x="14590" y="3794"/>
                </a:moveTo>
                <a:lnTo>
                  <a:pt x="28603" y="10800"/>
                </a:lnTo>
                <a:lnTo>
                  <a:pt x="1459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>
            <a:hlinkClick r:id="rId9" action="ppaction://hlinksldjump"/>
          </p:cNvPr>
          <p:cNvSpPr/>
          <p:nvPr/>
        </p:nvSpPr>
        <p:spPr>
          <a:xfrm>
            <a:off x="6300720" y="2997360"/>
            <a:ext cx="2016360" cy="934920"/>
          </a:xfrm>
          <a:custGeom>
            <a:avLst/>
            <a:gdLst>
              <a:gd name="textAreaLeft" fmla="*/ 60480 w 2016360"/>
              <a:gd name="textAreaRight" fmla="*/ 1955880 w 201636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46576" h="21600">
                <a:moveTo>
                  <a:pt x="0" y="0"/>
                </a:moveTo>
                <a:lnTo>
                  <a:pt x="46576" y="0"/>
                </a:lnTo>
                <a:lnTo>
                  <a:pt x="46576" y="21600"/>
                </a:lnTo>
                <a:lnTo>
                  <a:pt x="0" y="21600"/>
                </a:lnTo>
                <a:close/>
              </a:path>
              <a:path fill="lightenLess" w="46576" h="21600">
                <a:moveTo>
                  <a:pt x="0" y="0"/>
                </a:moveTo>
                <a:lnTo>
                  <a:pt x="46576" y="0"/>
                </a:lnTo>
                <a:lnTo>
                  <a:pt x="45176" y="1400"/>
                </a:lnTo>
                <a:lnTo>
                  <a:pt x="1400" y="1400"/>
                </a:lnTo>
                <a:close/>
              </a:path>
              <a:path fill="darken" w="46576" h="21600">
                <a:moveTo>
                  <a:pt x="46576" y="0"/>
                </a:moveTo>
                <a:lnTo>
                  <a:pt x="46576" y="21600"/>
                </a:lnTo>
                <a:lnTo>
                  <a:pt x="45176" y="20200"/>
                </a:lnTo>
                <a:lnTo>
                  <a:pt x="45176" y="1400"/>
                </a:lnTo>
                <a:close/>
              </a:path>
              <a:path fill="darkenLess" w="46576" h="21600">
                <a:moveTo>
                  <a:pt x="46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176" y="20200"/>
                </a:lnTo>
                <a:close/>
              </a:path>
              <a:path fill="lighten" w="46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576" h="21600">
                <a:moveTo>
                  <a:pt x="16281" y="3794"/>
                </a:moveTo>
                <a:lnTo>
                  <a:pt x="30294" y="10800"/>
                </a:lnTo>
                <a:lnTo>
                  <a:pt x="16281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>
            <a:hlinkClick r:id="rId10" action="ppaction://hlinksldjump"/>
          </p:cNvPr>
          <p:cNvSpPr/>
          <p:nvPr/>
        </p:nvSpPr>
        <p:spPr>
          <a:xfrm>
            <a:off x="971640" y="4724280"/>
            <a:ext cx="2016000" cy="935280"/>
          </a:xfrm>
          <a:custGeom>
            <a:avLst/>
            <a:gdLst>
              <a:gd name="textAreaLeft" fmla="*/ 60480 w 2016000"/>
              <a:gd name="textAreaRight" fmla="*/ 1955520 w 2016000"/>
              <a:gd name="textAreaTop" fmla="*/ 60480 h 935280"/>
              <a:gd name="textAreaBottom" fmla="*/ 874800 h 935280"/>
            </a:gdLst>
            <a:ahLst/>
            <a:rect l="textAreaLeft" t="textAreaTop" r="textAreaRight" b="textAreaBottom"/>
            <a:pathLst>
              <a:path w="46549" h="21600">
                <a:moveTo>
                  <a:pt x="0" y="0"/>
                </a:moveTo>
                <a:lnTo>
                  <a:pt x="46549" y="0"/>
                </a:lnTo>
                <a:lnTo>
                  <a:pt x="46549" y="21600"/>
                </a:lnTo>
                <a:lnTo>
                  <a:pt x="0" y="21600"/>
                </a:lnTo>
                <a:close/>
              </a:path>
              <a:path fill="lightenLess" w="46549" h="21600">
                <a:moveTo>
                  <a:pt x="0" y="0"/>
                </a:moveTo>
                <a:lnTo>
                  <a:pt x="46549" y="0"/>
                </a:lnTo>
                <a:lnTo>
                  <a:pt x="45149" y="1400"/>
                </a:lnTo>
                <a:lnTo>
                  <a:pt x="1400" y="1400"/>
                </a:lnTo>
                <a:close/>
              </a:path>
              <a:path fill="darken" w="46549" h="21600">
                <a:moveTo>
                  <a:pt x="46549" y="0"/>
                </a:moveTo>
                <a:lnTo>
                  <a:pt x="46549" y="21600"/>
                </a:lnTo>
                <a:lnTo>
                  <a:pt x="45149" y="20200"/>
                </a:lnTo>
                <a:lnTo>
                  <a:pt x="45149" y="1400"/>
                </a:lnTo>
                <a:close/>
              </a:path>
              <a:path fill="darkenLess" w="46549" h="21600">
                <a:moveTo>
                  <a:pt x="46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149" y="20200"/>
                </a:lnTo>
                <a:close/>
              </a:path>
              <a:path fill="lighten" w="46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549" h="21600">
                <a:moveTo>
                  <a:pt x="16268" y="3794"/>
                </a:moveTo>
                <a:lnTo>
                  <a:pt x="30281" y="10800"/>
                </a:lnTo>
                <a:lnTo>
                  <a:pt x="16268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403280" y="2060640"/>
            <a:ext cx="2158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cc0000"/>
                </a:solidFill>
                <a:latin typeface="Comic Sans MS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84360" y="3357720"/>
            <a:ext cx="21589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cc0000"/>
                </a:solidFill>
                <a:latin typeface="Comic Sans MS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297480" y="4869000"/>
            <a:ext cx="21592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cc0000"/>
                </a:solidFill>
                <a:latin typeface="Comic Sans MS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>
            <a:hlinkClick r:id="rId11" action="ppaction://hlinksldjump"/>
          </p:cNvPr>
          <p:cNvSpPr/>
          <p:nvPr/>
        </p:nvSpPr>
        <p:spPr>
          <a:xfrm>
            <a:off x="684360" y="3284640"/>
            <a:ext cx="2158920" cy="1008000"/>
          </a:xfrm>
          <a:custGeom>
            <a:avLst/>
            <a:gdLst>
              <a:gd name="textAreaLeft" fmla="*/ 65160 w 2158920"/>
              <a:gd name="textAreaRight" fmla="*/ 2093760 w 215892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46254" h="21600">
                <a:moveTo>
                  <a:pt x="0" y="0"/>
                </a:moveTo>
                <a:lnTo>
                  <a:pt x="46254" y="0"/>
                </a:lnTo>
                <a:lnTo>
                  <a:pt x="46254" y="21600"/>
                </a:lnTo>
                <a:lnTo>
                  <a:pt x="0" y="21600"/>
                </a:lnTo>
                <a:close/>
              </a:path>
              <a:path fill="lightenLess" w="46254" h="21600">
                <a:moveTo>
                  <a:pt x="0" y="0"/>
                </a:moveTo>
                <a:lnTo>
                  <a:pt x="46254" y="0"/>
                </a:lnTo>
                <a:lnTo>
                  <a:pt x="44854" y="1400"/>
                </a:lnTo>
                <a:lnTo>
                  <a:pt x="1400" y="1400"/>
                </a:lnTo>
                <a:close/>
              </a:path>
              <a:path fill="darken" w="46254" h="21600">
                <a:moveTo>
                  <a:pt x="46254" y="0"/>
                </a:moveTo>
                <a:lnTo>
                  <a:pt x="46254" y="21600"/>
                </a:lnTo>
                <a:lnTo>
                  <a:pt x="44854" y="20200"/>
                </a:lnTo>
                <a:lnTo>
                  <a:pt x="44854" y="1400"/>
                </a:lnTo>
                <a:close/>
              </a:path>
              <a:path fill="darkenLess" w="46254" h="21600">
                <a:moveTo>
                  <a:pt x="46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54" y="20200"/>
                </a:lnTo>
                <a:close/>
              </a:path>
              <a:path fill="lighten" w="46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54" h="21600">
                <a:moveTo>
                  <a:pt x="16120" y="3794"/>
                </a:moveTo>
                <a:lnTo>
                  <a:pt x="30133" y="10800"/>
                </a:lnTo>
                <a:lnTo>
                  <a:pt x="1612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rId12" action="ppaction://hlinksldjump"/>
          </p:cNvPr>
          <p:cNvSpPr/>
          <p:nvPr/>
        </p:nvSpPr>
        <p:spPr>
          <a:xfrm>
            <a:off x="1619280" y="2060640"/>
            <a:ext cx="2087640" cy="1008000"/>
          </a:xfrm>
          <a:custGeom>
            <a:avLst/>
            <a:gdLst>
              <a:gd name="textAreaLeft" fmla="*/ 65160 w 2087640"/>
              <a:gd name="textAreaRight" fmla="*/ 2022480 w 208764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44727" h="21600">
                <a:moveTo>
                  <a:pt x="0" y="0"/>
                </a:moveTo>
                <a:lnTo>
                  <a:pt x="44727" y="0"/>
                </a:lnTo>
                <a:lnTo>
                  <a:pt x="44727" y="21600"/>
                </a:lnTo>
                <a:lnTo>
                  <a:pt x="0" y="21600"/>
                </a:lnTo>
                <a:close/>
              </a:path>
              <a:path fill="lightenLess" w="44727" h="21600">
                <a:moveTo>
                  <a:pt x="0" y="0"/>
                </a:moveTo>
                <a:lnTo>
                  <a:pt x="44727" y="0"/>
                </a:lnTo>
                <a:lnTo>
                  <a:pt x="43327" y="1400"/>
                </a:lnTo>
                <a:lnTo>
                  <a:pt x="1400" y="1400"/>
                </a:lnTo>
                <a:close/>
              </a:path>
              <a:path fill="darken" w="44727" h="21600">
                <a:moveTo>
                  <a:pt x="44727" y="0"/>
                </a:moveTo>
                <a:lnTo>
                  <a:pt x="44727" y="21600"/>
                </a:lnTo>
                <a:lnTo>
                  <a:pt x="43327" y="20200"/>
                </a:lnTo>
                <a:lnTo>
                  <a:pt x="43327" y="1400"/>
                </a:lnTo>
                <a:close/>
              </a:path>
              <a:path fill="darkenLess" w="44727" h="21600">
                <a:moveTo>
                  <a:pt x="447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327" y="20200"/>
                </a:lnTo>
                <a:close/>
              </a:path>
              <a:path fill="lighten" w="447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727" h="21600">
                <a:moveTo>
                  <a:pt x="15357" y="3794"/>
                </a:moveTo>
                <a:lnTo>
                  <a:pt x="29370" y="10800"/>
                </a:lnTo>
                <a:lnTo>
                  <a:pt x="15357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>
            <a:hlinkClick r:id="rId13" action="ppaction://hlinksldjump"/>
          </p:cNvPr>
          <p:cNvSpPr/>
          <p:nvPr/>
        </p:nvSpPr>
        <p:spPr>
          <a:xfrm>
            <a:off x="6443640" y="4869000"/>
            <a:ext cx="2085840" cy="1008000"/>
          </a:xfrm>
          <a:custGeom>
            <a:avLst/>
            <a:gdLst>
              <a:gd name="textAreaLeft" fmla="*/ 65160 w 2085840"/>
              <a:gd name="textAreaRight" fmla="*/ 2020680 w 208584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44688" h="21600">
                <a:moveTo>
                  <a:pt x="0" y="0"/>
                </a:moveTo>
                <a:lnTo>
                  <a:pt x="44688" y="0"/>
                </a:lnTo>
                <a:lnTo>
                  <a:pt x="44688" y="21600"/>
                </a:lnTo>
                <a:lnTo>
                  <a:pt x="0" y="21600"/>
                </a:lnTo>
                <a:close/>
              </a:path>
              <a:path fill="lightenLess" w="44688" h="21600">
                <a:moveTo>
                  <a:pt x="0" y="0"/>
                </a:moveTo>
                <a:lnTo>
                  <a:pt x="44688" y="0"/>
                </a:lnTo>
                <a:lnTo>
                  <a:pt x="43288" y="1400"/>
                </a:lnTo>
                <a:lnTo>
                  <a:pt x="1400" y="1400"/>
                </a:lnTo>
                <a:close/>
              </a:path>
              <a:path fill="darken" w="44688" h="21600">
                <a:moveTo>
                  <a:pt x="44688" y="0"/>
                </a:moveTo>
                <a:lnTo>
                  <a:pt x="44688" y="21600"/>
                </a:lnTo>
                <a:lnTo>
                  <a:pt x="43288" y="20200"/>
                </a:lnTo>
                <a:lnTo>
                  <a:pt x="43288" y="1400"/>
                </a:lnTo>
                <a:close/>
              </a:path>
              <a:path fill="darkenLess" w="44688" h="21600">
                <a:moveTo>
                  <a:pt x="4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288" y="20200"/>
                </a:lnTo>
                <a:close/>
              </a:path>
              <a:path fill="lighten" w="4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688" h="21600">
                <a:moveTo>
                  <a:pt x="15338" y="3794"/>
                </a:moveTo>
                <a:lnTo>
                  <a:pt x="29351" y="10800"/>
                </a:lnTo>
                <a:lnTo>
                  <a:pt x="15338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4"/>
          <a:stretch/>
        </p:blipFill>
        <p:spPr>
          <a:xfrm>
            <a:off x="3203640" y="4365720"/>
            <a:ext cx="2130480" cy="249228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15"/>
          <a:stretch/>
        </p:blipFill>
        <p:spPr>
          <a:xfrm>
            <a:off x="755640" y="0"/>
            <a:ext cx="8242200" cy="164448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16"/>
          <a:stretch/>
        </p:blipFill>
        <p:spPr>
          <a:xfrm>
            <a:off x="3564000" y="3357720"/>
            <a:ext cx="2066760" cy="146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000"/>
                            </p:stCondLst>
                            <p:childTnLst>
                              <p:par>
                                <p:cTn id="6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>
            <a:hlinkClick r:id="rId2" action="ppaction://hlinksldjump"/>
          </p:cNvPr>
          <p:cNvSpPr/>
          <p:nvPr/>
        </p:nvSpPr>
        <p:spPr>
          <a:xfrm>
            <a:off x="5076720" y="4005360"/>
            <a:ext cx="863640" cy="1008000"/>
          </a:xfrm>
          <a:custGeom>
            <a:avLst/>
            <a:gdLst>
              <a:gd name="textAreaLeft" fmla="*/ 55800 w 863640"/>
              <a:gd name="textAreaRight" fmla="*/ 807840 w 863640"/>
              <a:gd name="textAreaTop" fmla="*/ 55800 h 1008000"/>
              <a:gd name="textAreaBottom" fmla="*/ 952200 h 1008000"/>
            </a:gdLst>
            <a:ahLst/>
            <a:rect l="textAreaLeft" t="textAreaTop" r="textAreaRight" b="textAreaBottom"/>
            <a:pathLst>
              <a:path w="21600" h="25209">
                <a:moveTo>
                  <a:pt x="0" y="0"/>
                </a:moveTo>
                <a:lnTo>
                  <a:pt x="21600" y="0"/>
                </a:lnTo>
                <a:lnTo>
                  <a:pt x="21600" y="25209"/>
                </a:lnTo>
                <a:lnTo>
                  <a:pt x="0" y="25209"/>
                </a:lnTo>
                <a:close/>
              </a:path>
              <a:path fill="lightenLess" w="21600" h="25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9">
                <a:moveTo>
                  <a:pt x="21600" y="0"/>
                </a:moveTo>
                <a:lnTo>
                  <a:pt x="21600" y="25209"/>
                </a:lnTo>
                <a:lnTo>
                  <a:pt x="20200" y="23809"/>
                </a:lnTo>
                <a:lnTo>
                  <a:pt x="20200" y="1400"/>
                </a:lnTo>
                <a:close/>
              </a:path>
              <a:path fill="darkenLess" w="21600" h="25209">
                <a:moveTo>
                  <a:pt x="21600" y="25209"/>
                </a:moveTo>
                <a:lnTo>
                  <a:pt x="0" y="25209"/>
                </a:lnTo>
                <a:lnTo>
                  <a:pt x="1400" y="23809"/>
                </a:lnTo>
                <a:lnTo>
                  <a:pt x="20200" y="23809"/>
                </a:lnTo>
                <a:close/>
              </a:path>
              <a:path fill="lighten" w="21600" h="25209">
                <a:moveTo>
                  <a:pt x="0" y="25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9"/>
                </a:lnTo>
                <a:close/>
              </a:path>
              <a:path fill="darken" w="21600" h="25209">
                <a:moveTo>
                  <a:pt x="3794" y="5598"/>
                </a:moveTo>
                <a:lnTo>
                  <a:pt x="17806" y="12605"/>
                </a:lnTo>
                <a:lnTo>
                  <a:pt x="3794" y="19611"/>
                </a:lnTo>
                <a:close/>
              </a:path>
            </a:pathLst>
          </a:custGeom>
          <a:solidFill>
            <a:srgbClr val="ffff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3"/>
          <a:stretch/>
        </p:blipFill>
        <p:spPr>
          <a:xfrm>
            <a:off x="1042920" y="6245280"/>
            <a:ext cx="144360" cy="14436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4"/>
          <a:stretch/>
        </p:blipFill>
        <p:spPr>
          <a:xfrm>
            <a:off x="6659640" y="3429000"/>
            <a:ext cx="2219400" cy="299736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5"/>
          <a:stretch/>
        </p:blipFill>
        <p:spPr>
          <a:xfrm>
            <a:off x="468360" y="404640"/>
            <a:ext cx="8242200" cy="115740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6"/>
          <a:stretch/>
        </p:blipFill>
        <p:spPr>
          <a:xfrm>
            <a:off x="250920" y="1628640"/>
            <a:ext cx="4271760" cy="453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77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0" dur="770" fill="hold"/>
                                        <p:tgtEl>
                                          <p:spTgt spid="3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2" dur="77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4" dur="77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2000"/>
                            </p:stCondLst>
                            <p:childTnLst>
                              <p:par>
                                <p:cTn id="64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724360" y="1700280"/>
            <a:ext cx="3419640" cy="49417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971640" y="189000"/>
            <a:ext cx="727236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Mai gândeşte-te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28" name="">
            <a:hlinkClick r:id="rId3" action="ppaction://hlinksldjump"/>
          </p:cNvPr>
          <p:cNvSpPr/>
          <p:nvPr/>
        </p:nvSpPr>
        <p:spPr>
          <a:xfrm>
            <a:off x="4114800" y="4343400"/>
            <a:ext cx="1081080" cy="792000"/>
          </a:xfrm>
          <a:custGeom>
            <a:avLst/>
            <a:gdLst>
              <a:gd name="textAreaLeft" fmla="*/ 51120 w 1081080"/>
              <a:gd name="textAreaRight" fmla="*/ 1029960 w 1081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9480" h="21600">
                <a:moveTo>
                  <a:pt x="0" y="0"/>
                </a:moveTo>
                <a:lnTo>
                  <a:pt x="29480" y="0"/>
                </a:lnTo>
                <a:lnTo>
                  <a:pt x="29480" y="21600"/>
                </a:lnTo>
                <a:lnTo>
                  <a:pt x="0" y="21600"/>
                </a:lnTo>
                <a:close/>
              </a:path>
              <a:path fill="lightenLess" w="29480" h="21600">
                <a:moveTo>
                  <a:pt x="0" y="0"/>
                </a:moveTo>
                <a:lnTo>
                  <a:pt x="29480" y="0"/>
                </a:lnTo>
                <a:lnTo>
                  <a:pt x="28080" y="1400"/>
                </a:lnTo>
                <a:lnTo>
                  <a:pt x="1400" y="1400"/>
                </a:lnTo>
                <a:close/>
              </a:path>
              <a:path fill="darken" w="29480" h="21600">
                <a:moveTo>
                  <a:pt x="29480" y="0"/>
                </a:moveTo>
                <a:lnTo>
                  <a:pt x="29480" y="21600"/>
                </a:lnTo>
                <a:lnTo>
                  <a:pt x="28080" y="20200"/>
                </a:lnTo>
                <a:lnTo>
                  <a:pt x="28080" y="1400"/>
                </a:lnTo>
                <a:close/>
              </a:path>
              <a:path fill="darkenLess" w="29480" h="21600">
                <a:moveTo>
                  <a:pt x="294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80" y="20200"/>
                </a:lnTo>
                <a:close/>
              </a:path>
              <a:path fill="lighten" w="294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80" h="21600">
                <a:moveTo>
                  <a:pt x="7734" y="3794"/>
                </a:moveTo>
                <a:lnTo>
                  <a:pt x="21747" y="10800"/>
                </a:lnTo>
                <a:lnTo>
                  <a:pt x="7734" y="17806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2971800"/>
            <a:ext cx="3274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f800"/>
                </a:solidFill>
                <a:latin typeface="Arial"/>
              </a:rPr>
              <a:t>Dă clic  şi încearcă din n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96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6164280" y="2362320"/>
            <a:ext cx="2813040" cy="4235400"/>
          </a:xfrm>
          <a:prstGeom prst="rect">
            <a:avLst/>
          </a:prstGeom>
          <a:ln w="0">
            <a:noFill/>
          </a:ln>
        </p:spPr>
      </p:pic>
      <p:sp>
        <p:nvSpPr>
          <p:cNvPr id="322" name="">
            <a:hlinkClick r:id="rId3" action="ppaction://hlinksldjump"/>
          </p:cNvPr>
          <p:cNvSpPr/>
          <p:nvPr/>
        </p:nvSpPr>
        <p:spPr>
          <a:xfrm>
            <a:off x="4648320" y="3657600"/>
            <a:ext cx="863640" cy="1008000"/>
          </a:xfrm>
          <a:custGeom>
            <a:avLst/>
            <a:gdLst>
              <a:gd name="textAreaLeft" fmla="*/ 55800 w 863640"/>
              <a:gd name="textAreaRight" fmla="*/ 807840 w 863640"/>
              <a:gd name="textAreaTop" fmla="*/ 55800 h 1008000"/>
              <a:gd name="textAreaBottom" fmla="*/ 952200 h 1008000"/>
            </a:gdLst>
            <a:ahLst/>
            <a:rect l="textAreaLeft" t="textAreaTop" r="textAreaRight" b="textAreaBottom"/>
            <a:pathLst>
              <a:path w="21600" h="25209">
                <a:moveTo>
                  <a:pt x="0" y="0"/>
                </a:moveTo>
                <a:lnTo>
                  <a:pt x="21600" y="0"/>
                </a:lnTo>
                <a:lnTo>
                  <a:pt x="21600" y="25209"/>
                </a:lnTo>
                <a:lnTo>
                  <a:pt x="0" y="25209"/>
                </a:lnTo>
                <a:close/>
              </a:path>
              <a:path fill="lightenLess" w="21600" h="25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9">
                <a:moveTo>
                  <a:pt x="21600" y="0"/>
                </a:moveTo>
                <a:lnTo>
                  <a:pt x="21600" y="25209"/>
                </a:lnTo>
                <a:lnTo>
                  <a:pt x="20200" y="23809"/>
                </a:lnTo>
                <a:lnTo>
                  <a:pt x="20200" y="1400"/>
                </a:lnTo>
                <a:close/>
              </a:path>
              <a:path fill="darkenLess" w="21600" h="25209">
                <a:moveTo>
                  <a:pt x="21600" y="25209"/>
                </a:moveTo>
                <a:lnTo>
                  <a:pt x="0" y="25209"/>
                </a:lnTo>
                <a:lnTo>
                  <a:pt x="1400" y="23809"/>
                </a:lnTo>
                <a:lnTo>
                  <a:pt x="20200" y="23809"/>
                </a:lnTo>
                <a:close/>
              </a:path>
              <a:path fill="lighten" w="21600" h="25209">
                <a:moveTo>
                  <a:pt x="0" y="25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9"/>
                </a:lnTo>
                <a:close/>
              </a:path>
              <a:path fill="darken" w="21600" h="25209">
                <a:moveTo>
                  <a:pt x="3794" y="5598"/>
                </a:moveTo>
                <a:lnTo>
                  <a:pt x="17806" y="12605"/>
                </a:lnTo>
                <a:lnTo>
                  <a:pt x="3794" y="19611"/>
                </a:lnTo>
                <a:close/>
              </a:path>
            </a:pathLst>
          </a:custGeom>
          <a:solidFill>
            <a:srgbClr val="ffff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0" y="2514240"/>
            <a:ext cx="41911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f800"/>
                </a:solidFill>
                <a:latin typeface="Arial"/>
              </a:rPr>
              <a:t>Dă clic  şi încearcă din n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0880" y="228600"/>
            <a:ext cx="876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Mai trebuie                           să te antrenezi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0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after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6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6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6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6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650"/>
                            </p:stCondLst>
                            <p:childTnLst>
                              <p:par>
                                <p:cTn id="669" nodeType="afterEffect" fill="hold" presetClass="entr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1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2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3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2610"/>
                            </p:stCondLst>
                            <p:childTnLst>
                              <p:par>
                                <p:cTn id="675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Se poate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>
            <a:hlinkClick r:id="rId2" action="ppaction://hlinksldjump"/>
          </p:cNvPr>
          <p:cNvSpPr/>
          <p:nvPr/>
        </p:nvSpPr>
        <p:spPr>
          <a:xfrm>
            <a:off x="4356000" y="3429000"/>
            <a:ext cx="1081080" cy="792000"/>
          </a:xfrm>
          <a:custGeom>
            <a:avLst/>
            <a:gdLst>
              <a:gd name="textAreaLeft" fmla="*/ 51120 w 1081080"/>
              <a:gd name="textAreaRight" fmla="*/ 1029960 w 1081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9480" h="21600">
                <a:moveTo>
                  <a:pt x="0" y="0"/>
                </a:moveTo>
                <a:lnTo>
                  <a:pt x="29480" y="0"/>
                </a:lnTo>
                <a:lnTo>
                  <a:pt x="29480" y="21600"/>
                </a:lnTo>
                <a:lnTo>
                  <a:pt x="0" y="21600"/>
                </a:lnTo>
                <a:close/>
              </a:path>
              <a:path fill="lightenLess" w="29480" h="21600">
                <a:moveTo>
                  <a:pt x="0" y="0"/>
                </a:moveTo>
                <a:lnTo>
                  <a:pt x="29480" y="0"/>
                </a:lnTo>
                <a:lnTo>
                  <a:pt x="28080" y="1400"/>
                </a:lnTo>
                <a:lnTo>
                  <a:pt x="1400" y="1400"/>
                </a:lnTo>
                <a:close/>
              </a:path>
              <a:path fill="darken" w="29480" h="21600">
                <a:moveTo>
                  <a:pt x="29480" y="0"/>
                </a:moveTo>
                <a:lnTo>
                  <a:pt x="29480" y="21600"/>
                </a:lnTo>
                <a:lnTo>
                  <a:pt x="28080" y="20200"/>
                </a:lnTo>
                <a:lnTo>
                  <a:pt x="28080" y="1400"/>
                </a:lnTo>
                <a:close/>
              </a:path>
              <a:path fill="darkenLess" w="29480" h="21600">
                <a:moveTo>
                  <a:pt x="294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80" y="20200"/>
                </a:lnTo>
                <a:close/>
              </a:path>
              <a:path fill="lighten" w="294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80" h="21600">
                <a:moveTo>
                  <a:pt x="7734" y="3794"/>
                </a:moveTo>
                <a:lnTo>
                  <a:pt x="21747" y="10800"/>
                </a:lnTo>
                <a:lnTo>
                  <a:pt x="7734" y="17806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5724360" y="1700280"/>
            <a:ext cx="3419640" cy="494172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304920" y="2971800"/>
            <a:ext cx="3274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f800"/>
                </a:solidFill>
                <a:latin typeface="Arial"/>
              </a:rPr>
              <a:t>Dă clic  şi încearcă din n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0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afterEffect" fill="hold" presetClass="entr" presetID="5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8" nodeType="afterEffect" fill="hold" presetClass="entr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0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1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2" dur="8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1960"/>
                            </p:stCondLst>
                            <p:childTnLst>
                              <p:par>
                                <p:cTn id="6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>
            <a:hlinkClick r:id="rId2" action="ppaction://hlinksldjump"/>
          </p:cNvPr>
          <p:cNvSpPr/>
          <p:nvPr/>
        </p:nvSpPr>
        <p:spPr>
          <a:xfrm>
            <a:off x="4643280" y="3645000"/>
            <a:ext cx="1081080" cy="792000"/>
          </a:xfrm>
          <a:custGeom>
            <a:avLst/>
            <a:gdLst>
              <a:gd name="textAreaLeft" fmla="*/ 51120 w 1081080"/>
              <a:gd name="textAreaRight" fmla="*/ 1029960 w 1081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9480" h="21600">
                <a:moveTo>
                  <a:pt x="0" y="0"/>
                </a:moveTo>
                <a:lnTo>
                  <a:pt x="29480" y="0"/>
                </a:lnTo>
                <a:lnTo>
                  <a:pt x="29480" y="21600"/>
                </a:lnTo>
                <a:lnTo>
                  <a:pt x="0" y="21600"/>
                </a:lnTo>
                <a:close/>
              </a:path>
              <a:path fill="lightenLess" w="29480" h="21600">
                <a:moveTo>
                  <a:pt x="0" y="0"/>
                </a:moveTo>
                <a:lnTo>
                  <a:pt x="29480" y="0"/>
                </a:lnTo>
                <a:lnTo>
                  <a:pt x="28080" y="1400"/>
                </a:lnTo>
                <a:lnTo>
                  <a:pt x="1400" y="1400"/>
                </a:lnTo>
                <a:close/>
              </a:path>
              <a:path fill="darken" w="29480" h="21600">
                <a:moveTo>
                  <a:pt x="29480" y="0"/>
                </a:moveTo>
                <a:lnTo>
                  <a:pt x="29480" y="21600"/>
                </a:lnTo>
                <a:lnTo>
                  <a:pt x="28080" y="20200"/>
                </a:lnTo>
                <a:lnTo>
                  <a:pt x="28080" y="1400"/>
                </a:lnTo>
                <a:close/>
              </a:path>
              <a:path fill="darkenLess" w="29480" h="21600">
                <a:moveTo>
                  <a:pt x="294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80" y="20200"/>
                </a:lnTo>
                <a:close/>
              </a:path>
              <a:path fill="lighten" w="294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80" h="21600">
                <a:moveTo>
                  <a:pt x="7734" y="3794"/>
                </a:moveTo>
                <a:lnTo>
                  <a:pt x="21747" y="10800"/>
                </a:lnTo>
                <a:lnTo>
                  <a:pt x="7734" y="17806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5724360" y="1700280"/>
            <a:ext cx="3419640" cy="494172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4"/>
          <a:stretch/>
        </p:blipFill>
        <p:spPr>
          <a:xfrm>
            <a:off x="468360" y="333360"/>
            <a:ext cx="8242200" cy="121932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685800" y="2971800"/>
            <a:ext cx="3274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f800"/>
                </a:solidFill>
                <a:latin typeface="Arial"/>
              </a:rPr>
              <a:t>Dă clic  şi încearcă din n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0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afterEffect" fill="hold" presetClass="entr" presetID="2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1" nodeType="afterEffect" fill="hold" presetClass="entr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3" dur="8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4" dur="8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5" dur="8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960"/>
                            </p:stCondLst>
                            <p:childTnLst>
                              <p:par>
                                <p:cTn id="7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>
            <a:hlinkClick r:id="rId2" action="ppaction://hlinksldjump"/>
          </p:cNvPr>
          <p:cNvSpPr/>
          <p:nvPr/>
        </p:nvSpPr>
        <p:spPr>
          <a:xfrm>
            <a:off x="3505320" y="4419720"/>
            <a:ext cx="936360" cy="792000"/>
          </a:xfrm>
          <a:custGeom>
            <a:avLst/>
            <a:gdLst>
              <a:gd name="textAreaLeft" fmla="*/ 51120 w 936360"/>
              <a:gd name="textAreaRight" fmla="*/ 885240 w 936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5535" h="21600">
                <a:moveTo>
                  <a:pt x="0" y="0"/>
                </a:moveTo>
                <a:lnTo>
                  <a:pt x="25535" y="0"/>
                </a:lnTo>
                <a:lnTo>
                  <a:pt x="25535" y="21600"/>
                </a:lnTo>
                <a:lnTo>
                  <a:pt x="0" y="21600"/>
                </a:lnTo>
                <a:close/>
              </a:path>
              <a:path fill="lightenLess" w="25535" h="21600">
                <a:moveTo>
                  <a:pt x="0" y="0"/>
                </a:moveTo>
                <a:lnTo>
                  <a:pt x="25535" y="0"/>
                </a:lnTo>
                <a:lnTo>
                  <a:pt x="24135" y="1400"/>
                </a:lnTo>
                <a:lnTo>
                  <a:pt x="1400" y="1400"/>
                </a:lnTo>
                <a:close/>
              </a:path>
              <a:path fill="darken" w="25535" h="21600">
                <a:moveTo>
                  <a:pt x="25535" y="0"/>
                </a:moveTo>
                <a:lnTo>
                  <a:pt x="25535" y="21600"/>
                </a:lnTo>
                <a:lnTo>
                  <a:pt x="24135" y="20200"/>
                </a:lnTo>
                <a:lnTo>
                  <a:pt x="24135" y="1400"/>
                </a:lnTo>
                <a:close/>
              </a:path>
              <a:path fill="darkenLess" w="25535" h="21600">
                <a:moveTo>
                  <a:pt x="255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5" y="20200"/>
                </a:lnTo>
                <a:close/>
              </a:path>
              <a:path fill="lighten" w="255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5" h="21600">
                <a:moveTo>
                  <a:pt x="5761" y="3794"/>
                </a:moveTo>
                <a:lnTo>
                  <a:pt x="19774" y="10800"/>
                </a:lnTo>
                <a:lnTo>
                  <a:pt x="5761" y="17806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5257800" y="2743200"/>
            <a:ext cx="3238560" cy="388764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2771640" y="404640"/>
            <a:ext cx="39592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c521"/>
                    </a:gs>
                  </a:gsLst>
                  <a:lin ang="5400000"/>
                </a:gradFill>
                <a:latin typeface="Times New Roman"/>
              </a:rPr>
              <a:t>Oar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c521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2895480"/>
            <a:ext cx="3274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f800"/>
                </a:solidFill>
                <a:latin typeface="Arial"/>
              </a:rPr>
              <a:t>Dă clic  şi încearcă din n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0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1000"/>
                            </p:stCondLst>
                            <p:childTnLst>
                              <p:par>
                                <p:cTn id="730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99ff"/>
                                      </p:to>
                                    </p:animClr>
                                    <p:set>
                                      <p:cBhvr>
                                        <p:cTn id="73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1500"/>
                            </p:stCondLst>
                            <p:childTnLst>
                              <p:par>
                                <p:cTn id="7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6" dur="8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7" dur="8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8" dur="8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2460"/>
                            </p:stCondLst>
                            <p:childTnLst>
                              <p:par>
                                <p:cTn id="7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6443640" y="2852640"/>
            <a:ext cx="1933560" cy="17877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3"/>
          <a:stretch/>
        </p:blipFill>
        <p:spPr>
          <a:xfrm>
            <a:off x="6300720" y="1125360"/>
            <a:ext cx="2156040" cy="211788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4"/>
          <a:stretch/>
        </p:blipFill>
        <p:spPr>
          <a:xfrm>
            <a:off x="0" y="981000"/>
            <a:ext cx="2556000" cy="244800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5"/>
          <a:stretch/>
        </p:blipFill>
        <p:spPr>
          <a:xfrm>
            <a:off x="6300720" y="4437000"/>
            <a:ext cx="2371680" cy="196704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6"/>
          <a:stretch/>
        </p:blipFill>
        <p:spPr>
          <a:xfrm>
            <a:off x="468360" y="4626000"/>
            <a:ext cx="2293920" cy="223200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7"/>
          <a:stretch/>
        </p:blipFill>
        <p:spPr>
          <a:xfrm>
            <a:off x="250920" y="2852640"/>
            <a:ext cx="2293920" cy="190368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 rot="30600">
            <a:off x="469800" y="1555920"/>
            <a:ext cx="20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11280" y="5013360"/>
            <a:ext cx="35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24000" y="1628640"/>
            <a:ext cx="2158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33cc"/>
                </a:solidFill>
                <a:latin typeface="Arial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58920" y="3284640"/>
            <a:ext cx="21589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33cc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95280" y="5157720"/>
            <a:ext cx="2158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33cc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rot="20311800">
            <a:off x="3459240" y="2071440"/>
            <a:ext cx="2232000" cy="2009520"/>
          </a:xfrm>
          <a:prstGeom prst="wedgeRoundRectCallout">
            <a:avLst>
              <a:gd name="adj1" fmla="val -43907"/>
              <a:gd name="adj2" fmla="val 86962"/>
              <a:gd name="adj3" fmla="val 16667"/>
            </a:avLst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5720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>
            <a:hlinkClick r:id="rId8" action="ppaction://hlinksldjump"/>
          </p:cNvPr>
          <p:cNvSpPr/>
          <p:nvPr/>
        </p:nvSpPr>
        <p:spPr>
          <a:xfrm>
            <a:off x="395280" y="1557360"/>
            <a:ext cx="2087640" cy="1081080"/>
          </a:xfrm>
          <a:custGeom>
            <a:avLst/>
            <a:gdLst>
              <a:gd name="textAreaLeft" fmla="*/ 69840 w 2087640"/>
              <a:gd name="textAreaRight" fmla="*/ 2017800 w 2087640"/>
              <a:gd name="textAreaTop" fmla="*/ 69840 h 1081080"/>
              <a:gd name="textAreaBottom" fmla="*/ 1011240 h 1081080"/>
            </a:gdLst>
            <a:ahLst/>
            <a:rect l="textAreaLeft" t="textAreaTop" r="textAreaRight" b="textAreaBottom"/>
            <a:pathLst>
              <a:path w="41704" h="21600">
                <a:moveTo>
                  <a:pt x="0" y="0"/>
                </a:moveTo>
                <a:lnTo>
                  <a:pt x="41704" y="0"/>
                </a:lnTo>
                <a:lnTo>
                  <a:pt x="41704" y="21600"/>
                </a:lnTo>
                <a:lnTo>
                  <a:pt x="0" y="21600"/>
                </a:lnTo>
                <a:close/>
              </a:path>
              <a:path fill="lightenLess" w="41704" h="21600">
                <a:moveTo>
                  <a:pt x="0" y="0"/>
                </a:moveTo>
                <a:lnTo>
                  <a:pt x="41704" y="0"/>
                </a:lnTo>
                <a:lnTo>
                  <a:pt x="40304" y="1400"/>
                </a:lnTo>
                <a:lnTo>
                  <a:pt x="1400" y="1400"/>
                </a:lnTo>
                <a:close/>
              </a:path>
              <a:path fill="darken" w="41704" h="21600">
                <a:moveTo>
                  <a:pt x="41704" y="0"/>
                </a:moveTo>
                <a:lnTo>
                  <a:pt x="41704" y="21600"/>
                </a:lnTo>
                <a:lnTo>
                  <a:pt x="40304" y="20200"/>
                </a:lnTo>
                <a:lnTo>
                  <a:pt x="40304" y="1400"/>
                </a:lnTo>
                <a:close/>
              </a:path>
              <a:path fill="darkenLess" w="41704" h="21600">
                <a:moveTo>
                  <a:pt x="41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304" y="20200"/>
                </a:lnTo>
                <a:close/>
              </a:path>
              <a:path fill="lighten" w="41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704" h="21600">
                <a:moveTo>
                  <a:pt x="13846" y="3794"/>
                </a:moveTo>
                <a:lnTo>
                  <a:pt x="27859" y="10800"/>
                </a:lnTo>
                <a:lnTo>
                  <a:pt x="1384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>
            <a:hlinkClick r:id="rId9" action="ppaction://hlinksldjump"/>
          </p:cNvPr>
          <p:cNvSpPr/>
          <p:nvPr/>
        </p:nvSpPr>
        <p:spPr>
          <a:xfrm>
            <a:off x="539640" y="3213000"/>
            <a:ext cx="2016360" cy="936720"/>
          </a:xfrm>
          <a:custGeom>
            <a:avLst/>
            <a:gdLst>
              <a:gd name="textAreaLeft" fmla="*/ 60480 w 2016360"/>
              <a:gd name="textAreaRight" fmla="*/ 1955880 w 201636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46486" h="21600">
                <a:moveTo>
                  <a:pt x="0" y="0"/>
                </a:moveTo>
                <a:lnTo>
                  <a:pt x="46486" y="0"/>
                </a:lnTo>
                <a:lnTo>
                  <a:pt x="46486" y="21600"/>
                </a:lnTo>
                <a:lnTo>
                  <a:pt x="0" y="21600"/>
                </a:lnTo>
                <a:close/>
              </a:path>
              <a:path fill="lightenLess" w="46486" h="21600">
                <a:moveTo>
                  <a:pt x="0" y="0"/>
                </a:moveTo>
                <a:lnTo>
                  <a:pt x="46486" y="0"/>
                </a:lnTo>
                <a:lnTo>
                  <a:pt x="45086" y="1400"/>
                </a:lnTo>
                <a:lnTo>
                  <a:pt x="1400" y="1400"/>
                </a:lnTo>
                <a:close/>
              </a:path>
              <a:path fill="darken" w="46486" h="21600">
                <a:moveTo>
                  <a:pt x="46486" y="0"/>
                </a:moveTo>
                <a:lnTo>
                  <a:pt x="46486" y="21600"/>
                </a:lnTo>
                <a:lnTo>
                  <a:pt x="45086" y="20200"/>
                </a:lnTo>
                <a:lnTo>
                  <a:pt x="45086" y="1400"/>
                </a:lnTo>
                <a:close/>
              </a:path>
              <a:path fill="darkenLess" w="46486" h="21600">
                <a:moveTo>
                  <a:pt x="464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086" y="20200"/>
                </a:lnTo>
                <a:close/>
              </a:path>
              <a:path fill="lighten" w="464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486" h="21600">
                <a:moveTo>
                  <a:pt x="16237" y="3794"/>
                </a:moveTo>
                <a:lnTo>
                  <a:pt x="30250" y="10800"/>
                </a:lnTo>
                <a:lnTo>
                  <a:pt x="16237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>
            <a:hlinkClick r:id="rId10" action="ppaction://hlinksldjump"/>
          </p:cNvPr>
          <p:cNvSpPr/>
          <p:nvPr/>
        </p:nvSpPr>
        <p:spPr>
          <a:xfrm>
            <a:off x="611280" y="4941720"/>
            <a:ext cx="2016000" cy="1079640"/>
          </a:xfrm>
          <a:custGeom>
            <a:avLst/>
            <a:gdLst>
              <a:gd name="textAreaLeft" fmla="*/ 69840 w 2016000"/>
              <a:gd name="textAreaRight" fmla="*/ 1946160 w 2016000"/>
              <a:gd name="textAreaTop" fmla="*/ 69840 h 1079640"/>
              <a:gd name="textAreaBottom" fmla="*/ 1009800 h 1079640"/>
            </a:gdLst>
            <a:ahLst/>
            <a:rect l="textAreaLeft" t="textAreaTop" r="textAreaRight" b="textAreaBottom"/>
            <a:pathLst>
              <a:path w="40327" h="21600">
                <a:moveTo>
                  <a:pt x="0" y="0"/>
                </a:moveTo>
                <a:lnTo>
                  <a:pt x="40327" y="0"/>
                </a:lnTo>
                <a:lnTo>
                  <a:pt x="40327" y="21600"/>
                </a:lnTo>
                <a:lnTo>
                  <a:pt x="0" y="21600"/>
                </a:lnTo>
                <a:close/>
              </a:path>
              <a:path fill="lightenLess" w="40327" h="21600">
                <a:moveTo>
                  <a:pt x="0" y="0"/>
                </a:moveTo>
                <a:lnTo>
                  <a:pt x="40327" y="0"/>
                </a:lnTo>
                <a:lnTo>
                  <a:pt x="38927" y="1400"/>
                </a:lnTo>
                <a:lnTo>
                  <a:pt x="1400" y="1400"/>
                </a:lnTo>
                <a:close/>
              </a:path>
              <a:path fill="darken" w="40327" h="21600">
                <a:moveTo>
                  <a:pt x="40327" y="0"/>
                </a:moveTo>
                <a:lnTo>
                  <a:pt x="40327" y="21600"/>
                </a:lnTo>
                <a:lnTo>
                  <a:pt x="38927" y="20200"/>
                </a:lnTo>
                <a:lnTo>
                  <a:pt x="38927" y="1400"/>
                </a:lnTo>
                <a:close/>
              </a:path>
              <a:path fill="darkenLess" w="40327" h="21600">
                <a:moveTo>
                  <a:pt x="403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927" y="20200"/>
                </a:lnTo>
                <a:close/>
              </a:path>
              <a:path fill="lighten" w="403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327" h="21600">
                <a:moveTo>
                  <a:pt x="13157" y="3794"/>
                </a:moveTo>
                <a:lnTo>
                  <a:pt x="27170" y="10800"/>
                </a:lnTo>
                <a:lnTo>
                  <a:pt x="13157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1557360"/>
            <a:ext cx="2159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33cc"/>
                </a:solidFill>
                <a:latin typeface="Comic Sans MS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300720" y="3284640"/>
            <a:ext cx="21589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33cc"/>
                </a:solidFill>
                <a:latin typeface="Comic Sans MS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297480" y="4869000"/>
            <a:ext cx="21592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ff"/>
                </a:solidFill>
                <a:latin typeface="Comic Sans MS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>
            <a:hlinkClick r:id="rId11" action="ppaction://hlinksldjump"/>
          </p:cNvPr>
          <p:cNvSpPr/>
          <p:nvPr/>
        </p:nvSpPr>
        <p:spPr>
          <a:xfrm>
            <a:off x="6372360" y="1484280"/>
            <a:ext cx="2087280" cy="1008000"/>
          </a:xfrm>
          <a:custGeom>
            <a:avLst/>
            <a:gdLst>
              <a:gd name="textAreaLeft" fmla="*/ 65160 w 2087280"/>
              <a:gd name="textAreaRight" fmla="*/ 2022120 w 208728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44719" h="21600">
                <a:moveTo>
                  <a:pt x="0" y="0"/>
                </a:moveTo>
                <a:lnTo>
                  <a:pt x="44719" y="0"/>
                </a:lnTo>
                <a:lnTo>
                  <a:pt x="44719" y="21600"/>
                </a:lnTo>
                <a:lnTo>
                  <a:pt x="0" y="21600"/>
                </a:lnTo>
                <a:close/>
              </a:path>
              <a:path fill="lightenLess" w="44719" h="21600">
                <a:moveTo>
                  <a:pt x="0" y="0"/>
                </a:moveTo>
                <a:lnTo>
                  <a:pt x="44719" y="0"/>
                </a:lnTo>
                <a:lnTo>
                  <a:pt x="43319" y="1400"/>
                </a:lnTo>
                <a:lnTo>
                  <a:pt x="1400" y="1400"/>
                </a:lnTo>
                <a:close/>
              </a:path>
              <a:path fill="darken" w="44719" h="21600">
                <a:moveTo>
                  <a:pt x="44719" y="0"/>
                </a:moveTo>
                <a:lnTo>
                  <a:pt x="44719" y="21600"/>
                </a:lnTo>
                <a:lnTo>
                  <a:pt x="43319" y="20200"/>
                </a:lnTo>
                <a:lnTo>
                  <a:pt x="43319" y="1400"/>
                </a:lnTo>
                <a:close/>
              </a:path>
              <a:path fill="darkenLess" w="44719" h="21600">
                <a:moveTo>
                  <a:pt x="4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319" y="20200"/>
                </a:lnTo>
                <a:close/>
              </a:path>
              <a:path fill="lighten" w="4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719" h="21600">
                <a:moveTo>
                  <a:pt x="15353" y="3794"/>
                </a:moveTo>
                <a:lnTo>
                  <a:pt x="29366" y="10800"/>
                </a:lnTo>
                <a:lnTo>
                  <a:pt x="1535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>
            <a:hlinkClick r:id="rId12" action="ppaction://hlinksldjump"/>
          </p:cNvPr>
          <p:cNvSpPr/>
          <p:nvPr/>
        </p:nvSpPr>
        <p:spPr>
          <a:xfrm>
            <a:off x="6372360" y="3284640"/>
            <a:ext cx="2087280" cy="934920"/>
          </a:xfrm>
          <a:custGeom>
            <a:avLst/>
            <a:gdLst>
              <a:gd name="textAreaLeft" fmla="*/ 60480 w 2087280"/>
              <a:gd name="textAreaRight" fmla="*/ 2026800 w 208728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48213" h="21600">
                <a:moveTo>
                  <a:pt x="0" y="0"/>
                </a:moveTo>
                <a:lnTo>
                  <a:pt x="48213" y="0"/>
                </a:lnTo>
                <a:lnTo>
                  <a:pt x="48213" y="21600"/>
                </a:lnTo>
                <a:lnTo>
                  <a:pt x="0" y="21600"/>
                </a:lnTo>
                <a:close/>
              </a:path>
              <a:path fill="lightenLess" w="48213" h="21600">
                <a:moveTo>
                  <a:pt x="0" y="0"/>
                </a:moveTo>
                <a:lnTo>
                  <a:pt x="48213" y="0"/>
                </a:lnTo>
                <a:lnTo>
                  <a:pt x="46813" y="1400"/>
                </a:lnTo>
                <a:lnTo>
                  <a:pt x="1400" y="1400"/>
                </a:lnTo>
                <a:close/>
              </a:path>
              <a:path fill="darken" w="48213" h="21600">
                <a:moveTo>
                  <a:pt x="48213" y="0"/>
                </a:moveTo>
                <a:lnTo>
                  <a:pt x="48213" y="21600"/>
                </a:lnTo>
                <a:lnTo>
                  <a:pt x="46813" y="20200"/>
                </a:lnTo>
                <a:lnTo>
                  <a:pt x="46813" y="1400"/>
                </a:lnTo>
                <a:close/>
              </a:path>
              <a:path fill="darkenLess" w="48213" h="21600">
                <a:moveTo>
                  <a:pt x="482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813" y="20200"/>
                </a:lnTo>
                <a:close/>
              </a:path>
              <a:path fill="lighten" w="482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213" h="21600">
                <a:moveTo>
                  <a:pt x="17100" y="3794"/>
                </a:moveTo>
                <a:lnTo>
                  <a:pt x="31113" y="10800"/>
                </a:lnTo>
                <a:lnTo>
                  <a:pt x="1710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>
            <a:hlinkClick r:id="rId13" action="ppaction://hlinksldjump"/>
          </p:cNvPr>
          <p:cNvSpPr/>
          <p:nvPr/>
        </p:nvSpPr>
        <p:spPr>
          <a:xfrm>
            <a:off x="6443640" y="4797360"/>
            <a:ext cx="2014560" cy="1008000"/>
          </a:xfrm>
          <a:custGeom>
            <a:avLst/>
            <a:gdLst>
              <a:gd name="textAreaLeft" fmla="*/ 65160 w 2014560"/>
              <a:gd name="textAreaRight" fmla="*/ 1949400 w 201456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43161" h="21600">
                <a:moveTo>
                  <a:pt x="0" y="0"/>
                </a:moveTo>
                <a:lnTo>
                  <a:pt x="43161" y="0"/>
                </a:lnTo>
                <a:lnTo>
                  <a:pt x="43161" y="21600"/>
                </a:lnTo>
                <a:lnTo>
                  <a:pt x="0" y="21600"/>
                </a:lnTo>
                <a:close/>
              </a:path>
              <a:path fill="lightenLess" w="43161" h="21600">
                <a:moveTo>
                  <a:pt x="0" y="0"/>
                </a:moveTo>
                <a:lnTo>
                  <a:pt x="43161" y="0"/>
                </a:lnTo>
                <a:lnTo>
                  <a:pt x="41761" y="1400"/>
                </a:lnTo>
                <a:lnTo>
                  <a:pt x="1400" y="1400"/>
                </a:lnTo>
                <a:close/>
              </a:path>
              <a:path fill="darken" w="43161" h="21600">
                <a:moveTo>
                  <a:pt x="43161" y="0"/>
                </a:moveTo>
                <a:lnTo>
                  <a:pt x="43161" y="21600"/>
                </a:lnTo>
                <a:lnTo>
                  <a:pt x="41761" y="20200"/>
                </a:lnTo>
                <a:lnTo>
                  <a:pt x="41761" y="1400"/>
                </a:lnTo>
                <a:close/>
              </a:path>
              <a:path fill="darkenLess" w="43161" h="21600">
                <a:moveTo>
                  <a:pt x="43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1" y="20200"/>
                </a:lnTo>
                <a:close/>
              </a:path>
              <a:path fill="lighten" w="43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1" h="21600">
                <a:moveTo>
                  <a:pt x="14574" y="3794"/>
                </a:moveTo>
                <a:lnTo>
                  <a:pt x="28587" y="10800"/>
                </a:lnTo>
                <a:lnTo>
                  <a:pt x="1457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419640" y="2349360"/>
            <a:ext cx="216036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ff00ff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Care</a:t>
            </a:r>
            <a:endParaRPr b="0" lang="en-US" sz="1800" spc="1" strike="noStrike">
              <a:ln w="3240">
                <a:solidFill>
                  <a:srgbClr val="ff00ff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ff00ff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1800" spc="1" strike="noStrike">
                <a:ln w="3240">
                  <a:solidFill>
                    <a:srgbClr val="ff00ff"/>
                  </a:solidFill>
                  <a:miter/>
                </a:ln>
                <a:solidFill>
                  <a:srgbClr val="003399"/>
                </a:solidFill>
                <a:latin typeface="Times New Roman"/>
              </a:rPr>
              <a:t>este ?</a:t>
            </a:r>
            <a:endParaRPr b="0" lang="en-US" sz="1800" spc="1" strike="noStrike">
              <a:ln w="3240">
                <a:solidFill>
                  <a:srgbClr val="ff00ff"/>
                </a:solidFill>
                <a:miter/>
              </a:ln>
              <a:solidFill>
                <a:srgbClr val="003399"/>
              </a:solidFill>
              <a:latin typeface="Times New Roman"/>
              <a:ea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4"/>
          <a:stretch/>
        </p:blipFill>
        <p:spPr>
          <a:xfrm>
            <a:off x="3203640" y="4464000"/>
            <a:ext cx="2046240" cy="239400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5"/>
          <a:stretch/>
        </p:blipFill>
        <p:spPr>
          <a:xfrm>
            <a:off x="826920" y="0"/>
            <a:ext cx="7545600" cy="105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0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9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afterEffect" fill="hold" presetClass="entr" presetID="2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1000"/>
                            </p:stCondLst>
                            <p:childTnLst>
                              <p:par>
                                <p:cTn id="76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1500"/>
                            </p:stCondLst>
                            <p:childTnLst>
                              <p:par>
                                <p:cTn id="766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6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69" dur="3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77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7667640" y="5589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omic Sans MS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omic Sans MS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>
            <a:hlinkClick r:id="rId3" action="ppaction://hlinksldjump"/>
          </p:cNvPr>
          <p:cNvSpPr/>
          <p:nvPr/>
        </p:nvSpPr>
        <p:spPr>
          <a:xfrm>
            <a:off x="5364000" y="3789360"/>
            <a:ext cx="863640" cy="1008000"/>
          </a:xfrm>
          <a:custGeom>
            <a:avLst/>
            <a:gdLst>
              <a:gd name="textAreaLeft" fmla="*/ 55800 w 863640"/>
              <a:gd name="textAreaRight" fmla="*/ 807840 w 863640"/>
              <a:gd name="textAreaTop" fmla="*/ 55800 h 1008000"/>
              <a:gd name="textAreaBottom" fmla="*/ 952200 h 1008000"/>
            </a:gdLst>
            <a:ahLst/>
            <a:rect l="textAreaLeft" t="textAreaTop" r="textAreaRight" b="textAreaBottom"/>
            <a:pathLst>
              <a:path w="21600" h="25209">
                <a:moveTo>
                  <a:pt x="0" y="0"/>
                </a:moveTo>
                <a:lnTo>
                  <a:pt x="21600" y="0"/>
                </a:lnTo>
                <a:lnTo>
                  <a:pt x="21600" y="25209"/>
                </a:lnTo>
                <a:lnTo>
                  <a:pt x="0" y="25209"/>
                </a:lnTo>
                <a:close/>
              </a:path>
              <a:path fill="lightenLess" w="21600" h="25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9">
                <a:moveTo>
                  <a:pt x="21600" y="0"/>
                </a:moveTo>
                <a:lnTo>
                  <a:pt x="21600" y="25209"/>
                </a:lnTo>
                <a:lnTo>
                  <a:pt x="20200" y="23809"/>
                </a:lnTo>
                <a:lnTo>
                  <a:pt x="20200" y="1400"/>
                </a:lnTo>
                <a:close/>
              </a:path>
              <a:path fill="darkenLess" w="21600" h="25209">
                <a:moveTo>
                  <a:pt x="21600" y="25209"/>
                </a:moveTo>
                <a:lnTo>
                  <a:pt x="0" y="25209"/>
                </a:lnTo>
                <a:lnTo>
                  <a:pt x="1400" y="23809"/>
                </a:lnTo>
                <a:lnTo>
                  <a:pt x="20200" y="23809"/>
                </a:lnTo>
                <a:close/>
              </a:path>
              <a:path fill="lighten" w="21600" h="25209">
                <a:moveTo>
                  <a:pt x="0" y="25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9"/>
                </a:lnTo>
                <a:close/>
              </a:path>
              <a:path fill="darken" w="21600" h="25209">
                <a:moveTo>
                  <a:pt x="3794" y="5598"/>
                </a:moveTo>
                <a:lnTo>
                  <a:pt x="17806" y="12605"/>
                </a:lnTo>
                <a:lnTo>
                  <a:pt x="3794" y="19611"/>
                </a:lnTo>
                <a:close/>
              </a:path>
            </a:pathLst>
          </a:custGeom>
          <a:solidFill>
            <a:srgbClr val="ffff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4"/>
          <a:stretch/>
        </p:blipFill>
        <p:spPr>
          <a:xfrm>
            <a:off x="7524720" y="558972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5"/>
          <a:stretch/>
        </p:blipFill>
        <p:spPr>
          <a:xfrm>
            <a:off x="457200" y="380880"/>
            <a:ext cx="8242200" cy="115740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6"/>
          <a:stretch/>
        </p:blipFill>
        <p:spPr>
          <a:xfrm>
            <a:off x="6227640" y="2997360"/>
            <a:ext cx="2916360" cy="36446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611280" y="2060640"/>
            <a:ext cx="316872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Tot înainte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0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2500"/>
                            </p:stCondLst>
                            <p:childTnLst>
                              <p:par>
                                <p:cTn id="788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7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79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97" dur="2000" fill="hold"/>
                                        <p:tgtEl>
                                          <p:spTgt spid="3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4500"/>
                            </p:stCondLst>
                            <p:childTnLst>
                              <p:par>
                                <p:cTn id="7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68360" y="170028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>
            <a:hlinkClick r:id="rId2" action="ppaction://hlinksldjump"/>
          </p:cNvPr>
          <p:cNvSpPr/>
          <p:nvPr/>
        </p:nvSpPr>
        <p:spPr>
          <a:xfrm>
            <a:off x="3886200" y="4114800"/>
            <a:ext cx="792000" cy="79200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3"/>
          <a:stretch/>
        </p:blipFill>
        <p:spPr>
          <a:xfrm>
            <a:off x="5006880" y="3341520"/>
            <a:ext cx="4137120" cy="351648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 txBox="1"/>
          <p:nvPr/>
        </p:nvSpPr>
        <p:spPr>
          <a:xfrm>
            <a:off x="539640" y="189000"/>
            <a:ext cx="8064720" cy="22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e3de00"/>
                  </a:solidFill>
                  <a:miter/>
                </a:ln>
                <a:solidFill>
                  <a:srgbClr val="ffff66"/>
                </a:solidFill>
                <a:latin typeface="Times New Roman"/>
              </a:rPr>
              <a:t>Niciodată! </a:t>
            </a:r>
            <a:endParaRPr b="0" lang="en-US" sz="1800" spc="1" strike="noStrike">
              <a:ln w="22320">
                <a:solidFill>
                  <a:srgbClr val="e3de00"/>
                </a:solidFill>
                <a:miter/>
              </a:ln>
              <a:solidFill>
                <a:srgbClr val="ffff66"/>
              </a:solidFill>
              <a:latin typeface="Times New Roman"/>
              <a:ea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3048120"/>
            <a:ext cx="3274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f800"/>
                </a:solidFill>
                <a:latin typeface="Arial"/>
              </a:rPr>
              <a:t>Dă clic  şi încearcă din n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0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after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0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500"/>
                            </p:stCondLst>
                            <p:childTnLst>
                              <p:par>
                                <p:cTn id="809" nodeType="afterEffect" fill="hold" presetClass="entr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1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2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3" dur="8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1460"/>
                            </p:stCondLst>
                            <p:childTnLst>
                              <p:par>
                                <p:cTn id="8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6156360" y="2349360"/>
            <a:ext cx="2820960" cy="4248360"/>
          </a:xfrm>
          <a:prstGeom prst="rect">
            <a:avLst/>
          </a:prstGeom>
          <a:ln w="0">
            <a:noFill/>
          </a:ln>
        </p:spPr>
      </p:pic>
      <p:sp>
        <p:nvSpPr>
          <p:cNvPr id="388" name="">
            <a:hlinkClick r:id="rId3" action="ppaction://hlinksldjump"/>
          </p:cNvPr>
          <p:cNvSpPr/>
          <p:nvPr/>
        </p:nvSpPr>
        <p:spPr>
          <a:xfrm>
            <a:off x="4643280" y="2708280"/>
            <a:ext cx="863640" cy="1008000"/>
          </a:xfrm>
          <a:custGeom>
            <a:avLst/>
            <a:gdLst>
              <a:gd name="textAreaLeft" fmla="*/ 55800 w 863640"/>
              <a:gd name="textAreaRight" fmla="*/ 807840 w 863640"/>
              <a:gd name="textAreaTop" fmla="*/ 55800 h 1008000"/>
              <a:gd name="textAreaBottom" fmla="*/ 952200 h 1008000"/>
            </a:gdLst>
            <a:ahLst/>
            <a:rect l="textAreaLeft" t="textAreaTop" r="textAreaRight" b="textAreaBottom"/>
            <a:pathLst>
              <a:path w="21600" h="25209">
                <a:moveTo>
                  <a:pt x="0" y="0"/>
                </a:moveTo>
                <a:lnTo>
                  <a:pt x="21600" y="0"/>
                </a:lnTo>
                <a:lnTo>
                  <a:pt x="21600" y="25209"/>
                </a:lnTo>
                <a:lnTo>
                  <a:pt x="0" y="25209"/>
                </a:lnTo>
                <a:close/>
              </a:path>
              <a:path fill="lightenLess" w="21600" h="25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9">
                <a:moveTo>
                  <a:pt x="21600" y="0"/>
                </a:moveTo>
                <a:lnTo>
                  <a:pt x="21600" y="25209"/>
                </a:lnTo>
                <a:lnTo>
                  <a:pt x="20200" y="23809"/>
                </a:lnTo>
                <a:lnTo>
                  <a:pt x="20200" y="1400"/>
                </a:lnTo>
                <a:close/>
              </a:path>
              <a:path fill="darkenLess" w="21600" h="25209">
                <a:moveTo>
                  <a:pt x="21600" y="25209"/>
                </a:moveTo>
                <a:lnTo>
                  <a:pt x="0" y="25209"/>
                </a:lnTo>
                <a:lnTo>
                  <a:pt x="1400" y="23809"/>
                </a:lnTo>
                <a:lnTo>
                  <a:pt x="20200" y="23809"/>
                </a:lnTo>
                <a:close/>
              </a:path>
              <a:path fill="lighten" w="21600" h="25209">
                <a:moveTo>
                  <a:pt x="0" y="25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9"/>
                </a:lnTo>
                <a:close/>
              </a:path>
              <a:path fill="darken" w="21600" h="25209">
                <a:moveTo>
                  <a:pt x="3794" y="5598"/>
                </a:moveTo>
                <a:lnTo>
                  <a:pt x="17806" y="12605"/>
                </a:lnTo>
                <a:lnTo>
                  <a:pt x="3794" y="19611"/>
                </a:lnTo>
                <a:close/>
              </a:path>
            </a:pathLst>
          </a:custGeom>
          <a:solidFill>
            <a:srgbClr val="ffff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80520" y="2437920"/>
            <a:ext cx="4038840" cy="25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f800"/>
                </a:solidFill>
                <a:latin typeface="Arial"/>
              </a:rPr>
              <a:t>Dă clic  şi încearcă din n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28600" y="228600"/>
            <a:ext cx="876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Mai trebuie                           să te antrenezi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0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after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2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2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2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2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650"/>
                            </p:stCondLst>
                            <p:childTnLst>
                              <p:par>
                                <p:cTn id="828" nodeType="afterEffect" fill="hold" presetClass="entr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0" dur="8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1" dur="8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2" dur="8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2610"/>
                            </p:stCondLst>
                            <p:childTnLst>
                              <p:par>
                                <p:cTn id="834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>
            <a:hlinkClick r:id="rId2" action="ppaction://hlinksldjump"/>
          </p:cNvPr>
          <p:cNvSpPr/>
          <p:nvPr/>
        </p:nvSpPr>
        <p:spPr>
          <a:xfrm>
            <a:off x="4643280" y="3645000"/>
            <a:ext cx="1081080" cy="792000"/>
          </a:xfrm>
          <a:custGeom>
            <a:avLst/>
            <a:gdLst>
              <a:gd name="textAreaLeft" fmla="*/ 51120 w 1081080"/>
              <a:gd name="textAreaRight" fmla="*/ 1029960 w 1081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9480" h="21600">
                <a:moveTo>
                  <a:pt x="0" y="0"/>
                </a:moveTo>
                <a:lnTo>
                  <a:pt x="29480" y="0"/>
                </a:lnTo>
                <a:lnTo>
                  <a:pt x="29480" y="21600"/>
                </a:lnTo>
                <a:lnTo>
                  <a:pt x="0" y="21600"/>
                </a:lnTo>
                <a:close/>
              </a:path>
              <a:path fill="lightenLess" w="29480" h="21600">
                <a:moveTo>
                  <a:pt x="0" y="0"/>
                </a:moveTo>
                <a:lnTo>
                  <a:pt x="29480" y="0"/>
                </a:lnTo>
                <a:lnTo>
                  <a:pt x="28080" y="1400"/>
                </a:lnTo>
                <a:lnTo>
                  <a:pt x="1400" y="1400"/>
                </a:lnTo>
                <a:close/>
              </a:path>
              <a:path fill="darken" w="29480" h="21600">
                <a:moveTo>
                  <a:pt x="29480" y="0"/>
                </a:moveTo>
                <a:lnTo>
                  <a:pt x="29480" y="21600"/>
                </a:lnTo>
                <a:lnTo>
                  <a:pt x="28080" y="20200"/>
                </a:lnTo>
                <a:lnTo>
                  <a:pt x="28080" y="1400"/>
                </a:lnTo>
                <a:close/>
              </a:path>
              <a:path fill="darkenLess" w="29480" h="21600">
                <a:moveTo>
                  <a:pt x="294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80" y="20200"/>
                </a:lnTo>
                <a:close/>
              </a:path>
              <a:path fill="lighten" w="294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80" h="21600">
                <a:moveTo>
                  <a:pt x="7734" y="3794"/>
                </a:moveTo>
                <a:lnTo>
                  <a:pt x="21747" y="10800"/>
                </a:lnTo>
                <a:lnTo>
                  <a:pt x="7734" y="17806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3"/>
          <a:stretch/>
        </p:blipFill>
        <p:spPr>
          <a:xfrm>
            <a:off x="5724360" y="1700280"/>
            <a:ext cx="3419640" cy="494172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4"/>
          <a:stretch/>
        </p:blipFill>
        <p:spPr>
          <a:xfrm>
            <a:off x="468360" y="333360"/>
            <a:ext cx="8242200" cy="121932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609480" y="3048120"/>
            <a:ext cx="3275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f800"/>
                </a:solidFill>
                <a:latin typeface="Arial"/>
              </a:rPr>
              <a:t>Dă clic  şi încearcă din n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0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afterEffect" fill="hold" presetClass="entr" presetID="2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1000"/>
                            </p:stCondLst>
                            <p:childTnLst>
                              <p:par>
                                <p:cTn id="852" nodeType="afterEffect" fill="hold" presetClass="entr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4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5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6" dur="8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1960"/>
                            </p:stCondLst>
                            <p:childTnLst>
                              <p:par>
                                <p:cTn id="8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5796000" y="2637000"/>
            <a:ext cx="2521080" cy="196056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3"/>
          <a:stretch/>
        </p:blipFill>
        <p:spPr>
          <a:xfrm>
            <a:off x="539640" y="4221000"/>
            <a:ext cx="3097440" cy="224028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4"/>
          <a:stretch/>
        </p:blipFill>
        <p:spPr>
          <a:xfrm>
            <a:off x="6141960" y="3833640"/>
            <a:ext cx="3002040" cy="302436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5"/>
          <a:stretch/>
        </p:blipFill>
        <p:spPr>
          <a:xfrm>
            <a:off x="6012000" y="1197000"/>
            <a:ext cx="2160360" cy="188748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6"/>
          <a:stretch/>
        </p:blipFill>
        <p:spPr>
          <a:xfrm>
            <a:off x="1116000" y="2781360"/>
            <a:ext cx="2592360" cy="188892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7"/>
          <a:stretch/>
        </p:blipFill>
        <p:spPr>
          <a:xfrm>
            <a:off x="684360" y="981000"/>
            <a:ext cx="2017440" cy="20322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V="1" rot="30600">
            <a:off x="469800" y="1555920"/>
            <a:ext cx="20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11280" y="5013360"/>
            <a:ext cx="35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8920" y="1700280"/>
            <a:ext cx="21589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cc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547640" y="3284640"/>
            <a:ext cx="21592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cc"/>
                </a:solidFill>
                <a:latin typeface="Comic Sans MS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68360" y="4869000"/>
            <a:ext cx="21589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33cc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132000" y="1628640"/>
            <a:ext cx="2808360" cy="2016360"/>
          </a:xfrm>
          <a:prstGeom prst="wedgeRoundRectCallout">
            <a:avLst>
              <a:gd name="adj1" fmla="val -8958"/>
              <a:gd name="adj2" fmla="val 88347"/>
              <a:gd name="adj3" fmla="val 16667"/>
            </a:avLst>
          </a:prstGeom>
          <a:solidFill>
            <a:srgbClr val="bbe0e3">
              <a:alpha val="23000"/>
            </a:srgbClr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42 : 7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>
            <a:hlinkClick r:id="rId8" action="ppaction://hlinksldjump"/>
          </p:cNvPr>
          <p:cNvSpPr/>
          <p:nvPr/>
        </p:nvSpPr>
        <p:spPr>
          <a:xfrm>
            <a:off x="1619280" y="3068640"/>
            <a:ext cx="2087640" cy="1152360"/>
          </a:xfrm>
          <a:custGeom>
            <a:avLst/>
            <a:gdLst>
              <a:gd name="textAreaLeft" fmla="*/ 74520 w 2087640"/>
              <a:gd name="textAreaRight" fmla="*/ 2013120 w 208764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39126" h="21600">
                <a:moveTo>
                  <a:pt x="0" y="0"/>
                </a:moveTo>
                <a:lnTo>
                  <a:pt x="39126" y="0"/>
                </a:lnTo>
                <a:lnTo>
                  <a:pt x="39126" y="21600"/>
                </a:lnTo>
                <a:lnTo>
                  <a:pt x="0" y="21600"/>
                </a:lnTo>
                <a:close/>
              </a:path>
              <a:path fill="lightenLess" w="39126" h="21600">
                <a:moveTo>
                  <a:pt x="0" y="0"/>
                </a:moveTo>
                <a:lnTo>
                  <a:pt x="39126" y="0"/>
                </a:lnTo>
                <a:lnTo>
                  <a:pt x="37726" y="1400"/>
                </a:lnTo>
                <a:lnTo>
                  <a:pt x="1400" y="1400"/>
                </a:lnTo>
                <a:close/>
              </a:path>
              <a:path fill="darken" w="39126" h="21600">
                <a:moveTo>
                  <a:pt x="39126" y="0"/>
                </a:moveTo>
                <a:lnTo>
                  <a:pt x="39126" y="21600"/>
                </a:lnTo>
                <a:lnTo>
                  <a:pt x="37726" y="20200"/>
                </a:lnTo>
                <a:lnTo>
                  <a:pt x="37726" y="1400"/>
                </a:lnTo>
                <a:close/>
              </a:path>
              <a:path fill="darkenLess" w="39126" h="21600">
                <a:moveTo>
                  <a:pt x="391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26" y="20200"/>
                </a:lnTo>
                <a:close/>
              </a:path>
              <a:path fill="lighten" w="391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126" h="21600">
                <a:moveTo>
                  <a:pt x="12556" y="3794"/>
                </a:moveTo>
                <a:lnTo>
                  <a:pt x="26569" y="10800"/>
                </a:lnTo>
                <a:lnTo>
                  <a:pt x="1255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>
            <a:hlinkClick r:id="rId9" action="ppaction://hlinksldjump"/>
          </p:cNvPr>
          <p:cNvSpPr/>
          <p:nvPr/>
        </p:nvSpPr>
        <p:spPr>
          <a:xfrm>
            <a:off x="684360" y="4797360"/>
            <a:ext cx="2016000" cy="935280"/>
          </a:xfrm>
          <a:custGeom>
            <a:avLst/>
            <a:gdLst>
              <a:gd name="textAreaLeft" fmla="*/ 60480 w 2016000"/>
              <a:gd name="textAreaRight" fmla="*/ 1955520 w 2016000"/>
              <a:gd name="textAreaTop" fmla="*/ 60480 h 935280"/>
              <a:gd name="textAreaBottom" fmla="*/ 874800 h 935280"/>
            </a:gdLst>
            <a:ahLst/>
            <a:rect l="textAreaLeft" t="textAreaTop" r="textAreaRight" b="textAreaBottom"/>
            <a:pathLst>
              <a:path w="46549" h="21600">
                <a:moveTo>
                  <a:pt x="0" y="0"/>
                </a:moveTo>
                <a:lnTo>
                  <a:pt x="46549" y="0"/>
                </a:lnTo>
                <a:lnTo>
                  <a:pt x="46549" y="21600"/>
                </a:lnTo>
                <a:lnTo>
                  <a:pt x="0" y="21600"/>
                </a:lnTo>
                <a:close/>
              </a:path>
              <a:path fill="lightenLess" w="46549" h="21600">
                <a:moveTo>
                  <a:pt x="0" y="0"/>
                </a:moveTo>
                <a:lnTo>
                  <a:pt x="46549" y="0"/>
                </a:lnTo>
                <a:lnTo>
                  <a:pt x="45149" y="1400"/>
                </a:lnTo>
                <a:lnTo>
                  <a:pt x="1400" y="1400"/>
                </a:lnTo>
                <a:close/>
              </a:path>
              <a:path fill="darken" w="46549" h="21600">
                <a:moveTo>
                  <a:pt x="46549" y="0"/>
                </a:moveTo>
                <a:lnTo>
                  <a:pt x="46549" y="21600"/>
                </a:lnTo>
                <a:lnTo>
                  <a:pt x="45149" y="20200"/>
                </a:lnTo>
                <a:lnTo>
                  <a:pt x="45149" y="1400"/>
                </a:lnTo>
                <a:close/>
              </a:path>
              <a:path fill="darkenLess" w="46549" h="21600">
                <a:moveTo>
                  <a:pt x="46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149" y="20200"/>
                </a:lnTo>
                <a:close/>
              </a:path>
              <a:path fill="lighten" w="46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549" h="21600">
                <a:moveTo>
                  <a:pt x="16268" y="3794"/>
                </a:moveTo>
                <a:lnTo>
                  <a:pt x="30281" y="10800"/>
                </a:lnTo>
                <a:lnTo>
                  <a:pt x="16268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97480" y="1700280"/>
            <a:ext cx="21592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cc"/>
                </a:solidFill>
                <a:latin typeface="Comic Sans MS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297480" y="3284640"/>
            <a:ext cx="21592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cc"/>
                </a:solidFill>
                <a:latin typeface="Comic Sans MS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985080" y="4869000"/>
            <a:ext cx="21589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cc"/>
                </a:solidFill>
                <a:latin typeface="Comic Sans MS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>
            <a:hlinkClick r:id="rId10" action="ppaction://hlinksldjump"/>
          </p:cNvPr>
          <p:cNvSpPr/>
          <p:nvPr/>
        </p:nvSpPr>
        <p:spPr>
          <a:xfrm>
            <a:off x="6227640" y="1484280"/>
            <a:ext cx="2232000" cy="1152720"/>
          </a:xfrm>
          <a:custGeom>
            <a:avLst/>
            <a:gdLst>
              <a:gd name="textAreaLeft" fmla="*/ 74520 w 2232000"/>
              <a:gd name="textAreaRight" fmla="*/ 2157480 w 223200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41818" h="21600">
                <a:moveTo>
                  <a:pt x="0" y="0"/>
                </a:moveTo>
                <a:lnTo>
                  <a:pt x="41818" y="0"/>
                </a:lnTo>
                <a:lnTo>
                  <a:pt x="41818" y="21600"/>
                </a:lnTo>
                <a:lnTo>
                  <a:pt x="0" y="21600"/>
                </a:lnTo>
                <a:close/>
              </a:path>
              <a:path fill="lightenLess" w="41818" h="21600">
                <a:moveTo>
                  <a:pt x="0" y="0"/>
                </a:moveTo>
                <a:lnTo>
                  <a:pt x="41818" y="0"/>
                </a:lnTo>
                <a:lnTo>
                  <a:pt x="40418" y="1400"/>
                </a:lnTo>
                <a:lnTo>
                  <a:pt x="1400" y="1400"/>
                </a:lnTo>
                <a:close/>
              </a:path>
              <a:path fill="darken" w="41818" h="21600">
                <a:moveTo>
                  <a:pt x="41818" y="0"/>
                </a:moveTo>
                <a:lnTo>
                  <a:pt x="41818" y="21600"/>
                </a:lnTo>
                <a:lnTo>
                  <a:pt x="40418" y="20200"/>
                </a:lnTo>
                <a:lnTo>
                  <a:pt x="40418" y="1400"/>
                </a:lnTo>
                <a:close/>
              </a:path>
              <a:path fill="darkenLess" w="41818" h="21600">
                <a:moveTo>
                  <a:pt x="41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18" y="20200"/>
                </a:lnTo>
                <a:close/>
              </a:path>
              <a:path fill="lighten" w="41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818" h="21600">
                <a:moveTo>
                  <a:pt x="13902" y="3794"/>
                </a:moveTo>
                <a:lnTo>
                  <a:pt x="27915" y="10800"/>
                </a:lnTo>
                <a:lnTo>
                  <a:pt x="1390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>
            <a:hlinkClick r:id="rId11" action="ppaction://hlinksldjump"/>
          </p:cNvPr>
          <p:cNvSpPr/>
          <p:nvPr/>
        </p:nvSpPr>
        <p:spPr>
          <a:xfrm>
            <a:off x="6516720" y="2997360"/>
            <a:ext cx="2087640" cy="1079280"/>
          </a:xfrm>
          <a:custGeom>
            <a:avLst/>
            <a:gdLst>
              <a:gd name="textAreaLeft" fmla="*/ 69840 w 2087640"/>
              <a:gd name="textAreaRight" fmla="*/ 2017800 w 208764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41774" h="21600">
                <a:moveTo>
                  <a:pt x="0" y="0"/>
                </a:moveTo>
                <a:lnTo>
                  <a:pt x="41774" y="0"/>
                </a:lnTo>
                <a:lnTo>
                  <a:pt x="41774" y="21600"/>
                </a:lnTo>
                <a:lnTo>
                  <a:pt x="0" y="21600"/>
                </a:lnTo>
                <a:close/>
              </a:path>
              <a:path fill="lightenLess" w="41774" h="21600">
                <a:moveTo>
                  <a:pt x="0" y="0"/>
                </a:moveTo>
                <a:lnTo>
                  <a:pt x="41774" y="0"/>
                </a:lnTo>
                <a:lnTo>
                  <a:pt x="40374" y="1400"/>
                </a:lnTo>
                <a:lnTo>
                  <a:pt x="1400" y="1400"/>
                </a:lnTo>
                <a:close/>
              </a:path>
              <a:path fill="darken" w="41774" h="21600">
                <a:moveTo>
                  <a:pt x="41774" y="0"/>
                </a:moveTo>
                <a:lnTo>
                  <a:pt x="41774" y="21600"/>
                </a:lnTo>
                <a:lnTo>
                  <a:pt x="40374" y="20200"/>
                </a:lnTo>
                <a:lnTo>
                  <a:pt x="40374" y="1400"/>
                </a:lnTo>
                <a:close/>
              </a:path>
              <a:path fill="darkenLess" w="41774" h="21600">
                <a:moveTo>
                  <a:pt x="417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374" y="20200"/>
                </a:lnTo>
                <a:close/>
              </a:path>
              <a:path fill="lighten" w="417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774" h="21600">
                <a:moveTo>
                  <a:pt x="13880" y="3794"/>
                </a:moveTo>
                <a:lnTo>
                  <a:pt x="27893" y="10800"/>
                </a:lnTo>
                <a:lnTo>
                  <a:pt x="1388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>
            <a:hlinkClick r:id="rId12" action="ppaction://hlinksldjump"/>
          </p:cNvPr>
          <p:cNvSpPr/>
          <p:nvPr/>
        </p:nvSpPr>
        <p:spPr>
          <a:xfrm>
            <a:off x="539640" y="1557360"/>
            <a:ext cx="2086200" cy="1008000"/>
          </a:xfrm>
          <a:custGeom>
            <a:avLst/>
            <a:gdLst>
              <a:gd name="textAreaLeft" fmla="*/ 65160 w 2086200"/>
              <a:gd name="textAreaRight" fmla="*/ 2021040 w 20862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44696" h="21600">
                <a:moveTo>
                  <a:pt x="0" y="0"/>
                </a:moveTo>
                <a:lnTo>
                  <a:pt x="44696" y="0"/>
                </a:lnTo>
                <a:lnTo>
                  <a:pt x="44696" y="21600"/>
                </a:lnTo>
                <a:lnTo>
                  <a:pt x="0" y="21600"/>
                </a:lnTo>
                <a:close/>
              </a:path>
              <a:path fill="lightenLess" w="44696" h="21600">
                <a:moveTo>
                  <a:pt x="0" y="0"/>
                </a:moveTo>
                <a:lnTo>
                  <a:pt x="44696" y="0"/>
                </a:lnTo>
                <a:lnTo>
                  <a:pt x="43296" y="1400"/>
                </a:lnTo>
                <a:lnTo>
                  <a:pt x="1400" y="1400"/>
                </a:lnTo>
                <a:close/>
              </a:path>
              <a:path fill="darken" w="44696" h="21600">
                <a:moveTo>
                  <a:pt x="44696" y="0"/>
                </a:moveTo>
                <a:lnTo>
                  <a:pt x="44696" y="21600"/>
                </a:lnTo>
                <a:lnTo>
                  <a:pt x="43296" y="20200"/>
                </a:lnTo>
                <a:lnTo>
                  <a:pt x="43296" y="1400"/>
                </a:lnTo>
                <a:close/>
              </a:path>
              <a:path fill="darkenLess" w="44696" h="21600">
                <a:moveTo>
                  <a:pt x="44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296" y="20200"/>
                </a:lnTo>
                <a:close/>
              </a:path>
              <a:path fill="lighten" w="44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696" h="21600">
                <a:moveTo>
                  <a:pt x="15342" y="3794"/>
                </a:moveTo>
                <a:lnTo>
                  <a:pt x="29355" y="10800"/>
                </a:lnTo>
                <a:lnTo>
                  <a:pt x="1534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3"/>
          <a:stretch/>
        </p:blipFill>
        <p:spPr>
          <a:xfrm>
            <a:off x="2700360" y="3933720"/>
            <a:ext cx="2500200" cy="2924280"/>
          </a:xfrm>
          <a:prstGeom prst="rect">
            <a:avLst/>
          </a:prstGeom>
          <a:ln w="0">
            <a:noFill/>
          </a:ln>
        </p:spPr>
      </p:pic>
      <p:sp>
        <p:nvSpPr>
          <p:cNvPr id="419" name="">
            <a:hlinkClick r:id="rId14" action="ppaction://hlinksldjump"/>
          </p:cNvPr>
          <p:cNvSpPr/>
          <p:nvPr/>
        </p:nvSpPr>
        <p:spPr>
          <a:xfrm>
            <a:off x="6804000" y="4581360"/>
            <a:ext cx="2881440" cy="1584360"/>
          </a:xfrm>
          <a:custGeom>
            <a:avLst/>
            <a:gdLst>
              <a:gd name="textAreaLeft" fmla="*/ 102600 w 2881440"/>
              <a:gd name="textAreaRight" fmla="*/ 2778840 w 288144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9279" h="21600">
                <a:moveTo>
                  <a:pt x="0" y="0"/>
                </a:moveTo>
                <a:lnTo>
                  <a:pt x="39279" y="0"/>
                </a:lnTo>
                <a:lnTo>
                  <a:pt x="39279" y="21600"/>
                </a:lnTo>
                <a:lnTo>
                  <a:pt x="0" y="21600"/>
                </a:lnTo>
                <a:close/>
              </a:path>
              <a:path fill="lightenLess" w="39279" h="21600">
                <a:moveTo>
                  <a:pt x="0" y="0"/>
                </a:moveTo>
                <a:lnTo>
                  <a:pt x="39279" y="0"/>
                </a:lnTo>
                <a:lnTo>
                  <a:pt x="37879" y="1400"/>
                </a:lnTo>
                <a:lnTo>
                  <a:pt x="1400" y="1400"/>
                </a:lnTo>
                <a:close/>
              </a:path>
              <a:path fill="darken" w="39279" h="21600">
                <a:moveTo>
                  <a:pt x="39279" y="0"/>
                </a:moveTo>
                <a:lnTo>
                  <a:pt x="39279" y="21600"/>
                </a:lnTo>
                <a:lnTo>
                  <a:pt x="37879" y="20200"/>
                </a:lnTo>
                <a:lnTo>
                  <a:pt x="37879" y="1400"/>
                </a:lnTo>
                <a:close/>
              </a:path>
              <a:path fill="darkenLess" w="39279" h="21600">
                <a:moveTo>
                  <a:pt x="3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879" y="20200"/>
                </a:lnTo>
                <a:close/>
              </a:path>
              <a:path fill="lighten" w="3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279" h="21600">
                <a:moveTo>
                  <a:pt x="12633" y="3794"/>
                </a:moveTo>
                <a:lnTo>
                  <a:pt x="26646" y="10800"/>
                </a:lnTo>
                <a:lnTo>
                  <a:pt x="1263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5"/>
          <a:stretch/>
        </p:blipFill>
        <p:spPr>
          <a:xfrm>
            <a:off x="3203640" y="1700280"/>
            <a:ext cx="2624040" cy="174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0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1000"/>
                            </p:stCondLst>
                            <p:childTnLst>
                              <p:par>
                                <p:cTn id="8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1500"/>
                            </p:stCondLst>
                            <p:childTnLst>
                              <p:par>
                                <p:cTn id="87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1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7200" spc="-1" strike="noStrike">
                <a:solidFill>
                  <a:srgbClr val="ffff00"/>
                </a:solidFill>
                <a:latin typeface="Comic Sans MS"/>
              </a:rPr>
              <a:t>FOARTE BINE</a:t>
            </a:r>
            <a:r>
              <a:rPr b="1" lang="en-GB" sz="7200" spc="-1" strike="noStrike">
                <a:solidFill>
                  <a:srgbClr val="ffff00"/>
                </a:solidFill>
                <a:latin typeface="Comic Sans MS"/>
              </a:rPr>
              <a:t>!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omic Sans MS"/>
              </a:rPr>
              <a:t>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omic Sans MS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156360" y="2852640"/>
            <a:ext cx="2519280" cy="3384720"/>
          </a:xfrm>
          <a:prstGeom prst="rect">
            <a:avLst/>
          </a:prstGeom>
          <a:ln w="0">
            <a:noFill/>
          </a:ln>
        </p:spPr>
      </p:pic>
      <p:sp>
        <p:nvSpPr>
          <p:cNvPr id="133" name="">
            <a:hlinkClick r:id="rId3" action="ppaction://hlinksldjump"/>
          </p:cNvPr>
          <p:cNvSpPr/>
          <p:nvPr/>
        </p:nvSpPr>
        <p:spPr>
          <a:xfrm>
            <a:off x="1187280" y="4292640"/>
            <a:ext cx="863640" cy="1008000"/>
          </a:xfrm>
          <a:custGeom>
            <a:avLst/>
            <a:gdLst>
              <a:gd name="textAreaLeft" fmla="*/ 55800 w 863640"/>
              <a:gd name="textAreaRight" fmla="*/ 807840 w 863640"/>
              <a:gd name="textAreaTop" fmla="*/ 55800 h 1008000"/>
              <a:gd name="textAreaBottom" fmla="*/ 952200 h 1008000"/>
            </a:gdLst>
            <a:ahLst/>
            <a:rect l="textAreaLeft" t="textAreaTop" r="textAreaRight" b="textAreaBottom"/>
            <a:pathLst>
              <a:path w="21600" h="25209">
                <a:moveTo>
                  <a:pt x="0" y="0"/>
                </a:moveTo>
                <a:lnTo>
                  <a:pt x="21600" y="0"/>
                </a:lnTo>
                <a:lnTo>
                  <a:pt x="21600" y="25209"/>
                </a:lnTo>
                <a:lnTo>
                  <a:pt x="0" y="25209"/>
                </a:lnTo>
                <a:close/>
              </a:path>
              <a:path fill="lightenLess" w="21600" h="25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9">
                <a:moveTo>
                  <a:pt x="21600" y="0"/>
                </a:moveTo>
                <a:lnTo>
                  <a:pt x="21600" y="25209"/>
                </a:lnTo>
                <a:lnTo>
                  <a:pt x="20200" y="23809"/>
                </a:lnTo>
                <a:lnTo>
                  <a:pt x="20200" y="1400"/>
                </a:lnTo>
                <a:close/>
              </a:path>
              <a:path fill="darkenLess" w="21600" h="25209">
                <a:moveTo>
                  <a:pt x="21600" y="25209"/>
                </a:moveTo>
                <a:lnTo>
                  <a:pt x="0" y="25209"/>
                </a:lnTo>
                <a:lnTo>
                  <a:pt x="1400" y="23809"/>
                </a:lnTo>
                <a:lnTo>
                  <a:pt x="20200" y="23809"/>
                </a:lnTo>
                <a:close/>
              </a:path>
              <a:path fill="lighten" w="21600" h="25209">
                <a:moveTo>
                  <a:pt x="0" y="25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9"/>
                </a:lnTo>
                <a:close/>
              </a:path>
              <a:path fill="darken" w="21600" h="25209">
                <a:moveTo>
                  <a:pt x="3794" y="5598"/>
                </a:moveTo>
                <a:lnTo>
                  <a:pt x="17806" y="12605"/>
                </a:lnTo>
                <a:lnTo>
                  <a:pt x="3794" y="19611"/>
                </a:lnTo>
                <a:close/>
              </a:path>
            </a:pathLst>
          </a:custGeom>
          <a:solidFill>
            <a:srgbClr val="ffff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2438280"/>
            <a:ext cx="3048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Alt          exerciţiu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480"/>
                            </p:stCondLst>
                            <p:childTnLst>
                              <p:par>
                                <p:cTn id="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40"/>
                            </p:stCondLst>
                            <p:childTnLst>
                              <p:par>
                                <p:cTn id="76" nodeType="after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140"/>
                            </p:stCondLst>
                            <p:childTnLst>
                              <p:par>
                                <p:cTn id="83" nodeType="afterEffect" fill="hold" presetClass="path" presetID="5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0.01644 C 0.00034 0.02315 -0.0066 0.02894 -0.01528 0.0294 C -0.02205 0.02986 -0.02761 0.02662 -0.02761 0.02269 C -0.02761 0.01875 -0.0224 0.01505 -0.01545 0.01505 C -0.01181 0.01505 -0.00868 0.01528 -0.0066 0.01644 C -0.0033 0.01829 -0.00139 0.0213 -0.00139 0.02477 C -0.00139 0.02662 -0.00191 0.02847 -0.00295 0.03009 C -0.00521 0.03333 -0.0099 0.03588 -0.01511 0.03611 C -0.02136 0.03658 -0.02622 0.0338 -0.02622 0.03033 C -0.02639 0.02662 -0.02136 0.02338 -0.01528 0.02292 C -0.01198 0.02292 -0.00938 0.02338 -0.00729 0.02454 C -0.00434 0.02639 -0.00261 0.0294 -0.00261 0.03218 C -0.00261 0.0338 -0.00313 0.03542 -0.004 0.03681 C -0.00608 0.03982 -0.01025 0.04236 -0.01493 0.04236 C -0.02066 0.04283 -0.025 0.04005 -0.025 0.03681 C -0.02518 0.0338 -0.02066 0.03102 -0.01511 0.03056 C -0.01233 0.03033 -0.00972 0.03102 -0.00781 0.03171 C -0.00521 0.03333 -0.00382 0.03588 -0.00382 0.03889 C -0.00382 0.04005 -0.00434 0.04167 -0.00504 0.04306 C -0.00695 0.0456 -0.01077 0.04792 -0.01493 0.04792 C -0.01997 0.04792 -0.02396 0.04607 -0.02396 0.04306 C -0.02396 0.04005 -0.01997 0.0375 -0.01493 0.03727 C -0.0125 0.03727 -0.01025 0.03773 -0.00851 0.03843 C -0.00608 0.03982 -0.00486 0.04236 -0.00469 0.04468 C -0.00469 0.04607 -0.00521 0.04722 -0.00591 0.04838 C -0.00764 0.05116 -0.01094 0.05278 -0.01476 0.05278 C -0.01927 0.05301 -0.02292 0.05116 -0.02292 0.04861 C -0.02309 0.04607 -0.01927 0.04375 -0.01493 0.04329 C -0.01268 0.04329 -0.01059 0.04375 -0.00903 0.04468 C -0.00695 0.0456 -0.00573 0.04792 -0.00573 0.05 C -0.00573 0.05116 -0.00608 0.05232 -0.00677 0.05347 C -0.00834 0.05579 -0.01111 0.05741 -0.01476 0.05764 C -0.01893 0.05764 -0.02205 0.05602 -0.02205 0.05347 C -0.02222 0.05116 -0.01893 0.04908 -0.01476 0.04884 C -0.01268 0.04884 -0.01094 0.04908 -0.00972 0.05 C -0.00764 0.05116 -0.0066 0.05278 -0.0066 0.05486 C -0.0066 0.05602 -0.00695 0.05671 -0.00747 0.05764 C -0.00886 0.05996 -0.01163 0.06111 -0.01476 0.06158 C -0.01823 0.06158 -0.02136 0.05996 -0.02136 0.05764 C -0.02136 0.05602 -0.01841 0.05371 -0.01476 0.05371 C -0.01285 0.05347 -0.01111 0.05417 -0.0099 0.05463 C -0.00834 0.05579 -0.00729 0.05741 -0.00729 0.05926 C -0.00729 0.05996 -0.00764 0.06088 -0.00816 0.06158 C -0.00938 0.06366 -0.01181 0.06482 -0.01459 0.06505 C -0.01788 0.06551 -0.02066 0.06389 -0.02066 0.06227 C -0.02066 0.05996 -0.01788 0.05833 -0.01476 0.0581 C -0.0132 0.0581 -0.01163 0.05833 -0.01042 0.05926 C -0.00886 0.05996 -0.00799 0.06111 -0.00799 0.0632 C -0.00799 0.06389 -0.00834 0.06482 -0.00868 0.06551 C -0.0099 0.0669 -0.01198 0.06829 -0.01459 0.06829 C -0.01754 0.06875 -0.01997 0.06713 -0.01997 0.06551 C -0.01997 0.06389 -0.01754 0.06227 -0.01459 0.06227 C -0.0132 0.06227 -0.01181 0.06227 -0.01077 0.06273 C -0.00938 0.06389 -0.00868 0.06505 -0.00868 0.06644 C -0.00868 0.06713 -0.00886 0.06806 -0.00938 0.06875 C -0.01025 0.07014 -0.01233 0.0713 -0.01459 0.07153 C -0.01736 0.07153 -0.01927 0.07014 -0.01927 0.06875 C -0.01927 0.06713 -0.01736 0.06551 -0.01459 0.06551 C -0.0132 0.06551 -0.01198 0.06597 -0.01111 0.06644 C -0.0099 0.0669 -0.0092 0.06829 -0.0092 0.06968 C -0.0092 0.07014 -0.00938 0.0713 -0.00972 0.07153 C -0.01077 0.07315 -0.0125 0.07384 -0.01441 0.07454 C -0.01684 0.07454 -0.01893 0.07315 -0.01893 0.07176 C -0.01893 0.07014 -0.01684 0.06921 -0.01459 0.06875 C -0.01337 0.06875 -0.01233 0.06921 -0.01146 0.06968 C -0.01025 0.07014 -0.00972 0.0713 -0.00972 0.07269 C -0.00972 0.07315 -0.0099 0.07361 -0.01025 0.07454 E">
                                      <p:cBhvr>
                                        <p:cTn id="84" dur="5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64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7200" spc="-1" strike="noStrike">
                <a:solidFill>
                  <a:srgbClr val="ffff00"/>
                </a:solidFill>
                <a:latin typeface="Comic Sans MS"/>
              </a:rPr>
              <a:t>Minunat</a:t>
            </a:r>
            <a:r>
              <a:rPr b="1" lang="en-GB" sz="7200" spc="-1" strike="noStrike">
                <a:solidFill>
                  <a:srgbClr val="ffff00"/>
                </a:solidFill>
                <a:latin typeface="Comic Sans MS"/>
              </a:rPr>
              <a:t>!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>
            <a:hlinkClick r:id="rId2" action="ppaction://hlinksldjump"/>
          </p:cNvPr>
          <p:cNvSpPr/>
          <p:nvPr/>
        </p:nvSpPr>
        <p:spPr>
          <a:xfrm>
            <a:off x="3059280" y="5084640"/>
            <a:ext cx="863280" cy="1008360"/>
          </a:xfrm>
          <a:custGeom>
            <a:avLst/>
            <a:gdLst>
              <a:gd name="textAreaLeft" fmla="*/ 55800 w 863280"/>
              <a:gd name="textAreaRight" fmla="*/ 807480 w 863280"/>
              <a:gd name="textAreaTop" fmla="*/ 55800 h 1008360"/>
              <a:gd name="textAreaBottom" fmla="*/ 952560 h 1008360"/>
            </a:gdLst>
            <a:ahLst/>
            <a:rect l="textAreaLeft" t="textAreaTop" r="textAreaRight" b="textAreaBottom"/>
            <a:pathLst>
              <a:path w="21600" h="25229">
                <a:moveTo>
                  <a:pt x="0" y="0"/>
                </a:moveTo>
                <a:lnTo>
                  <a:pt x="21600" y="0"/>
                </a:lnTo>
                <a:lnTo>
                  <a:pt x="21600" y="25229"/>
                </a:lnTo>
                <a:lnTo>
                  <a:pt x="0" y="25229"/>
                </a:lnTo>
                <a:close/>
              </a:path>
              <a:path fill="lightenLess" w="21600" h="2522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29">
                <a:moveTo>
                  <a:pt x="21600" y="0"/>
                </a:moveTo>
                <a:lnTo>
                  <a:pt x="21600" y="25229"/>
                </a:lnTo>
                <a:lnTo>
                  <a:pt x="20200" y="23829"/>
                </a:lnTo>
                <a:lnTo>
                  <a:pt x="20200" y="1400"/>
                </a:lnTo>
                <a:close/>
              </a:path>
              <a:path fill="darkenLess" w="21600" h="25229">
                <a:moveTo>
                  <a:pt x="21600" y="25229"/>
                </a:moveTo>
                <a:lnTo>
                  <a:pt x="0" y="25229"/>
                </a:lnTo>
                <a:lnTo>
                  <a:pt x="1400" y="23829"/>
                </a:lnTo>
                <a:lnTo>
                  <a:pt x="20200" y="23829"/>
                </a:lnTo>
                <a:close/>
              </a:path>
              <a:path fill="lighten" w="21600" h="25229">
                <a:moveTo>
                  <a:pt x="0" y="2522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29"/>
                </a:lnTo>
                <a:close/>
              </a:path>
              <a:path fill="darken" w="21600" h="25229">
                <a:moveTo>
                  <a:pt x="3794" y="5608"/>
                </a:moveTo>
                <a:lnTo>
                  <a:pt x="17806" y="12614"/>
                </a:lnTo>
                <a:lnTo>
                  <a:pt x="3794" y="19621"/>
                </a:lnTo>
                <a:close/>
              </a:path>
            </a:pathLst>
          </a:custGeom>
          <a:solidFill>
            <a:srgbClr val="ffff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3"/>
          <a:stretch/>
        </p:blipFill>
        <p:spPr>
          <a:xfrm>
            <a:off x="5938920" y="2492280"/>
            <a:ext cx="3205080" cy="436572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4"/>
          <a:stretch/>
        </p:blipFill>
        <p:spPr>
          <a:xfrm>
            <a:off x="324000" y="1844640"/>
            <a:ext cx="5206680" cy="32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0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with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500"/>
                            </p:stCondLst>
                            <p:childTnLst>
                              <p:par>
                                <p:cTn id="8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1" dur="8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2" dur="8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3" dur="8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860"/>
                            </p:stCondLst>
                            <p:childTnLst>
                              <p:par>
                                <p:cTn id="9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1360"/>
                            </p:stCondLst>
                            <p:childTnLst>
                              <p:par>
                                <p:cTn id="9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>
            <a:hlinkClick r:id="rId2" action="ppaction://hlinksldjump"/>
          </p:cNvPr>
          <p:cNvSpPr/>
          <p:nvPr/>
        </p:nvSpPr>
        <p:spPr>
          <a:xfrm>
            <a:off x="4643280" y="3645000"/>
            <a:ext cx="1081080" cy="792000"/>
          </a:xfrm>
          <a:custGeom>
            <a:avLst/>
            <a:gdLst>
              <a:gd name="textAreaLeft" fmla="*/ 51120 w 1081080"/>
              <a:gd name="textAreaRight" fmla="*/ 1029960 w 1081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9480" h="21600">
                <a:moveTo>
                  <a:pt x="0" y="0"/>
                </a:moveTo>
                <a:lnTo>
                  <a:pt x="29480" y="0"/>
                </a:lnTo>
                <a:lnTo>
                  <a:pt x="29480" y="21600"/>
                </a:lnTo>
                <a:lnTo>
                  <a:pt x="0" y="21600"/>
                </a:lnTo>
                <a:close/>
              </a:path>
              <a:path fill="lightenLess" w="29480" h="21600">
                <a:moveTo>
                  <a:pt x="0" y="0"/>
                </a:moveTo>
                <a:lnTo>
                  <a:pt x="29480" y="0"/>
                </a:lnTo>
                <a:lnTo>
                  <a:pt x="28080" y="1400"/>
                </a:lnTo>
                <a:lnTo>
                  <a:pt x="1400" y="1400"/>
                </a:lnTo>
                <a:close/>
              </a:path>
              <a:path fill="darken" w="29480" h="21600">
                <a:moveTo>
                  <a:pt x="29480" y="0"/>
                </a:moveTo>
                <a:lnTo>
                  <a:pt x="29480" y="21600"/>
                </a:lnTo>
                <a:lnTo>
                  <a:pt x="28080" y="20200"/>
                </a:lnTo>
                <a:lnTo>
                  <a:pt x="28080" y="1400"/>
                </a:lnTo>
                <a:close/>
              </a:path>
              <a:path fill="darkenLess" w="29480" h="21600">
                <a:moveTo>
                  <a:pt x="294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80" y="20200"/>
                </a:lnTo>
                <a:close/>
              </a:path>
              <a:path fill="lighten" w="294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80" h="21600">
                <a:moveTo>
                  <a:pt x="7734" y="3794"/>
                </a:moveTo>
                <a:lnTo>
                  <a:pt x="21747" y="10800"/>
                </a:lnTo>
                <a:lnTo>
                  <a:pt x="7734" y="17806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3"/>
          <a:stretch/>
        </p:blipFill>
        <p:spPr>
          <a:xfrm>
            <a:off x="5724360" y="1700280"/>
            <a:ext cx="3419640" cy="494172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4"/>
          <a:stretch/>
        </p:blipFill>
        <p:spPr>
          <a:xfrm>
            <a:off x="468360" y="333360"/>
            <a:ext cx="8242200" cy="121932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533520" y="3048120"/>
            <a:ext cx="3274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f800"/>
                </a:solidFill>
                <a:latin typeface="Arial"/>
              </a:rPr>
              <a:t>Dă clic  şi încearcă din n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0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1000"/>
                            </p:stCondLst>
                            <p:childTnLst>
                              <p:par>
                                <p:cTn id="9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8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9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0" dur="8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1960"/>
                            </p:stCondLst>
                            <p:childTnLst>
                              <p:par>
                                <p:cTn id="9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68360" y="177336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2"/>
          <a:stretch/>
        </p:blipFill>
        <p:spPr>
          <a:xfrm>
            <a:off x="5697360" y="3328920"/>
            <a:ext cx="3446640" cy="352908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3"/>
          <a:stretch/>
        </p:blipFill>
        <p:spPr>
          <a:xfrm>
            <a:off x="395280" y="260280"/>
            <a:ext cx="8520120" cy="158436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152280" y="2971800"/>
            <a:ext cx="3275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f800"/>
                </a:solidFill>
                <a:latin typeface="Arial"/>
              </a:rPr>
              <a:t>Dă clic  şi încearcă din n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962520" y="4343400"/>
            <a:ext cx="1008000" cy="792000"/>
          </a:xfrm>
          <a:custGeom>
            <a:avLst/>
            <a:gdLst>
              <a:gd name="textAreaLeft" fmla="*/ 51120 w 1008000"/>
              <a:gd name="textAreaRight" fmla="*/ 956880 w 1008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88" h="21600">
                <a:moveTo>
                  <a:pt x="0" y="0"/>
                </a:moveTo>
                <a:lnTo>
                  <a:pt x="27488" y="0"/>
                </a:lnTo>
                <a:lnTo>
                  <a:pt x="27488" y="21600"/>
                </a:lnTo>
                <a:lnTo>
                  <a:pt x="0" y="21600"/>
                </a:lnTo>
                <a:close/>
              </a:path>
              <a:path fill="lightenLess" w="27488" h="21600">
                <a:moveTo>
                  <a:pt x="0" y="0"/>
                </a:moveTo>
                <a:lnTo>
                  <a:pt x="27488" y="0"/>
                </a:lnTo>
                <a:lnTo>
                  <a:pt x="26088" y="1400"/>
                </a:lnTo>
                <a:lnTo>
                  <a:pt x="1400" y="1400"/>
                </a:lnTo>
                <a:close/>
              </a:path>
              <a:path fill="darken" w="27488" h="21600">
                <a:moveTo>
                  <a:pt x="27488" y="0"/>
                </a:moveTo>
                <a:lnTo>
                  <a:pt x="27488" y="21600"/>
                </a:lnTo>
                <a:lnTo>
                  <a:pt x="26088" y="20200"/>
                </a:lnTo>
                <a:lnTo>
                  <a:pt x="26088" y="1400"/>
                </a:lnTo>
                <a:close/>
              </a:path>
              <a:path fill="darkenLess" w="27488" h="21600">
                <a:moveTo>
                  <a:pt x="274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8" y="20200"/>
                </a:lnTo>
                <a:close/>
              </a:path>
              <a:path fill="lighten" w="274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8" h="21600">
                <a:moveTo>
                  <a:pt x="6738" y="3794"/>
                </a:moveTo>
                <a:lnTo>
                  <a:pt x="20751" y="10800"/>
                </a:lnTo>
                <a:lnTo>
                  <a:pt x="6738" y="17806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2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4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5" dur="1000" fill="hold"/>
                                        <p:tgtEl>
                                          <p:spTgt spid="43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2000"/>
                            </p:stCondLst>
                            <p:childTnLst>
                              <p:par>
                                <p:cTn id="947" nodeType="afterEffect" fill="hold" presetClass="entr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9" dur="8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0" dur="8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1" dur="8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2960"/>
                            </p:stCondLst>
                            <p:childTnLst>
                              <p:par>
                                <p:cTn id="95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5" dur="8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6" dur="8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8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8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>
            <a:hlinkClick r:id="rId2" action="ppaction://hlinksldjump"/>
          </p:cNvPr>
          <p:cNvSpPr/>
          <p:nvPr/>
        </p:nvSpPr>
        <p:spPr>
          <a:xfrm>
            <a:off x="3809880" y="4495680"/>
            <a:ext cx="936720" cy="792360"/>
          </a:xfrm>
          <a:custGeom>
            <a:avLst/>
            <a:gdLst>
              <a:gd name="textAreaLeft" fmla="*/ 51120 w 936720"/>
              <a:gd name="textAreaRight" fmla="*/ 885600 w 9367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5534" h="21600">
                <a:moveTo>
                  <a:pt x="0" y="0"/>
                </a:moveTo>
                <a:lnTo>
                  <a:pt x="25534" y="0"/>
                </a:lnTo>
                <a:lnTo>
                  <a:pt x="25534" y="21600"/>
                </a:lnTo>
                <a:lnTo>
                  <a:pt x="0" y="21600"/>
                </a:lnTo>
                <a:close/>
              </a:path>
              <a:path fill="lightenLess" w="25534" h="21600">
                <a:moveTo>
                  <a:pt x="0" y="0"/>
                </a:moveTo>
                <a:lnTo>
                  <a:pt x="25534" y="0"/>
                </a:lnTo>
                <a:lnTo>
                  <a:pt x="24134" y="1400"/>
                </a:lnTo>
                <a:lnTo>
                  <a:pt x="1400" y="1400"/>
                </a:lnTo>
                <a:close/>
              </a:path>
              <a:path fill="darken" w="25534" h="21600">
                <a:moveTo>
                  <a:pt x="25534" y="0"/>
                </a:moveTo>
                <a:lnTo>
                  <a:pt x="25534" y="21600"/>
                </a:lnTo>
                <a:lnTo>
                  <a:pt x="24134" y="20200"/>
                </a:lnTo>
                <a:lnTo>
                  <a:pt x="24134" y="1400"/>
                </a:lnTo>
                <a:close/>
              </a:path>
              <a:path fill="darkenLess" w="25534" h="21600">
                <a:moveTo>
                  <a:pt x="25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4" y="20200"/>
                </a:lnTo>
                <a:close/>
              </a:path>
              <a:path fill="lighten" w="25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4" h="21600">
                <a:moveTo>
                  <a:pt x="5760" y="3794"/>
                </a:moveTo>
                <a:lnTo>
                  <a:pt x="19773" y="10800"/>
                </a:lnTo>
                <a:lnTo>
                  <a:pt x="5760" y="17806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3"/>
          <a:stretch/>
        </p:blipFill>
        <p:spPr>
          <a:xfrm>
            <a:off x="5905440" y="2438280"/>
            <a:ext cx="3238560" cy="388800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 txBox="1"/>
          <p:nvPr/>
        </p:nvSpPr>
        <p:spPr>
          <a:xfrm>
            <a:off x="2771640" y="404640"/>
            <a:ext cx="39592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c521"/>
                    </a:gs>
                  </a:gsLst>
                  <a:lin ang="5400000"/>
                </a:gradFill>
                <a:latin typeface="Times New Roman"/>
              </a:rPr>
              <a:t>Oar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c521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4920" y="2971800"/>
            <a:ext cx="3274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f800"/>
                </a:solidFill>
                <a:latin typeface="Arial"/>
              </a:rPr>
              <a:t>Dă clic  şi încearcă din n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fill="hold">
                      <p:stCondLst>
                        <p:cond delay="0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afterEffect" fill="hold" presetClass="entr" presetID="5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9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1000"/>
                            </p:stCondLst>
                            <p:childTnLst>
                              <p:par>
                                <p:cTn id="971" nodeType="after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2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99ff"/>
                                      </p:to>
                                    </p:animClr>
                                    <p:set>
                                      <p:cBhvr>
                                        <p:cTn id="973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3000"/>
                            </p:stCondLst>
                            <p:childTnLst>
                              <p:par>
                                <p:cTn id="975" nodeType="afterEffect" fill="hold" presetClass="entr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7" dur="8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8" dur="8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9" dur="8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3960"/>
                            </p:stCondLst>
                            <p:childTnLst>
                              <p:par>
                                <p:cTn id="9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2820960" cy="4248000"/>
          </a:xfrm>
          <a:prstGeom prst="rect">
            <a:avLst/>
          </a:prstGeom>
          <a:ln w="0">
            <a:noFill/>
          </a:ln>
        </p:spPr>
      </p:pic>
      <p:sp>
        <p:nvSpPr>
          <p:cNvPr id="450" name="">
            <a:hlinkClick r:id="rId3" action="ppaction://hlinksldjump"/>
          </p:cNvPr>
          <p:cNvSpPr/>
          <p:nvPr/>
        </p:nvSpPr>
        <p:spPr>
          <a:xfrm>
            <a:off x="4643280" y="2708280"/>
            <a:ext cx="863640" cy="1008000"/>
          </a:xfrm>
          <a:custGeom>
            <a:avLst/>
            <a:gdLst>
              <a:gd name="textAreaLeft" fmla="*/ 55800 w 863640"/>
              <a:gd name="textAreaRight" fmla="*/ 807840 w 863640"/>
              <a:gd name="textAreaTop" fmla="*/ 55800 h 1008000"/>
              <a:gd name="textAreaBottom" fmla="*/ 952200 h 1008000"/>
            </a:gdLst>
            <a:ahLst/>
            <a:rect l="textAreaLeft" t="textAreaTop" r="textAreaRight" b="textAreaBottom"/>
            <a:pathLst>
              <a:path w="21600" h="25209">
                <a:moveTo>
                  <a:pt x="0" y="0"/>
                </a:moveTo>
                <a:lnTo>
                  <a:pt x="21600" y="0"/>
                </a:lnTo>
                <a:lnTo>
                  <a:pt x="21600" y="25209"/>
                </a:lnTo>
                <a:lnTo>
                  <a:pt x="0" y="25209"/>
                </a:lnTo>
                <a:close/>
              </a:path>
              <a:path fill="lightenLess" w="21600" h="25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9">
                <a:moveTo>
                  <a:pt x="21600" y="0"/>
                </a:moveTo>
                <a:lnTo>
                  <a:pt x="21600" y="25209"/>
                </a:lnTo>
                <a:lnTo>
                  <a:pt x="20200" y="23809"/>
                </a:lnTo>
                <a:lnTo>
                  <a:pt x="20200" y="1400"/>
                </a:lnTo>
                <a:close/>
              </a:path>
              <a:path fill="darkenLess" w="21600" h="25209">
                <a:moveTo>
                  <a:pt x="21600" y="25209"/>
                </a:moveTo>
                <a:lnTo>
                  <a:pt x="0" y="25209"/>
                </a:lnTo>
                <a:lnTo>
                  <a:pt x="1400" y="23809"/>
                </a:lnTo>
                <a:lnTo>
                  <a:pt x="20200" y="23809"/>
                </a:lnTo>
                <a:close/>
              </a:path>
              <a:path fill="lighten" w="21600" h="25209">
                <a:moveTo>
                  <a:pt x="0" y="25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9"/>
                </a:lnTo>
                <a:close/>
              </a:path>
              <a:path fill="darken" w="21600" h="25209">
                <a:moveTo>
                  <a:pt x="3794" y="5598"/>
                </a:moveTo>
                <a:lnTo>
                  <a:pt x="17806" y="12605"/>
                </a:lnTo>
                <a:lnTo>
                  <a:pt x="3794" y="19611"/>
                </a:lnTo>
                <a:close/>
              </a:path>
            </a:pathLst>
          </a:custGeom>
          <a:solidFill>
            <a:srgbClr val="ffff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09480" y="2362320"/>
            <a:ext cx="3275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f800"/>
                </a:solidFill>
                <a:latin typeface="Arial"/>
              </a:rPr>
              <a:t>Dă clic  şi încearcă din n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80880" y="228600"/>
            <a:ext cx="876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Mai trebuie                           să te antrenezi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0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after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8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9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9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9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1650"/>
                            </p:stCondLst>
                            <p:childTnLst>
                              <p:par>
                                <p:cTn id="994" nodeType="afterEffect" fill="hold" presetClass="entr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6" dur="8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7" dur="8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8" dur="8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2610"/>
                            </p:stCondLst>
                            <p:childTnLst>
                              <p:par>
                                <p:cTn id="1000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" descr=""/>
          <p:cNvPicPr/>
          <p:nvPr/>
        </p:nvPicPr>
        <p:blipFill>
          <a:blip r:embed="rId2"/>
          <a:stretch/>
        </p:blipFill>
        <p:spPr>
          <a:xfrm>
            <a:off x="5651640" y="2781360"/>
            <a:ext cx="3313080" cy="211752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3"/>
          <a:stretch/>
        </p:blipFill>
        <p:spPr>
          <a:xfrm>
            <a:off x="4427640" y="6381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4"/>
          <a:stretch/>
        </p:blipFill>
        <p:spPr>
          <a:xfrm>
            <a:off x="5580000" y="4292640"/>
            <a:ext cx="3564000" cy="240516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5"/>
          <a:stretch/>
        </p:blipFill>
        <p:spPr>
          <a:xfrm>
            <a:off x="324000" y="692280"/>
            <a:ext cx="2663640" cy="255096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6"/>
          <a:stretch/>
        </p:blipFill>
        <p:spPr>
          <a:xfrm>
            <a:off x="0" y="2349360"/>
            <a:ext cx="3780000" cy="293400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7"/>
          <a:stretch/>
        </p:blipFill>
        <p:spPr>
          <a:xfrm>
            <a:off x="0" y="3954600"/>
            <a:ext cx="4140360" cy="290340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8"/>
          <a:stretch/>
        </p:blipFill>
        <p:spPr>
          <a:xfrm>
            <a:off x="6300720" y="1125360"/>
            <a:ext cx="2156040" cy="211788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39640" y="119700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 rot="30600">
            <a:off x="469800" y="1555920"/>
            <a:ext cx="20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95280" y="5661000"/>
            <a:ext cx="35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39640" y="1341360"/>
            <a:ext cx="2159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o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84360" y="3068640"/>
            <a:ext cx="2158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o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900000" y="4581360"/>
            <a:ext cx="2159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o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635280" y="2349360"/>
            <a:ext cx="2016360" cy="1729080"/>
          </a:xfrm>
          <a:prstGeom prst="wedgeRoundRectCallout">
            <a:avLst>
              <a:gd name="adj1" fmla="val 3856"/>
              <a:gd name="adj2" fmla="val 80671"/>
              <a:gd name="adj3" fmla="val 16667"/>
            </a:avLst>
          </a:prstGeom>
          <a:solidFill>
            <a:srgbClr val="bbe0e3">
              <a:alpha val="34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>
            <a:hlinkClick r:id="rId9" action="ppaction://hlinksldjump"/>
          </p:cNvPr>
          <p:cNvSpPr/>
          <p:nvPr/>
        </p:nvSpPr>
        <p:spPr>
          <a:xfrm>
            <a:off x="611280" y="1268280"/>
            <a:ext cx="2016000" cy="1081080"/>
          </a:xfrm>
          <a:custGeom>
            <a:avLst/>
            <a:gdLst>
              <a:gd name="textAreaLeft" fmla="*/ 69840 w 2016000"/>
              <a:gd name="textAreaRight" fmla="*/ 1946160 w 2016000"/>
              <a:gd name="textAreaTop" fmla="*/ 69840 h 1081080"/>
              <a:gd name="textAreaBottom" fmla="*/ 1011240 h 1081080"/>
            </a:gdLst>
            <a:ahLst/>
            <a:rect l="textAreaLeft" t="textAreaTop" r="textAreaRight" b="textAreaBottom"/>
            <a:pathLst>
              <a:path w="40274" h="21600">
                <a:moveTo>
                  <a:pt x="0" y="0"/>
                </a:moveTo>
                <a:lnTo>
                  <a:pt x="40274" y="0"/>
                </a:lnTo>
                <a:lnTo>
                  <a:pt x="40274" y="21600"/>
                </a:lnTo>
                <a:lnTo>
                  <a:pt x="0" y="21600"/>
                </a:lnTo>
                <a:close/>
              </a:path>
              <a:path fill="lightenLess" w="40274" h="21600">
                <a:moveTo>
                  <a:pt x="0" y="0"/>
                </a:moveTo>
                <a:lnTo>
                  <a:pt x="40274" y="0"/>
                </a:lnTo>
                <a:lnTo>
                  <a:pt x="38874" y="1400"/>
                </a:lnTo>
                <a:lnTo>
                  <a:pt x="1400" y="1400"/>
                </a:lnTo>
                <a:close/>
              </a:path>
              <a:path fill="darken" w="40274" h="21600">
                <a:moveTo>
                  <a:pt x="40274" y="0"/>
                </a:moveTo>
                <a:lnTo>
                  <a:pt x="40274" y="21600"/>
                </a:lnTo>
                <a:lnTo>
                  <a:pt x="38874" y="20200"/>
                </a:lnTo>
                <a:lnTo>
                  <a:pt x="38874" y="1400"/>
                </a:lnTo>
                <a:close/>
              </a:path>
              <a:path fill="darkenLess" w="40274" h="21600">
                <a:moveTo>
                  <a:pt x="402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874" y="20200"/>
                </a:lnTo>
                <a:close/>
              </a:path>
              <a:path fill="lighten" w="402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274" h="21600">
                <a:moveTo>
                  <a:pt x="13130" y="3794"/>
                </a:moveTo>
                <a:lnTo>
                  <a:pt x="27143" y="10800"/>
                </a:lnTo>
                <a:lnTo>
                  <a:pt x="1313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>
            <a:hlinkClick r:id="rId10" action="ppaction://hlinksldjump"/>
          </p:cNvPr>
          <p:cNvSpPr/>
          <p:nvPr/>
        </p:nvSpPr>
        <p:spPr>
          <a:xfrm>
            <a:off x="755640" y="3141720"/>
            <a:ext cx="2016000" cy="934920"/>
          </a:xfrm>
          <a:custGeom>
            <a:avLst/>
            <a:gdLst>
              <a:gd name="textAreaLeft" fmla="*/ 60480 w 2016000"/>
              <a:gd name="textAreaRight" fmla="*/ 1955520 w 201600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46567" h="21600">
                <a:moveTo>
                  <a:pt x="0" y="0"/>
                </a:moveTo>
                <a:lnTo>
                  <a:pt x="46567" y="0"/>
                </a:lnTo>
                <a:lnTo>
                  <a:pt x="46567" y="21600"/>
                </a:lnTo>
                <a:lnTo>
                  <a:pt x="0" y="21600"/>
                </a:lnTo>
                <a:close/>
              </a:path>
              <a:path fill="lightenLess" w="46567" h="21600">
                <a:moveTo>
                  <a:pt x="0" y="0"/>
                </a:moveTo>
                <a:lnTo>
                  <a:pt x="46567" y="0"/>
                </a:lnTo>
                <a:lnTo>
                  <a:pt x="45167" y="1400"/>
                </a:lnTo>
                <a:lnTo>
                  <a:pt x="1400" y="1400"/>
                </a:lnTo>
                <a:close/>
              </a:path>
              <a:path fill="darken" w="46567" h="21600">
                <a:moveTo>
                  <a:pt x="46567" y="0"/>
                </a:moveTo>
                <a:lnTo>
                  <a:pt x="46567" y="21600"/>
                </a:lnTo>
                <a:lnTo>
                  <a:pt x="45167" y="20200"/>
                </a:lnTo>
                <a:lnTo>
                  <a:pt x="45167" y="1400"/>
                </a:lnTo>
                <a:close/>
              </a:path>
              <a:path fill="darkenLess" w="46567" h="21600">
                <a:moveTo>
                  <a:pt x="465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167" y="20200"/>
                </a:lnTo>
                <a:close/>
              </a:path>
              <a:path fill="lighten" w="465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567" h="21600">
                <a:moveTo>
                  <a:pt x="16277" y="3794"/>
                </a:moveTo>
                <a:lnTo>
                  <a:pt x="30290" y="10800"/>
                </a:lnTo>
                <a:lnTo>
                  <a:pt x="16277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>
            <a:hlinkClick r:id="rId11" action="ppaction://hlinksldjump"/>
          </p:cNvPr>
          <p:cNvSpPr/>
          <p:nvPr/>
        </p:nvSpPr>
        <p:spPr>
          <a:xfrm>
            <a:off x="755640" y="4581360"/>
            <a:ext cx="2303640" cy="1152720"/>
          </a:xfrm>
          <a:custGeom>
            <a:avLst/>
            <a:gdLst>
              <a:gd name="textAreaLeft" fmla="*/ 74520 w 2303640"/>
              <a:gd name="textAreaRight" fmla="*/ 2229120 w 230364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43160" h="21600">
                <a:moveTo>
                  <a:pt x="0" y="0"/>
                </a:moveTo>
                <a:lnTo>
                  <a:pt x="43160" y="0"/>
                </a:lnTo>
                <a:lnTo>
                  <a:pt x="43160" y="21600"/>
                </a:lnTo>
                <a:lnTo>
                  <a:pt x="0" y="21600"/>
                </a:lnTo>
                <a:close/>
              </a:path>
              <a:path fill="lightenLess" w="43160" h="21600">
                <a:moveTo>
                  <a:pt x="0" y="0"/>
                </a:moveTo>
                <a:lnTo>
                  <a:pt x="43160" y="0"/>
                </a:lnTo>
                <a:lnTo>
                  <a:pt x="41760" y="1400"/>
                </a:lnTo>
                <a:lnTo>
                  <a:pt x="1400" y="1400"/>
                </a:lnTo>
                <a:close/>
              </a:path>
              <a:path fill="darken" w="43160" h="21600">
                <a:moveTo>
                  <a:pt x="43160" y="0"/>
                </a:moveTo>
                <a:lnTo>
                  <a:pt x="43160" y="21600"/>
                </a:lnTo>
                <a:lnTo>
                  <a:pt x="41760" y="20200"/>
                </a:lnTo>
                <a:lnTo>
                  <a:pt x="41760" y="1400"/>
                </a:lnTo>
                <a:close/>
              </a:path>
              <a:path fill="darkenLess" w="43160" h="21600">
                <a:moveTo>
                  <a:pt x="431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0" y="20200"/>
                </a:lnTo>
                <a:close/>
              </a:path>
              <a:path fill="lighten" w="431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0" h="21600">
                <a:moveTo>
                  <a:pt x="14573" y="3794"/>
                </a:moveTo>
                <a:lnTo>
                  <a:pt x="28586" y="10800"/>
                </a:lnTo>
                <a:lnTo>
                  <a:pt x="1457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297480" y="1700280"/>
            <a:ext cx="21592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1" lang="en-GB" sz="4800" spc="-1" strike="noStrike">
                <a:solidFill>
                  <a:srgbClr val="000000"/>
                </a:solidFill>
                <a:latin typeface="Comic Sans MS"/>
              </a:rPr>
              <a:t>9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o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156360" y="3213000"/>
            <a:ext cx="21556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1" lang="en-GB" sz="48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o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227640" y="4797360"/>
            <a:ext cx="21592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1" lang="en-GB" sz="48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o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>
            <a:hlinkClick r:id="rId12" action="ppaction://hlinksldjump"/>
          </p:cNvPr>
          <p:cNvSpPr/>
          <p:nvPr/>
        </p:nvSpPr>
        <p:spPr>
          <a:xfrm>
            <a:off x="6300720" y="1700280"/>
            <a:ext cx="2016360" cy="1008000"/>
          </a:xfrm>
          <a:custGeom>
            <a:avLst/>
            <a:gdLst>
              <a:gd name="textAreaLeft" fmla="*/ 65160 w 2016360"/>
              <a:gd name="textAreaRight" fmla="*/ 1951200 w 201636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>
            <a:hlinkClick r:id="rId13" action="ppaction://hlinksldjump"/>
          </p:cNvPr>
          <p:cNvSpPr/>
          <p:nvPr/>
        </p:nvSpPr>
        <p:spPr>
          <a:xfrm>
            <a:off x="6156360" y="3213000"/>
            <a:ext cx="2087640" cy="1079640"/>
          </a:xfrm>
          <a:custGeom>
            <a:avLst/>
            <a:gdLst>
              <a:gd name="textAreaLeft" fmla="*/ 66600 w 2087640"/>
              <a:gd name="textAreaRight" fmla="*/ 2021040 w 2087640"/>
              <a:gd name="textAreaTop" fmla="*/ 66600 h 1079640"/>
              <a:gd name="textAreaBottom" fmla="*/ 1013040 h 1079640"/>
            </a:gdLst>
            <a:ahLst/>
            <a:rect l="textAreaLeft" t="textAreaTop" r="textAreaRight" b="textAreaBottom"/>
            <a:pathLst>
              <a:path w="41760" h="21600">
                <a:moveTo>
                  <a:pt x="0" y="0"/>
                </a:moveTo>
                <a:lnTo>
                  <a:pt x="41760" y="0"/>
                </a:lnTo>
                <a:lnTo>
                  <a:pt x="41760" y="21600"/>
                </a:lnTo>
                <a:lnTo>
                  <a:pt x="0" y="21600"/>
                </a:lnTo>
                <a:close/>
              </a:path>
              <a:path fill="lightenLess" w="41760" h="21600">
                <a:moveTo>
                  <a:pt x="0" y="0"/>
                </a:moveTo>
                <a:lnTo>
                  <a:pt x="41760" y="0"/>
                </a:lnTo>
                <a:lnTo>
                  <a:pt x="40426" y="1334"/>
                </a:lnTo>
                <a:lnTo>
                  <a:pt x="1334" y="1334"/>
                </a:lnTo>
                <a:close/>
              </a:path>
              <a:path fill="darken" w="41760" h="21600">
                <a:moveTo>
                  <a:pt x="41760" y="0"/>
                </a:moveTo>
                <a:lnTo>
                  <a:pt x="41760" y="21600"/>
                </a:lnTo>
                <a:lnTo>
                  <a:pt x="40426" y="20266"/>
                </a:lnTo>
                <a:lnTo>
                  <a:pt x="40426" y="1334"/>
                </a:lnTo>
                <a:close/>
              </a:path>
              <a:path fill="darkenLess" w="41760" h="21600">
                <a:moveTo>
                  <a:pt x="41760" y="21600"/>
                </a:moveTo>
                <a:lnTo>
                  <a:pt x="0" y="21600"/>
                </a:lnTo>
                <a:lnTo>
                  <a:pt x="1334" y="20266"/>
                </a:lnTo>
                <a:lnTo>
                  <a:pt x="40426" y="20266"/>
                </a:lnTo>
                <a:close/>
              </a:path>
              <a:path fill="lighten" w="41760" h="21600">
                <a:moveTo>
                  <a:pt x="0" y="21600"/>
                </a:moveTo>
                <a:lnTo>
                  <a:pt x="0" y="0"/>
                </a:lnTo>
                <a:lnTo>
                  <a:pt x="1334" y="1334"/>
                </a:lnTo>
                <a:lnTo>
                  <a:pt x="1334" y="20266"/>
                </a:lnTo>
                <a:close/>
              </a:path>
              <a:path fill="darken" w="41760" h="21600">
                <a:moveTo>
                  <a:pt x="13824" y="3744"/>
                </a:moveTo>
                <a:lnTo>
                  <a:pt x="27936" y="10800"/>
                </a:lnTo>
                <a:lnTo>
                  <a:pt x="13824" y="1785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>
            <a:hlinkClick r:id="rId14" action="ppaction://hlinksldjump"/>
          </p:cNvPr>
          <p:cNvSpPr/>
          <p:nvPr/>
        </p:nvSpPr>
        <p:spPr>
          <a:xfrm>
            <a:off x="6443640" y="4724280"/>
            <a:ext cx="2014560" cy="1079640"/>
          </a:xfrm>
          <a:custGeom>
            <a:avLst/>
            <a:gdLst>
              <a:gd name="textAreaLeft" fmla="*/ 69840 w 2014560"/>
              <a:gd name="textAreaRight" fmla="*/ 1944720 w 2014560"/>
              <a:gd name="textAreaTop" fmla="*/ 69840 h 1079640"/>
              <a:gd name="textAreaBottom" fmla="*/ 1009800 h 1079640"/>
            </a:gdLst>
            <a:ahLst/>
            <a:rect l="textAreaLeft" t="textAreaTop" r="textAreaRight" b="textAreaBottom"/>
            <a:pathLst>
              <a:path w="40298" h="21600">
                <a:moveTo>
                  <a:pt x="0" y="0"/>
                </a:moveTo>
                <a:lnTo>
                  <a:pt x="40298" y="0"/>
                </a:lnTo>
                <a:lnTo>
                  <a:pt x="40298" y="21600"/>
                </a:lnTo>
                <a:lnTo>
                  <a:pt x="0" y="21600"/>
                </a:lnTo>
                <a:close/>
              </a:path>
              <a:path fill="lightenLess" w="40298" h="21600">
                <a:moveTo>
                  <a:pt x="0" y="0"/>
                </a:moveTo>
                <a:lnTo>
                  <a:pt x="40298" y="0"/>
                </a:lnTo>
                <a:lnTo>
                  <a:pt x="38898" y="1400"/>
                </a:lnTo>
                <a:lnTo>
                  <a:pt x="1400" y="1400"/>
                </a:lnTo>
                <a:close/>
              </a:path>
              <a:path fill="darken" w="40298" h="21600">
                <a:moveTo>
                  <a:pt x="40298" y="0"/>
                </a:moveTo>
                <a:lnTo>
                  <a:pt x="40298" y="21600"/>
                </a:lnTo>
                <a:lnTo>
                  <a:pt x="38898" y="20200"/>
                </a:lnTo>
                <a:lnTo>
                  <a:pt x="38898" y="1400"/>
                </a:lnTo>
                <a:close/>
              </a:path>
              <a:path fill="darkenLess" w="40298" h="21600">
                <a:moveTo>
                  <a:pt x="402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898" y="20200"/>
                </a:lnTo>
                <a:close/>
              </a:path>
              <a:path fill="lighten" w="402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298" h="21600">
                <a:moveTo>
                  <a:pt x="13143" y="3794"/>
                </a:moveTo>
                <a:lnTo>
                  <a:pt x="27156" y="10800"/>
                </a:lnTo>
                <a:lnTo>
                  <a:pt x="1314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5"/>
          <a:stretch/>
        </p:blipFill>
        <p:spPr>
          <a:xfrm>
            <a:off x="3132000" y="3789360"/>
            <a:ext cx="2840040" cy="306864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16"/>
          <a:stretch/>
        </p:blipFill>
        <p:spPr>
          <a:xfrm>
            <a:off x="3780000" y="2421000"/>
            <a:ext cx="1741320" cy="161460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17"/>
          <a:stretch/>
        </p:blipFill>
        <p:spPr>
          <a:xfrm>
            <a:off x="2556000" y="404640"/>
            <a:ext cx="3887640" cy="159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0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7451640" y="5013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68360" y="47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Comic Sans MS"/>
              </a:rPr>
              <a:t>Te pricepi!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0" y="14130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omic Sans MS"/>
              </a:rPr>
              <a:t>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ffff00"/>
                </a:solidFill>
                <a:latin typeface="Comic Sans MS"/>
              </a:rPr>
              <a:t>Treci mai departe </a:t>
            </a:r>
            <a:r>
              <a:rPr b="1" lang="en-GB" sz="5400" spc="-1" strike="noStrike">
                <a:solidFill>
                  <a:srgbClr val="ffff00"/>
                </a:solidFill>
                <a:latin typeface="Comic Sans MS"/>
              </a:rPr>
              <a:t>.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>
            <a:hlinkClick r:id="rId3" action="ppaction://hlinksldjump"/>
          </p:cNvPr>
          <p:cNvSpPr/>
          <p:nvPr/>
        </p:nvSpPr>
        <p:spPr>
          <a:xfrm>
            <a:off x="4067280" y="2852640"/>
            <a:ext cx="1368360" cy="1008000"/>
          </a:xfrm>
          <a:custGeom>
            <a:avLst/>
            <a:gdLst>
              <a:gd name="textAreaLeft" fmla="*/ 65160 w 1368360"/>
              <a:gd name="textAreaRight" fmla="*/ 1303200 w 136836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9319" h="21600">
                <a:moveTo>
                  <a:pt x="0" y="0"/>
                </a:moveTo>
                <a:lnTo>
                  <a:pt x="29319" y="0"/>
                </a:lnTo>
                <a:lnTo>
                  <a:pt x="29319" y="21600"/>
                </a:lnTo>
                <a:lnTo>
                  <a:pt x="0" y="21600"/>
                </a:lnTo>
                <a:close/>
              </a:path>
              <a:path fill="lightenLess" w="29319" h="21600">
                <a:moveTo>
                  <a:pt x="0" y="0"/>
                </a:moveTo>
                <a:lnTo>
                  <a:pt x="29319" y="0"/>
                </a:lnTo>
                <a:lnTo>
                  <a:pt x="27919" y="1400"/>
                </a:lnTo>
                <a:lnTo>
                  <a:pt x="1400" y="1400"/>
                </a:lnTo>
                <a:close/>
              </a:path>
              <a:path fill="darken" w="29319" h="21600">
                <a:moveTo>
                  <a:pt x="29319" y="0"/>
                </a:moveTo>
                <a:lnTo>
                  <a:pt x="29319" y="21600"/>
                </a:lnTo>
                <a:lnTo>
                  <a:pt x="27919" y="20200"/>
                </a:lnTo>
                <a:lnTo>
                  <a:pt x="27919" y="1400"/>
                </a:lnTo>
                <a:close/>
              </a:path>
              <a:path fill="darkenLess" w="29319" h="21600">
                <a:moveTo>
                  <a:pt x="293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19" y="20200"/>
                </a:lnTo>
                <a:close/>
              </a:path>
              <a:path fill="lighten" w="293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19" h="21600">
                <a:moveTo>
                  <a:pt x="7653" y="3794"/>
                </a:moveTo>
                <a:lnTo>
                  <a:pt x="21666" y="10800"/>
                </a:lnTo>
                <a:lnTo>
                  <a:pt x="7653" y="17806"/>
                </a:lnTo>
                <a:close/>
              </a:path>
            </a:pathLst>
          </a:custGeom>
          <a:solidFill>
            <a:srgbClr val="ffff00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4"/>
          <a:stretch/>
        </p:blipFill>
        <p:spPr>
          <a:xfrm>
            <a:off x="7451640" y="5300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5"/>
          <a:stretch/>
        </p:blipFill>
        <p:spPr>
          <a:xfrm>
            <a:off x="6031080" y="2924280"/>
            <a:ext cx="3112920" cy="373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0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2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4" dur="500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5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0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0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0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0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2350"/>
                            </p:stCondLst>
                            <p:childTnLst>
                              <p:par>
                                <p:cTn id="10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" descr=""/>
          <p:cNvPicPr/>
          <p:nvPr/>
        </p:nvPicPr>
        <p:blipFill>
          <a:blip r:embed="rId2"/>
          <a:stretch/>
        </p:blipFill>
        <p:spPr>
          <a:xfrm>
            <a:off x="7596360" y="53737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ffff00"/>
                </a:solidFill>
                <a:latin typeface="Arial"/>
              </a:rPr>
              <a:t>Dacă eşti atent, reuşeşti! </a:t>
            </a:r>
            <a:r>
              <a:rPr b="1" lang="en-GB" sz="54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ro-RO" sz="5400" spc="-1" strike="noStrike">
                <a:solidFill>
                  <a:srgbClr val="ffff00"/>
                </a:solidFill>
                <a:latin typeface="Arial"/>
              </a:rPr>
              <a:t>u te opri!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3"/>
          <a:stretch/>
        </p:blipFill>
        <p:spPr>
          <a:xfrm>
            <a:off x="6181560" y="2492280"/>
            <a:ext cx="2962440" cy="4365720"/>
          </a:xfrm>
          <a:prstGeom prst="rect">
            <a:avLst/>
          </a:prstGeom>
          <a:ln w="0">
            <a:noFill/>
          </a:ln>
        </p:spPr>
      </p:pic>
      <p:sp>
        <p:nvSpPr>
          <p:cNvPr id="496" name="">
            <a:hlinkClick r:id="rId4" action="ppaction://hlinksldjump"/>
          </p:cNvPr>
          <p:cNvSpPr/>
          <p:nvPr/>
        </p:nvSpPr>
        <p:spPr>
          <a:xfrm>
            <a:off x="3505320" y="3657600"/>
            <a:ext cx="1295280" cy="792000"/>
          </a:xfrm>
          <a:custGeom>
            <a:avLst/>
            <a:gdLst>
              <a:gd name="textAreaLeft" fmla="*/ 51120 w 1295280"/>
              <a:gd name="textAreaRight" fmla="*/ 1244160 w 12952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35320" h="21600">
                <a:moveTo>
                  <a:pt x="0" y="0"/>
                </a:moveTo>
                <a:lnTo>
                  <a:pt x="35320" y="0"/>
                </a:lnTo>
                <a:lnTo>
                  <a:pt x="35320" y="21600"/>
                </a:lnTo>
                <a:lnTo>
                  <a:pt x="0" y="21600"/>
                </a:lnTo>
                <a:close/>
              </a:path>
              <a:path fill="lightenLess" w="35320" h="21600">
                <a:moveTo>
                  <a:pt x="0" y="0"/>
                </a:moveTo>
                <a:lnTo>
                  <a:pt x="35320" y="0"/>
                </a:lnTo>
                <a:lnTo>
                  <a:pt x="33920" y="1400"/>
                </a:lnTo>
                <a:lnTo>
                  <a:pt x="1400" y="1400"/>
                </a:lnTo>
                <a:close/>
              </a:path>
              <a:path fill="darken" w="35320" h="21600">
                <a:moveTo>
                  <a:pt x="35320" y="0"/>
                </a:moveTo>
                <a:lnTo>
                  <a:pt x="35320" y="21600"/>
                </a:lnTo>
                <a:lnTo>
                  <a:pt x="33920" y="20200"/>
                </a:lnTo>
                <a:lnTo>
                  <a:pt x="33920" y="1400"/>
                </a:lnTo>
                <a:close/>
              </a:path>
              <a:path fill="darkenLess" w="35320" h="21600">
                <a:moveTo>
                  <a:pt x="353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20" y="20200"/>
                </a:lnTo>
                <a:close/>
              </a:path>
              <a:path fill="lighten" w="353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20" h="21600">
                <a:moveTo>
                  <a:pt x="10653" y="3794"/>
                </a:moveTo>
                <a:lnTo>
                  <a:pt x="24666" y="10800"/>
                </a:lnTo>
                <a:lnTo>
                  <a:pt x="10653" y="17806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0" y="2819520"/>
            <a:ext cx="3274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f800"/>
                </a:solidFill>
                <a:latin typeface="Arial"/>
              </a:rPr>
              <a:t>Dă clic  şi încearcă din n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fill="hold">
                      <p:stCondLst>
                        <p:cond delay="0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afterEffect" fill="hold" presetClass="entr" presetID="41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4" dur="5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2050"/>
                            </p:stCondLst>
                            <p:childTnLst>
                              <p:par>
                                <p:cTn id="1066" nodeType="afterEffect" fill="hold" presetClass="entr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8" dur="8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9" dur="8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0" dur="8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3010"/>
                            </p:stCondLst>
                            <p:childTnLst>
                              <p:par>
                                <p:cTn id="10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>
            <a:hlinkClick r:id="rId2" action="ppaction://hlinksldjump"/>
          </p:cNvPr>
          <p:cNvSpPr/>
          <p:nvPr/>
        </p:nvSpPr>
        <p:spPr>
          <a:xfrm>
            <a:off x="4716360" y="2781360"/>
            <a:ext cx="936720" cy="792000"/>
          </a:xfrm>
          <a:custGeom>
            <a:avLst/>
            <a:gdLst>
              <a:gd name="textAreaLeft" fmla="*/ 51120 w 936720"/>
              <a:gd name="textAreaRight" fmla="*/ 885600 w 9367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5545" h="21600">
                <a:moveTo>
                  <a:pt x="0" y="0"/>
                </a:moveTo>
                <a:lnTo>
                  <a:pt x="25545" y="0"/>
                </a:lnTo>
                <a:lnTo>
                  <a:pt x="25545" y="21600"/>
                </a:lnTo>
                <a:lnTo>
                  <a:pt x="0" y="21600"/>
                </a:lnTo>
                <a:close/>
              </a:path>
              <a:path fill="lightenLess" w="25545" h="21600">
                <a:moveTo>
                  <a:pt x="0" y="0"/>
                </a:moveTo>
                <a:lnTo>
                  <a:pt x="25545" y="0"/>
                </a:lnTo>
                <a:lnTo>
                  <a:pt x="24145" y="1400"/>
                </a:lnTo>
                <a:lnTo>
                  <a:pt x="1400" y="1400"/>
                </a:lnTo>
                <a:close/>
              </a:path>
              <a:path fill="darken" w="25545" h="21600">
                <a:moveTo>
                  <a:pt x="25545" y="0"/>
                </a:moveTo>
                <a:lnTo>
                  <a:pt x="25545" y="21600"/>
                </a:lnTo>
                <a:lnTo>
                  <a:pt x="24145" y="20200"/>
                </a:lnTo>
                <a:lnTo>
                  <a:pt x="24145" y="1400"/>
                </a:lnTo>
                <a:close/>
              </a:path>
              <a:path fill="darkenLess" w="25545" h="21600">
                <a:moveTo>
                  <a:pt x="255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45" y="20200"/>
                </a:lnTo>
                <a:close/>
              </a:path>
              <a:path fill="lighten" w="255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45" h="21600">
                <a:moveTo>
                  <a:pt x="5766" y="3794"/>
                </a:moveTo>
                <a:lnTo>
                  <a:pt x="19779" y="10800"/>
                </a:lnTo>
                <a:lnTo>
                  <a:pt x="5766" y="17806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3"/>
          <a:stretch/>
        </p:blipFill>
        <p:spPr>
          <a:xfrm>
            <a:off x="5292720" y="2708280"/>
            <a:ext cx="3238560" cy="388764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 txBox="1"/>
          <p:nvPr/>
        </p:nvSpPr>
        <p:spPr>
          <a:xfrm>
            <a:off x="2771640" y="404640"/>
            <a:ext cx="39592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c521"/>
                    </a:gs>
                  </a:gsLst>
                  <a:lin ang="5400000"/>
                </a:gradFill>
                <a:latin typeface="Times New Roman"/>
              </a:rPr>
              <a:t>Oar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c521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85800" y="2209680"/>
            <a:ext cx="3274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f800"/>
                </a:solidFill>
                <a:latin typeface="Arial"/>
              </a:rPr>
              <a:t>Dă clic  şi încearcă din n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4" dur="indefinite" restart="never" nodeType="tmRoot">
          <p:childTnLst>
            <p:seq>
              <p:cTn id="1075" dur="indefinite" nodeType="mainSeq">
                <p:childTnLst>
                  <p:par>
                    <p:cTn id="1076" fill="hold">
                      <p:stCondLst>
                        <p:cond delay="0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500"/>
                            </p:stCondLst>
                            <p:childTnLst>
                              <p:par>
                                <p:cTn id="1085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6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99ff"/>
                                      </p:to>
                                    </p:animClr>
                                    <p:set>
                                      <p:cBhvr>
                                        <p:cTn id="1087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2600"/>
                            </p:stCondLst>
                            <p:childTnLst>
                              <p:par>
                                <p:cTn id="10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8" dur="8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9" dur="8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0" dur="8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3560"/>
                            </p:stCondLst>
                            <p:childTnLst>
                              <p:par>
                                <p:cTn id="1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>
            <a:hlinkClick r:id="rId2" action="ppaction://hlinksldjump"/>
          </p:cNvPr>
          <p:cNvSpPr/>
          <p:nvPr/>
        </p:nvSpPr>
        <p:spPr>
          <a:xfrm>
            <a:off x="4643280" y="3645000"/>
            <a:ext cx="1081080" cy="792000"/>
          </a:xfrm>
          <a:custGeom>
            <a:avLst/>
            <a:gdLst>
              <a:gd name="textAreaLeft" fmla="*/ 51120 w 1081080"/>
              <a:gd name="textAreaRight" fmla="*/ 1029960 w 1081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9480" h="21600">
                <a:moveTo>
                  <a:pt x="0" y="0"/>
                </a:moveTo>
                <a:lnTo>
                  <a:pt x="29480" y="0"/>
                </a:lnTo>
                <a:lnTo>
                  <a:pt x="29480" y="21600"/>
                </a:lnTo>
                <a:lnTo>
                  <a:pt x="0" y="21600"/>
                </a:lnTo>
                <a:close/>
              </a:path>
              <a:path fill="lightenLess" w="29480" h="21600">
                <a:moveTo>
                  <a:pt x="0" y="0"/>
                </a:moveTo>
                <a:lnTo>
                  <a:pt x="29480" y="0"/>
                </a:lnTo>
                <a:lnTo>
                  <a:pt x="28080" y="1400"/>
                </a:lnTo>
                <a:lnTo>
                  <a:pt x="1400" y="1400"/>
                </a:lnTo>
                <a:close/>
              </a:path>
              <a:path fill="darken" w="29480" h="21600">
                <a:moveTo>
                  <a:pt x="29480" y="0"/>
                </a:moveTo>
                <a:lnTo>
                  <a:pt x="29480" y="21600"/>
                </a:lnTo>
                <a:lnTo>
                  <a:pt x="28080" y="20200"/>
                </a:lnTo>
                <a:lnTo>
                  <a:pt x="28080" y="1400"/>
                </a:lnTo>
                <a:close/>
              </a:path>
              <a:path fill="darkenLess" w="29480" h="21600">
                <a:moveTo>
                  <a:pt x="294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80" y="20200"/>
                </a:lnTo>
                <a:close/>
              </a:path>
              <a:path fill="lighten" w="294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80" h="21600">
                <a:moveTo>
                  <a:pt x="7734" y="3794"/>
                </a:moveTo>
                <a:lnTo>
                  <a:pt x="21747" y="10800"/>
                </a:lnTo>
                <a:lnTo>
                  <a:pt x="7734" y="17806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3"/>
          <a:stretch/>
        </p:blipFill>
        <p:spPr>
          <a:xfrm>
            <a:off x="5724360" y="1700280"/>
            <a:ext cx="3419640" cy="494172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4"/>
          <a:stretch/>
        </p:blipFill>
        <p:spPr>
          <a:xfrm>
            <a:off x="468360" y="333360"/>
            <a:ext cx="8242200" cy="121932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457200" y="2895480"/>
            <a:ext cx="3274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f800"/>
                </a:solidFill>
                <a:latin typeface="Arial"/>
              </a:rPr>
              <a:t>Dă clic  şi încearcă din n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4" dur="indefinite" restart="never" nodeType="tmRoot">
          <p:childTnLst>
            <p:seq>
              <p:cTn id="1105" dur="indefinite" nodeType="mainSeq">
                <p:childTnLst>
                  <p:par>
                    <p:cTn id="1106" fill="hold">
                      <p:stCondLst>
                        <p:cond delay="0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afterEffect" fill="hold" presetClass="entr" presetID="2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1" dur="8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2" dur="8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3" dur="8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1960"/>
                            </p:stCondLst>
                            <p:childTnLst>
                              <p:par>
                                <p:cTn id="1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716360" y="3362400"/>
            <a:ext cx="4113360" cy="3495600"/>
          </a:xfrm>
          <a:prstGeom prst="rect">
            <a:avLst/>
          </a:prstGeom>
          <a:ln w="0">
            <a:noFill/>
          </a:ln>
        </p:spPr>
      </p:pic>
      <p:sp>
        <p:nvSpPr>
          <p:cNvPr id="136" name="">
            <a:hlinkClick r:id="rId3" action="ppaction://hlinksldjump"/>
          </p:cNvPr>
          <p:cNvSpPr/>
          <p:nvPr/>
        </p:nvSpPr>
        <p:spPr>
          <a:xfrm>
            <a:off x="1187280" y="4941720"/>
            <a:ext cx="1081080" cy="792360"/>
          </a:xfrm>
          <a:custGeom>
            <a:avLst/>
            <a:gdLst>
              <a:gd name="textAreaLeft" fmla="*/ 51120 w 1081080"/>
              <a:gd name="textAreaRight" fmla="*/ 1029960 w 108108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9467" h="21600">
                <a:moveTo>
                  <a:pt x="0" y="0"/>
                </a:moveTo>
                <a:lnTo>
                  <a:pt x="29467" y="0"/>
                </a:lnTo>
                <a:lnTo>
                  <a:pt x="29467" y="21600"/>
                </a:lnTo>
                <a:lnTo>
                  <a:pt x="0" y="21600"/>
                </a:lnTo>
                <a:close/>
              </a:path>
              <a:path fill="lightenLess" w="29467" h="21600">
                <a:moveTo>
                  <a:pt x="0" y="0"/>
                </a:moveTo>
                <a:lnTo>
                  <a:pt x="29467" y="0"/>
                </a:lnTo>
                <a:lnTo>
                  <a:pt x="28067" y="1400"/>
                </a:lnTo>
                <a:lnTo>
                  <a:pt x="1400" y="1400"/>
                </a:lnTo>
                <a:close/>
              </a:path>
              <a:path fill="darken" w="29467" h="21600">
                <a:moveTo>
                  <a:pt x="29467" y="0"/>
                </a:moveTo>
                <a:lnTo>
                  <a:pt x="29467" y="21600"/>
                </a:lnTo>
                <a:lnTo>
                  <a:pt x="28067" y="20200"/>
                </a:lnTo>
                <a:lnTo>
                  <a:pt x="28067" y="1400"/>
                </a:lnTo>
                <a:close/>
              </a:path>
              <a:path fill="darkenLess" w="29467" h="21600">
                <a:moveTo>
                  <a:pt x="294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67" y="20200"/>
                </a:lnTo>
                <a:close/>
              </a:path>
              <a:path fill="lighten" w="294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67" h="21600">
                <a:moveTo>
                  <a:pt x="7727" y="3794"/>
                </a:moveTo>
                <a:lnTo>
                  <a:pt x="21740" y="10800"/>
                </a:lnTo>
                <a:lnTo>
                  <a:pt x="7727" y="17806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684360" y="333360"/>
            <a:ext cx="7584840" cy="19764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28600" y="2362320"/>
            <a:ext cx="3581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f800"/>
                </a:solidFill>
                <a:latin typeface="Arial"/>
              </a:rPr>
              <a:t>Dă clic  şi încearcă din n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46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Se poate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>
            <a:hlinkClick r:id="rId2" action="ppaction://hlinksldjump"/>
          </p:cNvPr>
          <p:cNvSpPr/>
          <p:nvPr/>
        </p:nvSpPr>
        <p:spPr>
          <a:xfrm>
            <a:off x="4356000" y="3429000"/>
            <a:ext cx="1081080" cy="792000"/>
          </a:xfrm>
          <a:custGeom>
            <a:avLst/>
            <a:gdLst>
              <a:gd name="textAreaLeft" fmla="*/ 51120 w 1081080"/>
              <a:gd name="textAreaRight" fmla="*/ 1029960 w 1081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9480" h="21600">
                <a:moveTo>
                  <a:pt x="0" y="0"/>
                </a:moveTo>
                <a:lnTo>
                  <a:pt x="29480" y="0"/>
                </a:lnTo>
                <a:lnTo>
                  <a:pt x="29480" y="21600"/>
                </a:lnTo>
                <a:lnTo>
                  <a:pt x="0" y="21600"/>
                </a:lnTo>
                <a:close/>
              </a:path>
              <a:path fill="lightenLess" w="29480" h="21600">
                <a:moveTo>
                  <a:pt x="0" y="0"/>
                </a:moveTo>
                <a:lnTo>
                  <a:pt x="29480" y="0"/>
                </a:lnTo>
                <a:lnTo>
                  <a:pt x="28080" y="1400"/>
                </a:lnTo>
                <a:lnTo>
                  <a:pt x="1400" y="1400"/>
                </a:lnTo>
                <a:close/>
              </a:path>
              <a:path fill="darken" w="29480" h="21600">
                <a:moveTo>
                  <a:pt x="29480" y="0"/>
                </a:moveTo>
                <a:lnTo>
                  <a:pt x="29480" y="21600"/>
                </a:lnTo>
                <a:lnTo>
                  <a:pt x="28080" y="20200"/>
                </a:lnTo>
                <a:lnTo>
                  <a:pt x="28080" y="1400"/>
                </a:lnTo>
                <a:close/>
              </a:path>
              <a:path fill="darkenLess" w="29480" h="21600">
                <a:moveTo>
                  <a:pt x="294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80" y="20200"/>
                </a:lnTo>
                <a:close/>
              </a:path>
              <a:path fill="lighten" w="294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80" h="21600">
                <a:moveTo>
                  <a:pt x="7734" y="3794"/>
                </a:moveTo>
                <a:lnTo>
                  <a:pt x="21747" y="10800"/>
                </a:lnTo>
                <a:lnTo>
                  <a:pt x="7734" y="17806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3"/>
          <a:stretch/>
        </p:blipFill>
        <p:spPr>
          <a:xfrm>
            <a:off x="5724360" y="1700280"/>
            <a:ext cx="3419640" cy="494172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609480" y="2971800"/>
            <a:ext cx="3275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f800"/>
                </a:solidFill>
                <a:latin typeface="Arial"/>
              </a:rPr>
              <a:t>Dă clic  şi încearcă din n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7" dur="indefinite" restart="never" nodeType="tmRoot">
          <p:childTnLst>
            <p:seq>
              <p:cTn id="1128" dur="indefinite" nodeType="mainSeq">
                <p:childTnLst>
                  <p:par>
                    <p:cTn id="1129" fill="hold">
                      <p:stCondLst>
                        <p:cond delay="0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3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2250"/>
                            </p:stCondLst>
                            <p:childTnLst>
                              <p:par>
                                <p:cTn id="11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1" dur="8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2" dur="8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3" dur="8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2610"/>
                            </p:stCondLst>
                            <p:childTnLst>
                              <p:par>
                                <p:cTn id="114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4210"/>
                            </p:stCondLst>
                            <p:childTnLst>
                              <p:par>
                                <p:cTn id="11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4" dur="8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5" dur="8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6" dur="8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5170"/>
                            </p:stCondLst>
                            <p:childTnLst>
                              <p:par>
                                <p:cTn id="1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" descr=""/>
          <p:cNvPicPr/>
          <p:nvPr/>
        </p:nvPicPr>
        <p:blipFill>
          <a:blip r:embed="rId2"/>
          <a:stretch/>
        </p:blipFill>
        <p:spPr>
          <a:xfrm>
            <a:off x="428472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3"/>
          <a:stretch/>
        </p:blipFill>
        <p:spPr>
          <a:xfrm>
            <a:off x="0" y="620640"/>
            <a:ext cx="3059280" cy="302256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4"/>
          <a:stretch/>
        </p:blipFill>
        <p:spPr>
          <a:xfrm>
            <a:off x="0" y="2276640"/>
            <a:ext cx="3059280" cy="302256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5"/>
          <a:stretch/>
        </p:blipFill>
        <p:spPr>
          <a:xfrm>
            <a:off x="6084720" y="620640"/>
            <a:ext cx="3059280" cy="302256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6"/>
          <a:stretch/>
        </p:blipFill>
        <p:spPr>
          <a:xfrm>
            <a:off x="0" y="3835440"/>
            <a:ext cx="3132000" cy="302256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7"/>
          <a:stretch/>
        </p:blipFill>
        <p:spPr>
          <a:xfrm>
            <a:off x="6227640" y="2060640"/>
            <a:ext cx="3203640" cy="302256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8"/>
          <a:stretch/>
        </p:blipFill>
        <p:spPr>
          <a:xfrm>
            <a:off x="6012000" y="3835440"/>
            <a:ext cx="3132000" cy="302256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39640" y="119700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V="1" rot="30600">
            <a:off x="469800" y="1555920"/>
            <a:ext cx="20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11280" y="5013360"/>
            <a:ext cx="35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79280" y="1700280"/>
            <a:ext cx="21592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79280" y="3284640"/>
            <a:ext cx="21592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300720" y="1557360"/>
            <a:ext cx="2158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132000" y="2421000"/>
            <a:ext cx="2664000" cy="1655640"/>
          </a:xfrm>
          <a:prstGeom prst="wedgeRoundRectCallout">
            <a:avLst>
              <a:gd name="adj1" fmla="val -236"/>
              <a:gd name="adj2" fmla="val 82597"/>
              <a:gd name="adj3" fmla="val 16667"/>
            </a:avLst>
          </a:prstGeom>
          <a:solidFill>
            <a:srgbClr val="000000">
              <a:alpha val="2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T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descurci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>
            <a:hlinkClick r:id="rId9" action="ppaction://hlinksldjump"/>
          </p:cNvPr>
          <p:cNvSpPr/>
          <p:nvPr/>
        </p:nvSpPr>
        <p:spPr>
          <a:xfrm>
            <a:off x="250920" y="1484280"/>
            <a:ext cx="2089080" cy="1152720"/>
          </a:xfrm>
          <a:custGeom>
            <a:avLst/>
            <a:gdLst>
              <a:gd name="textAreaLeft" fmla="*/ 74520 w 2089080"/>
              <a:gd name="textAreaRight" fmla="*/ 2014560 w 208908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39140" h="21600">
                <a:moveTo>
                  <a:pt x="0" y="0"/>
                </a:moveTo>
                <a:lnTo>
                  <a:pt x="39140" y="0"/>
                </a:lnTo>
                <a:lnTo>
                  <a:pt x="39140" y="21600"/>
                </a:lnTo>
                <a:lnTo>
                  <a:pt x="0" y="21600"/>
                </a:lnTo>
                <a:close/>
              </a:path>
              <a:path fill="lightenLess" w="39140" h="21600">
                <a:moveTo>
                  <a:pt x="0" y="0"/>
                </a:moveTo>
                <a:lnTo>
                  <a:pt x="39140" y="0"/>
                </a:lnTo>
                <a:lnTo>
                  <a:pt x="37740" y="1400"/>
                </a:lnTo>
                <a:lnTo>
                  <a:pt x="1400" y="1400"/>
                </a:lnTo>
                <a:close/>
              </a:path>
              <a:path fill="darken" w="39140" h="21600">
                <a:moveTo>
                  <a:pt x="39140" y="0"/>
                </a:moveTo>
                <a:lnTo>
                  <a:pt x="39140" y="21600"/>
                </a:lnTo>
                <a:lnTo>
                  <a:pt x="37740" y="20200"/>
                </a:lnTo>
                <a:lnTo>
                  <a:pt x="37740" y="1400"/>
                </a:lnTo>
                <a:close/>
              </a:path>
              <a:path fill="darkenLess" w="39140" h="21600">
                <a:moveTo>
                  <a:pt x="39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40" y="20200"/>
                </a:lnTo>
                <a:close/>
              </a:path>
              <a:path fill="lighten" w="39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140" h="21600">
                <a:moveTo>
                  <a:pt x="12564" y="3794"/>
                </a:moveTo>
                <a:lnTo>
                  <a:pt x="26577" y="10800"/>
                </a:lnTo>
                <a:lnTo>
                  <a:pt x="1256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>
            <a:hlinkClick r:id="rId10" action="ppaction://hlinksldjump"/>
          </p:cNvPr>
          <p:cNvSpPr/>
          <p:nvPr/>
        </p:nvSpPr>
        <p:spPr>
          <a:xfrm>
            <a:off x="395280" y="3213000"/>
            <a:ext cx="2016000" cy="1081080"/>
          </a:xfrm>
          <a:custGeom>
            <a:avLst/>
            <a:gdLst>
              <a:gd name="textAreaLeft" fmla="*/ 69840 w 2016000"/>
              <a:gd name="textAreaRight" fmla="*/ 1946160 w 2016000"/>
              <a:gd name="textAreaTop" fmla="*/ 69840 h 1081080"/>
              <a:gd name="textAreaBottom" fmla="*/ 1011240 h 1081080"/>
            </a:gdLst>
            <a:ahLst/>
            <a:rect l="textAreaLeft" t="textAreaTop" r="textAreaRight" b="textAreaBottom"/>
            <a:pathLst>
              <a:path w="40274" h="21600">
                <a:moveTo>
                  <a:pt x="0" y="0"/>
                </a:moveTo>
                <a:lnTo>
                  <a:pt x="40274" y="0"/>
                </a:lnTo>
                <a:lnTo>
                  <a:pt x="40274" y="21600"/>
                </a:lnTo>
                <a:lnTo>
                  <a:pt x="0" y="21600"/>
                </a:lnTo>
                <a:close/>
              </a:path>
              <a:path fill="lightenLess" w="40274" h="21600">
                <a:moveTo>
                  <a:pt x="0" y="0"/>
                </a:moveTo>
                <a:lnTo>
                  <a:pt x="40274" y="0"/>
                </a:lnTo>
                <a:lnTo>
                  <a:pt x="38874" y="1400"/>
                </a:lnTo>
                <a:lnTo>
                  <a:pt x="1400" y="1400"/>
                </a:lnTo>
                <a:close/>
              </a:path>
              <a:path fill="darken" w="40274" h="21600">
                <a:moveTo>
                  <a:pt x="40274" y="0"/>
                </a:moveTo>
                <a:lnTo>
                  <a:pt x="40274" y="21600"/>
                </a:lnTo>
                <a:lnTo>
                  <a:pt x="38874" y="20200"/>
                </a:lnTo>
                <a:lnTo>
                  <a:pt x="38874" y="1400"/>
                </a:lnTo>
                <a:close/>
              </a:path>
              <a:path fill="darkenLess" w="40274" h="21600">
                <a:moveTo>
                  <a:pt x="402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874" y="20200"/>
                </a:lnTo>
                <a:close/>
              </a:path>
              <a:path fill="lighten" w="402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274" h="21600">
                <a:moveTo>
                  <a:pt x="13130" y="3794"/>
                </a:moveTo>
                <a:lnTo>
                  <a:pt x="27143" y="10800"/>
                </a:lnTo>
                <a:lnTo>
                  <a:pt x="1313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>
            <a:hlinkClick r:id="rId11" action="ppaction://hlinksldjump"/>
          </p:cNvPr>
          <p:cNvSpPr/>
          <p:nvPr/>
        </p:nvSpPr>
        <p:spPr>
          <a:xfrm>
            <a:off x="6443640" y="1484280"/>
            <a:ext cx="2016000" cy="1008000"/>
          </a:xfrm>
          <a:custGeom>
            <a:avLst/>
            <a:gdLst>
              <a:gd name="textAreaLeft" fmla="*/ 65160 w 2016000"/>
              <a:gd name="textAreaRight" fmla="*/ 1950840 w 2016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43192" h="21600">
                <a:moveTo>
                  <a:pt x="0" y="0"/>
                </a:moveTo>
                <a:lnTo>
                  <a:pt x="43192" y="0"/>
                </a:lnTo>
                <a:lnTo>
                  <a:pt x="43192" y="21600"/>
                </a:lnTo>
                <a:lnTo>
                  <a:pt x="0" y="21600"/>
                </a:lnTo>
                <a:close/>
              </a:path>
              <a:path fill="lightenLess" w="43192" h="21600">
                <a:moveTo>
                  <a:pt x="0" y="0"/>
                </a:moveTo>
                <a:lnTo>
                  <a:pt x="43192" y="0"/>
                </a:lnTo>
                <a:lnTo>
                  <a:pt x="41792" y="1400"/>
                </a:lnTo>
                <a:lnTo>
                  <a:pt x="1400" y="1400"/>
                </a:lnTo>
                <a:close/>
              </a:path>
              <a:path fill="darken" w="43192" h="21600">
                <a:moveTo>
                  <a:pt x="43192" y="0"/>
                </a:moveTo>
                <a:lnTo>
                  <a:pt x="43192" y="21600"/>
                </a:lnTo>
                <a:lnTo>
                  <a:pt x="41792" y="20200"/>
                </a:lnTo>
                <a:lnTo>
                  <a:pt x="41792" y="1400"/>
                </a:lnTo>
                <a:close/>
              </a:path>
              <a:path fill="darkenLess" w="43192" h="21600">
                <a:moveTo>
                  <a:pt x="431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2" y="20200"/>
                </a:lnTo>
                <a:close/>
              </a:path>
              <a:path fill="lighten" w="431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92" h="21600">
                <a:moveTo>
                  <a:pt x="14590" y="3794"/>
                </a:moveTo>
                <a:lnTo>
                  <a:pt x="28603" y="10800"/>
                </a:lnTo>
                <a:lnTo>
                  <a:pt x="1459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79280" y="5229360"/>
            <a:ext cx="21592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Comic Sans MS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443640" y="3141720"/>
            <a:ext cx="21589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Comic Sans MS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297480" y="4869000"/>
            <a:ext cx="21592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Comic Sans MS"/>
              </a:rPr>
              <a:t>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>
            <a:hlinkClick r:id="rId12" action="ppaction://hlinksldjump"/>
          </p:cNvPr>
          <p:cNvSpPr/>
          <p:nvPr/>
        </p:nvSpPr>
        <p:spPr>
          <a:xfrm>
            <a:off x="324000" y="5157720"/>
            <a:ext cx="2087280" cy="1008000"/>
          </a:xfrm>
          <a:custGeom>
            <a:avLst/>
            <a:gdLst>
              <a:gd name="textAreaLeft" fmla="*/ 65160 w 2087280"/>
              <a:gd name="textAreaRight" fmla="*/ 2022120 w 208728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44719" h="21600">
                <a:moveTo>
                  <a:pt x="0" y="0"/>
                </a:moveTo>
                <a:lnTo>
                  <a:pt x="44719" y="0"/>
                </a:lnTo>
                <a:lnTo>
                  <a:pt x="44719" y="21600"/>
                </a:lnTo>
                <a:lnTo>
                  <a:pt x="0" y="21600"/>
                </a:lnTo>
                <a:close/>
              </a:path>
              <a:path fill="lightenLess" w="44719" h="21600">
                <a:moveTo>
                  <a:pt x="0" y="0"/>
                </a:moveTo>
                <a:lnTo>
                  <a:pt x="44719" y="0"/>
                </a:lnTo>
                <a:lnTo>
                  <a:pt x="43319" y="1400"/>
                </a:lnTo>
                <a:lnTo>
                  <a:pt x="1400" y="1400"/>
                </a:lnTo>
                <a:close/>
              </a:path>
              <a:path fill="darken" w="44719" h="21600">
                <a:moveTo>
                  <a:pt x="44719" y="0"/>
                </a:moveTo>
                <a:lnTo>
                  <a:pt x="44719" y="21600"/>
                </a:lnTo>
                <a:lnTo>
                  <a:pt x="43319" y="20200"/>
                </a:lnTo>
                <a:lnTo>
                  <a:pt x="43319" y="1400"/>
                </a:lnTo>
                <a:close/>
              </a:path>
              <a:path fill="darkenLess" w="44719" h="21600">
                <a:moveTo>
                  <a:pt x="4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319" y="20200"/>
                </a:lnTo>
                <a:close/>
              </a:path>
              <a:path fill="lighten" w="4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719" h="21600">
                <a:moveTo>
                  <a:pt x="15353" y="3794"/>
                </a:moveTo>
                <a:lnTo>
                  <a:pt x="29366" y="10800"/>
                </a:lnTo>
                <a:lnTo>
                  <a:pt x="1535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>
            <a:hlinkClick r:id="rId13" action="ppaction://hlinksldjump"/>
          </p:cNvPr>
          <p:cNvSpPr/>
          <p:nvPr/>
        </p:nvSpPr>
        <p:spPr>
          <a:xfrm>
            <a:off x="6659640" y="3068640"/>
            <a:ext cx="2087640" cy="1081080"/>
          </a:xfrm>
          <a:custGeom>
            <a:avLst/>
            <a:gdLst>
              <a:gd name="textAreaLeft" fmla="*/ 69840 w 2087640"/>
              <a:gd name="textAreaRight" fmla="*/ 2017800 w 2087640"/>
              <a:gd name="textAreaTop" fmla="*/ 69840 h 1081080"/>
              <a:gd name="textAreaBottom" fmla="*/ 1011240 h 1081080"/>
            </a:gdLst>
            <a:ahLst/>
            <a:rect l="textAreaLeft" t="textAreaTop" r="textAreaRight" b="textAreaBottom"/>
            <a:pathLst>
              <a:path w="41704" h="21600">
                <a:moveTo>
                  <a:pt x="0" y="0"/>
                </a:moveTo>
                <a:lnTo>
                  <a:pt x="41704" y="0"/>
                </a:lnTo>
                <a:lnTo>
                  <a:pt x="41704" y="21600"/>
                </a:lnTo>
                <a:lnTo>
                  <a:pt x="0" y="21600"/>
                </a:lnTo>
                <a:close/>
              </a:path>
              <a:path fill="lightenLess" w="41704" h="21600">
                <a:moveTo>
                  <a:pt x="0" y="0"/>
                </a:moveTo>
                <a:lnTo>
                  <a:pt x="41704" y="0"/>
                </a:lnTo>
                <a:lnTo>
                  <a:pt x="40304" y="1400"/>
                </a:lnTo>
                <a:lnTo>
                  <a:pt x="1400" y="1400"/>
                </a:lnTo>
                <a:close/>
              </a:path>
              <a:path fill="darken" w="41704" h="21600">
                <a:moveTo>
                  <a:pt x="41704" y="0"/>
                </a:moveTo>
                <a:lnTo>
                  <a:pt x="41704" y="21600"/>
                </a:lnTo>
                <a:lnTo>
                  <a:pt x="40304" y="20200"/>
                </a:lnTo>
                <a:lnTo>
                  <a:pt x="40304" y="1400"/>
                </a:lnTo>
                <a:close/>
              </a:path>
              <a:path fill="darkenLess" w="41704" h="21600">
                <a:moveTo>
                  <a:pt x="41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304" y="20200"/>
                </a:lnTo>
                <a:close/>
              </a:path>
              <a:path fill="lighten" w="41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704" h="21600">
                <a:moveTo>
                  <a:pt x="13846" y="3794"/>
                </a:moveTo>
                <a:lnTo>
                  <a:pt x="27859" y="10800"/>
                </a:lnTo>
                <a:lnTo>
                  <a:pt x="1384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>
            <a:hlinkClick r:id="rId14" action="ppaction://hlinksldjump"/>
          </p:cNvPr>
          <p:cNvSpPr/>
          <p:nvPr/>
        </p:nvSpPr>
        <p:spPr>
          <a:xfrm>
            <a:off x="6516720" y="4724280"/>
            <a:ext cx="2085840" cy="1008360"/>
          </a:xfrm>
          <a:custGeom>
            <a:avLst/>
            <a:gdLst>
              <a:gd name="textAreaLeft" fmla="*/ 65160 w 2085840"/>
              <a:gd name="textAreaRight" fmla="*/ 2020680 w 2085840"/>
              <a:gd name="textAreaTop" fmla="*/ 65160 h 1008360"/>
              <a:gd name="textAreaBottom" fmla="*/ 943200 h 1008360"/>
            </a:gdLst>
            <a:ahLst/>
            <a:rect l="textAreaLeft" t="textAreaTop" r="textAreaRight" b="textAreaBottom"/>
            <a:pathLst>
              <a:path w="44672" h="21600">
                <a:moveTo>
                  <a:pt x="0" y="0"/>
                </a:moveTo>
                <a:lnTo>
                  <a:pt x="44672" y="0"/>
                </a:lnTo>
                <a:lnTo>
                  <a:pt x="44672" y="21600"/>
                </a:lnTo>
                <a:lnTo>
                  <a:pt x="0" y="21600"/>
                </a:lnTo>
                <a:close/>
              </a:path>
              <a:path fill="lightenLess" w="44672" h="21600">
                <a:moveTo>
                  <a:pt x="0" y="0"/>
                </a:moveTo>
                <a:lnTo>
                  <a:pt x="44672" y="0"/>
                </a:lnTo>
                <a:lnTo>
                  <a:pt x="43272" y="1400"/>
                </a:lnTo>
                <a:lnTo>
                  <a:pt x="1400" y="1400"/>
                </a:lnTo>
                <a:close/>
              </a:path>
              <a:path fill="darken" w="44672" h="21600">
                <a:moveTo>
                  <a:pt x="44672" y="0"/>
                </a:moveTo>
                <a:lnTo>
                  <a:pt x="44672" y="21600"/>
                </a:lnTo>
                <a:lnTo>
                  <a:pt x="43272" y="20200"/>
                </a:lnTo>
                <a:lnTo>
                  <a:pt x="43272" y="1400"/>
                </a:lnTo>
                <a:close/>
              </a:path>
              <a:path fill="darkenLess" w="44672" h="21600">
                <a:moveTo>
                  <a:pt x="44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272" y="20200"/>
                </a:lnTo>
                <a:close/>
              </a:path>
              <a:path fill="lighten" w="44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672" h="21600">
                <a:moveTo>
                  <a:pt x="15330" y="3794"/>
                </a:moveTo>
                <a:lnTo>
                  <a:pt x="29343" y="10800"/>
                </a:lnTo>
                <a:lnTo>
                  <a:pt x="1533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5"/>
          <a:stretch/>
        </p:blipFill>
        <p:spPr>
          <a:xfrm>
            <a:off x="2843280" y="4365720"/>
            <a:ext cx="2476440" cy="249228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16"/>
          <a:stretch/>
        </p:blipFill>
        <p:spPr>
          <a:xfrm>
            <a:off x="0" y="0"/>
            <a:ext cx="9156600" cy="146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0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2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2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0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4476600" cy="453852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ffff00"/>
                </a:solidFill>
                <a:latin typeface="Arial"/>
              </a:rPr>
              <a:t>Ai reuşit!</a:t>
            </a: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84360" y="206064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>
            <a:hlinkClick r:id="rId3" action="ppaction://hlinksldjump"/>
          </p:cNvPr>
          <p:cNvSpPr/>
          <p:nvPr/>
        </p:nvSpPr>
        <p:spPr>
          <a:xfrm>
            <a:off x="2484360" y="4941720"/>
            <a:ext cx="1096920" cy="792360"/>
          </a:xfrm>
          <a:custGeom>
            <a:avLst/>
            <a:gdLst>
              <a:gd name="textAreaLeft" fmla="*/ 51120 w 1096920"/>
              <a:gd name="textAreaRight" fmla="*/ 1045800 w 10969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9899" h="21600">
                <a:moveTo>
                  <a:pt x="0" y="0"/>
                </a:moveTo>
                <a:lnTo>
                  <a:pt x="29899" y="0"/>
                </a:lnTo>
                <a:lnTo>
                  <a:pt x="29899" y="21600"/>
                </a:lnTo>
                <a:lnTo>
                  <a:pt x="0" y="21600"/>
                </a:lnTo>
                <a:close/>
              </a:path>
              <a:path fill="lightenLess" w="29899" h="21600">
                <a:moveTo>
                  <a:pt x="0" y="0"/>
                </a:moveTo>
                <a:lnTo>
                  <a:pt x="29899" y="0"/>
                </a:lnTo>
                <a:lnTo>
                  <a:pt x="28499" y="1400"/>
                </a:lnTo>
                <a:lnTo>
                  <a:pt x="1400" y="1400"/>
                </a:lnTo>
                <a:close/>
              </a:path>
              <a:path fill="darken" w="29899" h="21600">
                <a:moveTo>
                  <a:pt x="29899" y="0"/>
                </a:moveTo>
                <a:lnTo>
                  <a:pt x="29899" y="21600"/>
                </a:lnTo>
                <a:lnTo>
                  <a:pt x="28499" y="20200"/>
                </a:lnTo>
                <a:lnTo>
                  <a:pt x="28499" y="1400"/>
                </a:lnTo>
                <a:close/>
              </a:path>
              <a:path fill="darkenLess" w="29899" h="21600">
                <a:moveTo>
                  <a:pt x="298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499" y="20200"/>
                </a:lnTo>
                <a:close/>
              </a:path>
              <a:path fill="lighten" w="298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899" h="21600">
                <a:moveTo>
                  <a:pt x="7943" y="3794"/>
                </a:moveTo>
                <a:lnTo>
                  <a:pt x="21956" y="10800"/>
                </a:lnTo>
                <a:lnTo>
                  <a:pt x="7943" y="17806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4"/>
          <a:stretch/>
        </p:blipFill>
        <p:spPr>
          <a:xfrm>
            <a:off x="5148360" y="2421000"/>
            <a:ext cx="3697200" cy="4437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74" dur="indefinite" restart="never" nodeType="tmRoot">
          <p:childTnLst>
            <p:seq>
              <p:cTn id="1175" dur="indefinite" nodeType="mainSeq">
                <p:childTnLst>
                  <p:par>
                    <p:cTn id="1176" fill="hold">
                      <p:stCondLst>
                        <p:cond delay="0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4" dur="5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fill="hold">
                            <p:stCondLst>
                              <p:cond delay="900"/>
                            </p:stCondLst>
                            <p:childTnLst>
                              <p:par>
                                <p:cTn id="11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2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2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0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fill="hold">
                            <p:stCondLst>
                              <p:cond delay="2900"/>
                            </p:stCondLst>
                            <p:childTnLst>
                              <p:par>
                                <p:cTn id="1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>
            <a:hlinkClick r:id="rId2" action="ppaction://hlinksldjump"/>
          </p:cNvPr>
          <p:cNvSpPr/>
          <p:nvPr/>
        </p:nvSpPr>
        <p:spPr>
          <a:xfrm>
            <a:off x="3276720" y="4495680"/>
            <a:ext cx="936360" cy="792360"/>
          </a:xfrm>
          <a:custGeom>
            <a:avLst/>
            <a:gdLst>
              <a:gd name="textAreaLeft" fmla="*/ 51120 w 936360"/>
              <a:gd name="textAreaRight" fmla="*/ 885240 w 93636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5524" h="21600">
                <a:moveTo>
                  <a:pt x="0" y="0"/>
                </a:moveTo>
                <a:lnTo>
                  <a:pt x="25524" y="0"/>
                </a:lnTo>
                <a:lnTo>
                  <a:pt x="25524" y="21600"/>
                </a:lnTo>
                <a:lnTo>
                  <a:pt x="0" y="21600"/>
                </a:lnTo>
                <a:close/>
              </a:path>
              <a:path fill="lightenLess" w="25524" h="21600">
                <a:moveTo>
                  <a:pt x="0" y="0"/>
                </a:moveTo>
                <a:lnTo>
                  <a:pt x="25524" y="0"/>
                </a:lnTo>
                <a:lnTo>
                  <a:pt x="24124" y="1400"/>
                </a:lnTo>
                <a:lnTo>
                  <a:pt x="1400" y="1400"/>
                </a:lnTo>
                <a:close/>
              </a:path>
              <a:path fill="darken" w="25524" h="21600">
                <a:moveTo>
                  <a:pt x="25524" y="0"/>
                </a:moveTo>
                <a:lnTo>
                  <a:pt x="25524" y="21600"/>
                </a:lnTo>
                <a:lnTo>
                  <a:pt x="24124" y="20200"/>
                </a:lnTo>
                <a:lnTo>
                  <a:pt x="24124" y="1400"/>
                </a:lnTo>
                <a:close/>
              </a:path>
              <a:path fill="darkenLess" w="25524" h="21600">
                <a:moveTo>
                  <a:pt x="255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4" y="20200"/>
                </a:lnTo>
                <a:close/>
              </a:path>
              <a:path fill="lighten" w="255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4" h="21600">
                <a:moveTo>
                  <a:pt x="5755" y="3794"/>
                </a:moveTo>
                <a:lnTo>
                  <a:pt x="19768" y="10800"/>
                </a:lnTo>
                <a:lnTo>
                  <a:pt x="5755" y="17806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3"/>
          <a:stretch/>
        </p:blipFill>
        <p:spPr>
          <a:xfrm>
            <a:off x="5292720" y="2708280"/>
            <a:ext cx="3238560" cy="388764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 txBox="1"/>
          <p:nvPr/>
        </p:nvSpPr>
        <p:spPr>
          <a:xfrm>
            <a:off x="2771640" y="404640"/>
            <a:ext cx="39592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c521"/>
                    </a:gs>
                  </a:gsLst>
                  <a:lin ang="5400000"/>
                </a:gradFill>
                <a:latin typeface="Times New Roman"/>
              </a:rPr>
              <a:t>Oar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c521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0" y="2895480"/>
            <a:ext cx="3274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f800"/>
                </a:solidFill>
                <a:latin typeface="Arial"/>
              </a:rPr>
              <a:t>Dă clic  şi încearcă din n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4" dur="indefinite" restart="never" nodeType="tmRoot">
          <p:childTnLst>
            <p:seq>
              <p:cTn id="1195" dur="indefinite" nodeType="mainSeq">
                <p:childTnLst>
                  <p:par>
                    <p:cTn id="1196" fill="hold">
                      <p:stCondLst>
                        <p:cond delay="0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afterEffect" fill="hold" presetClass="entr" presetID="5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2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4" nodeType="after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5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99ff"/>
                                      </p:to>
                                    </p:animClr>
                                    <p:set>
                                      <p:cBhvr>
                                        <p:cTn id="1206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8" nodeType="afterEffect" fill="hold" presetClass="entr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0" dur="80"/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1" dur="80"/>
                                        <p:tgtEl>
                                          <p:spTgt spid="5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2" dur="80"/>
                                        <p:tgtEl>
                                          <p:spTgt spid="5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2960"/>
                            </p:stCondLst>
                            <p:childTnLst>
                              <p:par>
                                <p:cTn id="1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>
            <a:hlinkClick r:id="rId2" action="ppaction://hlinksldjump"/>
          </p:cNvPr>
          <p:cNvSpPr/>
          <p:nvPr/>
        </p:nvSpPr>
        <p:spPr>
          <a:xfrm>
            <a:off x="4643280" y="3645000"/>
            <a:ext cx="1081080" cy="792000"/>
          </a:xfrm>
          <a:custGeom>
            <a:avLst/>
            <a:gdLst>
              <a:gd name="textAreaLeft" fmla="*/ 51120 w 1081080"/>
              <a:gd name="textAreaRight" fmla="*/ 1029960 w 1081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9480" h="21600">
                <a:moveTo>
                  <a:pt x="0" y="0"/>
                </a:moveTo>
                <a:lnTo>
                  <a:pt x="29480" y="0"/>
                </a:lnTo>
                <a:lnTo>
                  <a:pt x="29480" y="21600"/>
                </a:lnTo>
                <a:lnTo>
                  <a:pt x="0" y="21600"/>
                </a:lnTo>
                <a:close/>
              </a:path>
              <a:path fill="lightenLess" w="29480" h="21600">
                <a:moveTo>
                  <a:pt x="0" y="0"/>
                </a:moveTo>
                <a:lnTo>
                  <a:pt x="29480" y="0"/>
                </a:lnTo>
                <a:lnTo>
                  <a:pt x="28080" y="1400"/>
                </a:lnTo>
                <a:lnTo>
                  <a:pt x="1400" y="1400"/>
                </a:lnTo>
                <a:close/>
              </a:path>
              <a:path fill="darken" w="29480" h="21600">
                <a:moveTo>
                  <a:pt x="29480" y="0"/>
                </a:moveTo>
                <a:lnTo>
                  <a:pt x="29480" y="21600"/>
                </a:lnTo>
                <a:lnTo>
                  <a:pt x="28080" y="20200"/>
                </a:lnTo>
                <a:lnTo>
                  <a:pt x="28080" y="1400"/>
                </a:lnTo>
                <a:close/>
              </a:path>
              <a:path fill="darkenLess" w="29480" h="21600">
                <a:moveTo>
                  <a:pt x="294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80" y="20200"/>
                </a:lnTo>
                <a:close/>
              </a:path>
              <a:path fill="lighten" w="294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80" h="21600">
                <a:moveTo>
                  <a:pt x="7734" y="3794"/>
                </a:moveTo>
                <a:lnTo>
                  <a:pt x="21747" y="10800"/>
                </a:lnTo>
                <a:lnTo>
                  <a:pt x="7734" y="17806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3"/>
          <a:stretch/>
        </p:blipFill>
        <p:spPr>
          <a:xfrm>
            <a:off x="5724360" y="1700280"/>
            <a:ext cx="3419640" cy="4941720"/>
          </a:xfrm>
          <a:prstGeom prst="rect">
            <a:avLst/>
          </a:prstGeom>
          <a:ln w="0">
            <a:noFill/>
          </a:ln>
        </p:spPr>
      </p:pic>
      <p:pic>
        <p:nvPicPr>
          <p:cNvPr id="555" name="" descr=""/>
          <p:cNvPicPr/>
          <p:nvPr/>
        </p:nvPicPr>
        <p:blipFill>
          <a:blip r:embed="rId4"/>
          <a:stretch/>
        </p:blipFill>
        <p:spPr>
          <a:xfrm>
            <a:off x="468360" y="333360"/>
            <a:ext cx="8242200" cy="121932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>
            <a:off x="685800" y="2819520"/>
            <a:ext cx="3274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f800"/>
                </a:solidFill>
                <a:latin typeface="Arial"/>
              </a:rPr>
              <a:t>Dă clic  şi încearcă din n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6" dur="indefinite" restart="never" nodeType="tmRoot">
          <p:childTnLst>
            <p:seq>
              <p:cTn id="1217" dur="indefinite" nodeType="mainSeq">
                <p:childTnLst>
                  <p:par>
                    <p:cTn id="1218" fill="hold">
                      <p:stCondLst>
                        <p:cond delay="0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afterEffect" fill="hold" presetClass="entr" presetID="2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3" dur="8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4" dur="8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5" dur="8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1960"/>
                            </p:stCondLst>
                            <p:childTnLst>
                              <p:par>
                                <p:cTn id="1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Se poate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>
            <a:hlinkClick r:id="rId2" action="ppaction://hlinksldjump"/>
          </p:cNvPr>
          <p:cNvSpPr/>
          <p:nvPr/>
        </p:nvSpPr>
        <p:spPr>
          <a:xfrm>
            <a:off x="4356000" y="3429000"/>
            <a:ext cx="1081080" cy="792000"/>
          </a:xfrm>
          <a:custGeom>
            <a:avLst/>
            <a:gdLst>
              <a:gd name="textAreaLeft" fmla="*/ 51120 w 1081080"/>
              <a:gd name="textAreaRight" fmla="*/ 1029960 w 1081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9480" h="21600">
                <a:moveTo>
                  <a:pt x="0" y="0"/>
                </a:moveTo>
                <a:lnTo>
                  <a:pt x="29480" y="0"/>
                </a:lnTo>
                <a:lnTo>
                  <a:pt x="29480" y="21600"/>
                </a:lnTo>
                <a:lnTo>
                  <a:pt x="0" y="21600"/>
                </a:lnTo>
                <a:close/>
              </a:path>
              <a:path fill="lightenLess" w="29480" h="21600">
                <a:moveTo>
                  <a:pt x="0" y="0"/>
                </a:moveTo>
                <a:lnTo>
                  <a:pt x="29480" y="0"/>
                </a:lnTo>
                <a:lnTo>
                  <a:pt x="28080" y="1400"/>
                </a:lnTo>
                <a:lnTo>
                  <a:pt x="1400" y="1400"/>
                </a:lnTo>
                <a:close/>
              </a:path>
              <a:path fill="darken" w="29480" h="21600">
                <a:moveTo>
                  <a:pt x="29480" y="0"/>
                </a:moveTo>
                <a:lnTo>
                  <a:pt x="29480" y="21600"/>
                </a:lnTo>
                <a:lnTo>
                  <a:pt x="28080" y="20200"/>
                </a:lnTo>
                <a:lnTo>
                  <a:pt x="28080" y="1400"/>
                </a:lnTo>
                <a:close/>
              </a:path>
              <a:path fill="darkenLess" w="29480" h="21600">
                <a:moveTo>
                  <a:pt x="294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80" y="20200"/>
                </a:lnTo>
                <a:close/>
              </a:path>
              <a:path fill="lighten" w="294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80" h="21600">
                <a:moveTo>
                  <a:pt x="7734" y="3794"/>
                </a:moveTo>
                <a:lnTo>
                  <a:pt x="21747" y="10800"/>
                </a:lnTo>
                <a:lnTo>
                  <a:pt x="7734" y="17806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3"/>
          <a:stretch/>
        </p:blipFill>
        <p:spPr>
          <a:xfrm>
            <a:off x="5724360" y="1700280"/>
            <a:ext cx="3419640" cy="494172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304920" y="2971800"/>
            <a:ext cx="3274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f800"/>
                </a:solidFill>
                <a:latin typeface="Arial"/>
              </a:rPr>
              <a:t>Dă clic  şi încearcă din n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9" dur="indefinite" restart="never" nodeType="tmRoot">
          <p:childTnLst>
            <p:seq>
              <p:cTn id="1240" dur="indefinite" nodeType="mainSeq">
                <p:childTnLst>
                  <p:par>
                    <p:cTn id="1241" fill="hold">
                      <p:stCondLst>
                        <p:cond delay="0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afterEffect" fill="hold" presetClass="entr" presetID="38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4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fill="hold">
                            <p:stCondLst>
                              <p:cond delay="2250"/>
                            </p:stCondLst>
                            <p:childTnLst>
                              <p:par>
                                <p:cTn id="1251" nodeType="afterEffect" fill="hold" presetClass="entr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3" dur="8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4" dur="8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5" dur="8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3210"/>
                            </p:stCondLst>
                            <p:childTnLst>
                              <p:par>
                                <p:cTn id="12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" descr=""/>
          <p:cNvPicPr/>
          <p:nvPr/>
        </p:nvPicPr>
        <p:blipFill>
          <a:blip r:embed="rId2"/>
          <a:stretch/>
        </p:blipFill>
        <p:spPr>
          <a:xfrm>
            <a:off x="0" y="-171360"/>
            <a:ext cx="2987640" cy="263664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"/>
          <p:cNvPicPr/>
          <p:nvPr/>
        </p:nvPicPr>
        <p:blipFill>
          <a:blip r:embed="rId3"/>
          <a:stretch/>
        </p:blipFill>
        <p:spPr>
          <a:xfrm>
            <a:off x="0" y="1628640"/>
            <a:ext cx="2987640" cy="2637000"/>
          </a:xfrm>
          <a:prstGeom prst="rect">
            <a:avLst/>
          </a:prstGeom>
          <a:ln w="0">
            <a:noFill/>
          </a:ln>
        </p:spPr>
      </p:pic>
      <p:pic>
        <p:nvPicPr>
          <p:cNvPr id="563" name="" descr=""/>
          <p:cNvPicPr/>
          <p:nvPr/>
        </p:nvPicPr>
        <p:blipFill>
          <a:blip r:embed="rId4"/>
          <a:stretch/>
        </p:blipFill>
        <p:spPr>
          <a:xfrm>
            <a:off x="-324000" y="3357720"/>
            <a:ext cx="3527640" cy="295272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5"/>
          <a:stretch/>
        </p:blipFill>
        <p:spPr>
          <a:xfrm>
            <a:off x="6732720" y="692280"/>
            <a:ext cx="2987640" cy="263664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6"/>
          <a:stretch/>
        </p:blipFill>
        <p:spPr>
          <a:xfrm>
            <a:off x="5796000" y="1628640"/>
            <a:ext cx="2987640" cy="288000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7"/>
          <a:stretch/>
        </p:blipFill>
        <p:spPr>
          <a:xfrm>
            <a:off x="5724360" y="3500280"/>
            <a:ext cx="3708720" cy="308304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39640" y="119700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 rot="30600">
            <a:off x="469800" y="1555920"/>
            <a:ext cx="20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11280" y="5013360"/>
            <a:ext cx="35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907920"/>
            <a:ext cx="2158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3333cc"/>
                </a:solidFill>
                <a:latin typeface="Comic Sans MS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95280" y="2781360"/>
            <a:ext cx="21589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3333cc"/>
                </a:solidFill>
                <a:latin typeface="Arial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4724280"/>
            <a:ext cx="2158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3333cc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059280" y="1989000"/>
            <a:ext cx="3097080" cy="1800360"/>
          </a:xfrm>
          <a:prstGeom prst="wedgeRoundRectCallout">
            <a:avLst>
              <a:gd name="adj1" fmla="val 2486"/>
              <a:gd name="adj2" fmla="val 90300"/>
              <a:gd name="adj3" fmla="val 16667"/>
            </a:avLst>
          </a:prstGeom>
          <a:solidFill>
            <a:srgbClr val="bbe0e3">
              <a:alpha val="24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cc"/>
                </a:solidFill>
                <a:latin typeface="Arial"/>
              </a:rPr>
              <a:t>Te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cc"/>
                </a:solidFill>
                <a:latin typeface="Arial"/>
              </a:rPr>
              <a:t>descurc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5720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ff0000"/>
                </a:solidFill>
                <a:latin typeface="Comic Sans MS"/>
              </a:rPr>
              <a:t>A zecea parte din 10 este 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>
            <a:hlinkClick r:id="rId8" action="ppaction://hlinksldjump"/>
          </p:cNvPr>
          <p:cNvSpPr/>
          <p:nvPr/>
        </p:nvSpPr>
        <p:spPr>
          <a:xfrm>
            <a:off x="611280" y="907920"/>
            <a:ext cx="2016000" cy="1152720"/>
          </a:xfrm>
          <a:custGeom>
            <a:avLst/>
            <a:gdLst>
              <a:gd name="textAreaLeft" fmla="*/ 74520 w 2016000"/>
              <a:gd name="textAreaRight" fmla="*/ 1941480 w 201600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37771" h="21600">
                <a:moveTo>
                  <a:pt x="0" y="0"/>
                </a:moveTo>
                <a:lnTo>
                  <a:pt x="37771" y="0"/>
                </a:lnTo>
                <a:lnTo>
                  <a:pt x="37771" y="21600"/>
                </a:lnTo>
                <a:lnTo>
                  <a:pt x="0" y="21600"/>
                </a:lnTo>
                <a:close/>
              </a:path>
              <a:path fill="lightenLess" w="37771" h="21600">
                <a:moveTo>
                  <a:pt x="0" y="0"/>
                </a:moveTo>
                <a:lnTo>
                  <a:pt x="37771" y="0"/>
                </a:lnTo>
                <a:lnTo>
                  <a:pt x="36371" y="1400"/>
                </a:lnTo>
                <a:lnTo>
                  <a:pt x="1400" y="1400"/>
                </a:lnTo>
                <a:close/>
              </a:path>
              <a:path fill="darken" w="37771" h="21600">
                <a:moveTo>
                  <a:pt x="37771" y="0"/>
                </a:moveTo>
                <a:lnTo>
                  <a:pt x="37771" y="21600"/>
                </a:lnTo>
                <a:lnTo>
                  <a:pt x="36371" y="20200"/>
                </a:lnTo>
                <a:lnTo>
                  <a:pt x="36371" y="1400"/>
                </a:lnTo>
                <a:close/>
              </a:path>
              <a:path fill="darkenLess" w="37771" h="21600">
                <a:moveTo>
                  <a:pt x="377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1" y="20200"/>
                </a:lnTo>
                <a:close/>
              </a:path>
              <a:path fill="lighten" w="377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1" h="21600">
                <a:moveTo>
                  <a:pt x="11879" y="3794"/>
                </a:moveTo>
                <a:lnTo>
                  <a:pt x="25892" y="10800"/>
                </a:lnTo>
                <a:lnTo>
                  <a:pt x="11879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>
            <a:hlinkClick r:id="rId9" action="ppaction://hlinksldjump"/>
          </p:cNvPr>
          <p:cNvSpPr/>
          <p:nvPr/>
        </p:nvSpPr>
        <p:spPr>
          <a:xfrm>
            <a:off x="611280" y="4724280"/>
            <a:ext cx="1942920" cy="1081080"/>
          </a:xfrm>
          <a:custGeom>
            <a:avLst/>
            <a:gdLst>
              <a:gd name="textAreaLeft" fmla="*/ 69840 w 1942920"/>
              <a:gd name="textAreaRight" fmla="*/ 1873080 w 1942920"/>
              <a:gd name="textAreaTop" fmla="*/ 69840 h 1081080"/>
              <a:gd name="textAreaBottom" fmla="*/ 1011240 h 1081080"/>
            </a:gdLst>
            <a:ahLst/>
            <a:rect l="textAreaLeft" t="textAreaTop" r="textAreaRight" b="textAreaBottom"/>
            <a:pathLst>
              <a:path w="38814" h="21600">
                <a:moveTo>
                  <a:pt x="0" y="0"/>
                </a:moveTo>
                <a:lnTo>
                  <a:pt x="38814" y="0"/>
                </a:lnTo>
                <a:lnTo>
                  <a:pt x="38814" y="21600"/>
                </a:lnTo>
                <a:lnTo>
                  <a:pt x="0" y="21600"/>
                </a:lnTo>
                <a:close/>
              </a:path>
              <a:path fill="lightenLess" w="38814" h="21600">
                <a:moveTo>
                  <a:pt x="0" y="0"/>
                </a:moveTo>
                <a:lnTo>
                  <a:pt x="38814" y="0"/>
                </a:lnTo>
                <a:lnTo>
                  <a:pt x="37414" y="1400"/>
                </a:lnTo>
                <a:lnTo>
                  <a:pt x="1400" y="1400"/>
                </a:lnTo>
                <a:close/>
              </a:path>
              <a:path fill="darken" w="38814" h="21600">
                <a:moveTo>
                  <a:pt x="38814" y="0"/>
                </a:moveTo>
                <a:lnTo>
                  <a:pt x="38814" y="21600"/>
                </a:lnTo>
                <a:lnTo>
                  <a:pt x="37414" y="20200"/>
                </a:lnTo>
                <a:lnTo>
                  <a:pt x="37414" y="1400"/>
                </a:lnTo>
                <a:close/>
              </a:path>
              <a:path fill="darkenLess" w="38814" h="21600">
                <a:moveTo>
                  <a:pt x="388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14" y="20200"/>
                </a:lnTo>
                <a:close/>
              </a:path>
              <a:path fill="lighten" w="388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14" h="21600">
                <a:moveTo>
                  <a:pt x="12400" y="3794"/>
                </a:moveTo>
                <a:lnTo>
                  <a:pt x="26413" y="10800"/>
                </a:lnTo>
                <a:lnTo>
                  <a:pt x="1240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>
            <a:hlinkClick r:id="rId10" action="ppaction://hlinksldjump"/>
          </p:cNvPr>
          <p:cNvSpPr/>
          <p:nvPr/>
        </p:nvSpPr>
        <p:spPr>
          <a:xfrm>
            <a:off x="539640" y="2708280"/>
            <a:ext cx="2014560" cy="1224000"/>
          </a:xfrm>
          <a:custGeom>
            <a:avLst/>
            <a:gdLst>
              <a:gd name="textAreaLeft" fmla="*/ 79200 w 2014560"/>
              <a:gd name="textAreaRight" fmla="*/ 1935360 w 201456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35547" h="21600">
                <a:moveTo>
                  <a:pt x="0" y="0"/>
                </a:moveTo>
                <a:lnTo>
                  <a:pt x="35547" y="0"/>
                </a:lnTo>
                <a:lnTo>
                  <a:pt x="35547" y="21600"/>
                </a:lnTo>
                <a:lnTo>
                  <a:pt x="0" y="21600"/>
                </a:lnTo>
                <a:close/>
              </a:path>
              <a:path fill="lightenLess" w="35547" h="21600">
                <a:moveTo>
                  <a:pt x="0" y="0"/>
                </a:moveTo>
                <a:lnTo>
                  <a:pt x="35547" y="0"/>
                </a:lnTo>
                <a:lnTo>
                  <a:pt x="34147" y="1400"/>
                </a:lnTo>
                <a:lnTo>
                  <a:pt x="1400" y="1400"/>
                </a:lnTo>
                <a:close/>
              </a:path>
              <a:path fill="darken" w="35547" h="21600">
                <a:moveTo>
                  <a:pt x="35547" y="0"/>
                </a:moveTo>
                <a:lnTo>
                  <a:pt x="35547" y="21600"/>
                </a:lnTo>
                <a:lnTo>
                  <a:pt x="34147" y="20200"/>
                </a:lnTo>
                <a:lnTo>
                  <a:pt x="34147" y="1400"/>
                </a:lnTo>
                <a:close/>
              </a:path>
              <a:path fill="darkenLess" w="35547" h="21600">
                <a:moveTo>
                  <a:pt x="35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147" y="20200"/>
                </a:lnTo>
                <a:close/>
              </a:path>
              <a:path fill="lighten" w="35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547" h="21600">
                <a:moveTo>
                  <a:pt x="10767" y="3794"/>
                </a:moveTo>
                <a:lnTo>
                  <a:pt x="24780" y="10800"/>
                </a:lnTo>
                <a:lnTo>
                  <a:pt x="10767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985080" y="1484280"/>
            <a:ext cx="2158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3333cc"/>
                </a:solidFill>
                <a:latin typeface="Comic Sans MS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443640" y="2924280"/>
            <a:ext cx="1441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300720" y="4869000"/>
            <a:ext cx="21589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33cc"/>
                </a:solidFill>
                <a:latin typeface="Comic Sans MS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>
            <a:hlinkClick r:id="rId11" action="ppaction://hlinksldjump"/>
          </p:cNvPr>
          <p:cNvSpPr/>
          <p:nvPr/>
        </p:nvSpPr>
        <p:spPr>
          <a:xfrm>
            <a:off x="7056360" y="1268280"/>
            <a:ext cx="2087640" cy="1224000"/>
          </a:xfrm>
          <a:custGeom>
            <a:avLst/>
            <a:gdLst>
              <a:gd name="textAreaLeft" fmla="*/ 79200 w 2087640"/>
              <a:gd name="textAreaRight" fmla="*/ 2008440 w 208764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36836" h="21600">
                <a:moveTo>
                  <a:pt x="0" y="0"/>
                </a:moveTo>
                <a:lnTo>
                  <a:pt x="36836" y="0"/>
                </a:lnTo>
                <a:lnTo>
                  <a:pt x="36836" y="21600"/>
                </a:lnTo>
                <a:lnTo>
                  <a:pt x="0" y="21600"/>
                </a:lnTo>
                <a:close/>
              </a:path>
              <a:path fill="lightenLess" w="36836" h="21600">
                <a:moveTo>
                  <a:pt x="0" y="0"/>
                </a:moveTo>
                <a:lnTo>
                  <a:pt x="36836" y="0"/>
                </a:lnTo>
                <a:lnTo>
                  <a:pt x="35436" y="1400"/>
                </a:lnTo>
                <a:lnTo>
                  <a:pt x="1400" y="1400"/>
                </a:lnTo>
                <a:close/>
              </a:path>
              <a:path fill="darken" w="36836" h="21600">
                <a:moveTo>
                  <a:pt x="36836" y="0"/>
                </a:moveTo>
                <a:lnTo>
                  <a:pt x="36836" y="21600"/>
                </a:lnTo>
                <a:lnTo>
                  <a:pt x="35436" y="20200"/>
                </a:lnTo>
                <a:lnTo>
                  <a:pt x="35436" y="1400"/>
                </a:lnTo>
                <a:close/>
              </a:path>
              <a:path fill="darkenLess" w="36836" h="21600">
                <a:moveTo>
                  <a:pt x="36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436" y="20200"/>
                </a:lnTo>
                <a:close/>
              </a:path>
              <a:path fill="lighten" w="36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836" h="21600">
                <a:moveTo>
                  <a:pt x="11412" y="3794"/>
                </a:moveTo>
                <a:lnTo>
                  <a:pt x="25425" y="10800"/>
                </a:lnTo>
                <a:lnTo>
                  <a:pt x="1141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>
            <a:hlinkClick r:id="rId12" action="ppaction://hlinksldjump"/>
          </p:cNvPr>
          <p:cNvSpPr/>
          <p:nvPr/>
        </p:nvSpPr>
        <p:spPr>
          <a:xfrm>
            <a:off x="6300720" y="2852640"/>
            <a:ext cx="2087640" cy="1081080"/>
          </a:xfrm>
          <a:custGeom>
            <a:avLst/>
            <a:gdLst>
              <a:gd name="textAreaLeft" fmla="*/ 69840 w 2087640"/>
              <a:gd name="textAreaRight" fmla="*/ 2017800 w 2087640"/>
              <a:gd name="textAreaTop" fmla="*/ 69840 h 1081080"/>
              <a:gd name="textAreaBottom" fmla="*/ 1011240 h 1081080"/>
            </a:gdLst>
            <a:ahLst/>
            <a:rect l="textAreaLeft" t="textAreaTop" r="textAreaRight" b="textAreaBottom"/>
            <a:pathLst>
              <a:path w="41704" h="21600">
                <a:moveTo>
                  <a:pt x="0" y="0"/>
                </a:moveTo>
                <a:lnTo>
                  <a:pt x="41704" y="0"/>
                </a:lnTo>
                <a:lnTo>
                  <a:pt x="41704" y="21600"/>
                </a:lnTo>
                <a:lnTo>
                  <a:pt x="0" y="21600"/>
                </a:lnTo>
                <a:close/>
              </a:path>
              <a:path fill="lightenLess" w="41704" h="21600">
                <a:moveTo>
                  <a:pt x="0" y="0"/>
                </a:moveTo>
                <a:lnTo>
                  <a:pt x="41704" y="0"/>
                </a:lnTo>
                <a:lnTo>
                  <a:pt x="40304" y="1400"/>
                </a:lnTo>
                <a:lnTo>
                  <a:pt x="1400" y="1400"/>
                </a:lnTo>
                <a:close/>
              </a:path>
              <a:path fill="darken" w="41704" h="21600">
                <a:moveTo>
                  <a:pt x="41704" y="0"/>
                </a:moveTo>
                <a:lnTo>
                  <a:pt x="41704" y="21600"/>
                </a:lnTo>
                <a:lnTo>
                  <a:pt x="40304" y="20200"/>
                </a:lnTo>
                <a:lnTo>
                  <a:pt x="40304" y="1400"/>
                </a:lnTo>
                <a:close/>
              </a:path>
              <a:path fill="darkenLess" w="41704" h="21600">
                <a:moveTo>
                  <a:pt x="41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304" y="20200"/>
                </a:lnTo>
                <a:close/>
              </a:path>
              <a:path fill="lighten" w="41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704" h="21600">
                <a:moveTo>
                  <a:pt x="13846" y="3794"/>
                </a:moveTo>
                <a:lnTo>
                  <a:pt x="27859" y="10800"/>
                </a:lnTo>
                <a:lnTo>
                  <a:pt x="1384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>
            <a:hlinkClick r:id="rId13" action="ppaction://hlinksldjump"/>
          </p:cNvPr>
          <p:cNvSpPr/>
          <p:nvPr/>
        </p:nvSpPr>
        <p:spPr>
          <a:xfrm>
            <a:off x="6300720" y="4797360"/>
            <a:ext cx="2158920" cy="1081080"/>
          </a:xfrm>
          <a:custGeom>
            <a:avLst/>
            <a:gdLst>
              <a:gd name="textAreaLeft" fmla="*/ 69840 w 2158920"/>
              <a:gd name="textAreaRight" fmla="*/ 2089080 w 2158920"/>
              <a:gd name="textAreaTop" fmla="*/ 69840 h 1081080"/>
              <a:gd name="textAreaBottom" fmla="*/ 1011240 h 1081080"/>
            </a:gdLst>
            <a:ahLst/>
            <a:rect l="textAreaLeft" t="textAreaTop" r="textAreaRight" b="textAreaBottom"/>
            <a:pathLst>
              <a:path w="43128" h="21600">
                <a:moveTo>
                  <a:pt x="0" y="0"/>
                </a:moveTo>
                <a:lnTo>
                  <a:pt x="43128" y="0"/>
                </a:lnTo>
                <a:lnTo>
                  <a:pt x="43128" y="21600"/>
                </a:lnTo>
                <a:lnTo>
                  <a:pt x="0" y="21600"/>
                </a:lnTo>
                <a:close/>
              </a:path>
              <a:path fill="lightenLess" w="43128" h="21600">
                <a:moveTo>
                  <a:pt x="0" y="0"/>
                </a:moveTo>
                <a:lnTo>
                  <a:pt x="43128" y="0"/>
                </a:lnTo>
                <a:lnTo>
                  <a:pt x="41728" y="1400"/>
                </a:lnTo>
                <a:lnTo>
                  <a:pt x="1400" y="1400"/>
                </a:lnTo>
                <a:close/>
              </a:path>
              <a:path fill="darken" w="43128" h="21600">
                <a:moveTo>
                  <a:pt x="43128" y="0"/>
                </a:moveTo>
                <a:lnTo>
                  <a:pt x="43128" y="21600"/>
                </a:lnTo>
                <a:lnTo>
                  <a:pt x="41728" y="20200"/>
                </a:lnTo>
                <a:lnTo>
                  <a:pt x="41728" y="1400"/>
                </a:lnTo>
                <a:close/>
              </a:path>
              <a:path fill="darkenLess" w="43128" h="21600">
                <a:moveTo>
                  <a:pt x="43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8" y="20200"/>
                </a:lnTo>
                <a:close/>
              </a:path>
              <a:path fill="lighten" w="43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8" h="21600">
                <a:moveTo>
                  <a:pt x="14558" y="3794"/>
                </a:moveTo>
                <a:lnTo>
                  <a:pt x="28571" y="10800"/>
                </a:lnTo>
                <a:lnTo>
                  <a:pt x="14558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14"/>
          <a:stretch/>
        </p:blipFill>
        <p:spPr>
          <a:xfrm>
            <a:off x="2987640" y="4221000"/>
            <a:ext cx="2879640" cy="263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fill="hold">
                      <p:stCondLst>
                        <p:cond delay="0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" descr=""/>
          <p:cNvPicPr/>
          <p:nvPr/>
        </p:nvPicPr>
        <p:blipFill>
          <a:blip r:embed="rId2"/>
          <a:stretch/>
        </p:blipFill>
        <p:spPr>
          <a:xfrm>
            <a:off x="324000" y="1773360"/>
            <a:ext cx="4051080" cy="453852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>
            <a:hlinkClick r:id="rId3" action="ppaction://hlinksldjump"/>
          </p:cNvPr>
          <p:cNvSpPr/>
          <p:nvPr/>
        </p:nvSpPr>
        <p:spPr>
          <a:xfrm>
            <a:off x="1476360" y="5013360"/>
            <a:ext cx="863640" cy="1008000"/>
          </a:xfrm>
          <a:custGeom>
            <a:avLst/>
            <a:gdLst>
              <a:gd name="textAreaLeft" fmla="*/ 55800 w 863640"/>
              <a:gd name="textAreaRight" fmla="*/ 807840 w 863640"/>
              <a:gd name="textAreaTop" fmla="*/ 55800 h 1008000"/>
              <a:gd name="textAreaBottom" fmla="*/ 952200 h 1008000"/>
            </a:gdLst>
            <a:ahLst/>
            <a:rect l="textAreaLeft" t="textAreaTop" r="textAreaRight" b="textAreaBottom"/>
            <a:pathLst>
              <a:path w="21600" h="25209">
                <a:moveTo>
                  <a:pt x="0" y="0"/>
                </a:moveTo>
                <a:lnTo>
                  <a:pt x="21600" y="0"/>
                </a:lnTo>
                <a:lnTo>
                  <a:pt x="21600" y="25209"/>
                </a:lnTo>
                <a:lnTo>
                  <a:pt x="0" y="25209"/>
                </a:lnTo>
                <a:close/>
              </a:path>
              <a:path fill="lightenLess" w="21600" h="252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9">
                <a:moveTo>
                  <a:pt x="21600" y="0"/>
                </a:moveTo>
                <a:lnTo>
                  <a:pt x="21600" y="25209"/>
                </a:lnTo>
                <a:lnTo>
                  <a:pt x="20200" y="23809"/>
                </a:lnTo>
                <a:lnTo>
                  <a:pt x="20200" y="1400"/>
                </a:lnTo>
                <a:close/>
              </a:path>
              <a:path fill="darkenLess" w="21600" h="25209">
                <a:moveTo>
                  <a:pt x="21600" y="25209"/>
                </a:moveTo>
                <a:lnTo>
                  <a:pt x="0" y="25209"/>
                </a:lnTo>
                <a:lnTo>
                  <a:pt x="1400" y="23809"/>
                </a:lnTo>
                <a:lnTo>
                  <a:pt x="20200" y="23809"/>
                </a:lnTo>
                <a:close/>
              </a:path>
              <a:path fill="lighten" w="21600" h="25209">
                <a:moveTo>
                  <a:pt x="0" y="252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9"/>
                </a:lnTo>
                <a:close/>
              </a:path>
              <a:path fill="darken" w="21600" h="25209">
                <a:moveTo>
                  <a:pt x="3794" y="5598"/>
                </a:moveTo>
                <a:lnTo>
                  <a:pt x="17806" y="12605"/>
                </a:lnTo>
                <a:lnTo>
                  <a:pt x="3794" y="19611"/>
                </a:lnTo>
                <a:close/>
              </a:path>
            </a:pathLst>
          </a:custGeom>
          <a:solidFill>
            <a:srgbClr val="ffff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4"/>
          <a:stretch/>
        </p:blipFill>
        <p:spPr>
          <a:xfrm>
            <a:off x="5145120" y="2060640"/>
            <a:ext cx="3998880" cy="4797360"/>
          </a:xfrm>
          <a:prstGeom prst="rect">
            <a:avLst/>
          </a:prstGeom>
          <a:ln w="0">
            <a:noFill/>
          </a:ln>
        </p:spPr>
      </p:pic>
      <p:pic>
        <p:nvPicPr>
          <p:cNvPr id="591" name="" descr=""/>
          <p:cNvPicPr/>
          <p:nvPr/>
        </p:nvPicPr>
        <p:blipFill>
          <a:blip r:embed="rId5"/>
          <a:stretch/>
        </p:blipFill>
        <p:spPr>
          <a:xfrm>
            <a:off x="468360" y="692280"/>
            <a:ext cx="8242200" cy="115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6" dur="indefinite" restart="never" nodeType="tmRoot">
          <p:childTnLst>
            <p:seq>
              <p:cTn id="1277" dur="indefinite" nodeType="mainSeq">
                <p:childTnLst>
                  <p:par>
                    <p:cTn id="1278" fill="hold">
                      <p:stCondLst>
                        <p:cond delay="0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2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4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2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rot="335400"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8000" spc="-1" strike="noStrike">
                <a:solidFill>
                  <a:srgbClr val="ffff00"/>
                </a:solidFill>
                <a:latin typeface="Arial"/>
              </a:rPr>
              <a:t>Fii mai atent!</a:t>
            </a: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>
            <a:hlinkClick r:id="rId2" action="ppaction://hlinksldjump"/>
          </p:cNvPr>
          <p:cNvSpPr/>
          <p:nvPr/>
        </p:nvSpPr>
        <p:spPr>
          <a:xfrm>
            <a:off x="7848720" y="5791320"/>
            <a:ext cx="914400" cy="792000"/>
          </a:xfrm>
          <a:custGeom>
            <a:avLst/>
            <a:gdLst>
              <a:gd name="textAreaLeft" fmla="*/ 51120 w 914400"/>
              <a:gd name="textAreaRight" fmla="*/ 863280 w 9144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4937" h="21600">
                <a:moveTo>
                  <a:pt x="0" y="0"/>
                </a:moveTo>
                <a:lnTo>
                  <a:pt x="24937" y="0"/>
                </a:lnTo>
                <a:lnTo>
                  <a:pt x="24937" y="21600"/>
                </a:lnTo>
                <a:lnTo>
                  <a:pt x="0" y="21600"/>
                </a:lnTo>
                <a:close/>
              </a:path>
              <a:path fill="lightenLess" w="24937" h="21600">
                <a:moveTo>
                  <a:pt x="0" y="0"/>
                </a:moveTo>
                <a:lnTo>
                  <a:pt x="24937" y="0"/>
                </a:lnTo>
                <a:lnTo>
                  <a:pt x="23537" y="1400"/>
                </a:lnTo>
                <a:lnTo>
                  <a:pt x="1400" y="1400"/>
                </a:lnTo>
                <a:close/>
              </a:path>
              <a:path fill="darken" w="24937" h="21600">
                <a:moveTo>
                  <a:pt x="24937" y="0"/>
                </a:moveTo>
                <a:lnTo>
                  <a:pt x="24937" y="21600"/>
                </a:lnTo>
                <a:lnTo>
                  <a:pt x="23537" y="20200"/>
                </a:lnTo>
                <a:lnTo>
                  <a:pt x="23537" y="1400"/>
                </a:lnTo>
                <a:close/>
              </a:path>
              <a:path fill="darkenLess" w="24937" h="21600">
                <a:moveTo>
                  <a:pt x="24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37" y="20200"/>
                </a:lnTo>
                <a:close/>
              </a:path>
              <a:path fill="lighten" w="24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37" h="21600">
                <a:moveTo>
                  <a:pt x="5462" y="3794"/>
                </a:moveTo>
                <a:lnTo>
                  <a:pt x="19475" y="10800"/>
                </a:lnTo>
                <a:lnTo>
                  <a:pt x="5462" y="17806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3"/>
          <a:stretch/>
        </p:blipFill>
        <p:spPr>
          <a:xfrm>
            <a:off x="0" y="1916280"/>
            <a:ext cx="3352680" cy="494172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4038480" y="4114800"/>
            <a:ext cx="3275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f800"/>
                </a:solidFill>
                <a:latin typeface="Arial"/>
              </a:rPr>
              <a:t>Dă clic  şi încearcă din n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6" dur="indefinite" restart="never" nodeType="tmRoot">
          <p:childTnLst>
            <p:seq>
              <p:cTn id="1297" dur="indefinite" nodeType="mainSeq">
                <p:childTnLst>
                  <p:par>
                    <p:cTn id="1298" fill="hold">
                      <p:stCondLst>
                        <p:cond delay="0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afterEffect" fill="hold" presetClass="entr" presetID="55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2" dur="10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10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4" dur="1000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6" nodeType="afterEffect" fill="hold" presetClass="entr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8" dur="8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9" dur="8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0" dur="8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fill="hold">
                            <p:stCondLst>
                              <p:cond delay="1960"/>
                            </p:stCondLst>
                            <p:childTnLst>
                              <p:par>
                                <p:cTn id="13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" descr=""/>
          <p:cNvPicPr/>
          <p:nvPr/>
        </p:nvPicPr>
        <p:blipFill>
          <a:blip r:embed="rId2"/>
          <a:stretch/>
        </p:blipFill>
        <p:spPr>
          <a:xfrm>
            <a:off x="5940360" y="692280"/>
            <a:ext cx="3203640" cy="2663640"/>
          </a:xfrm>
          <a:prstGeom prst="rect">
            <a:avLst/>
          </a:prstGeom>
          <a:ln w="0">
            <a:noFill/>
          </a:ln>
        </p:spPr>
      </p:pic>
      <p:pic>
        <p:nvPicPr>
          <p:cNvPr id="601" name="" descr=""/>
          <p:cNvPicPr/>
          <p:nvPr/>
        </p:nvPicPr>
        <p:blipFill>
          <a:blip r:embed="rId3"/>
          <a:stretch/>
        </p:blipFill>
        <p:spPr>
          <a:xfrm>
            <a:off x="6156360" y="2060640"/>
            <a:ext cx="2987640" cy="2663640"/>
          </a:xfrm>
          <a:prstGeom prst="rect">
            <a:avLst/>
          </a:prstGeom>
          <a:ln w="0">
            <a:noFill/>
          </a:ln>
        </p:spPr>
      </p:pic>
      <p:pic>
        <p:nvPicPr>
          <p:cNvPr id="602" name="" descr=""/>
          <p:cNvPicPr/>
          <p:nvPr/>
        </p:nvPicPr>
        <p:blipFill>
          <a:blip r:embed="rId4"/>
          <a:stretch/>
        </p:blipFill>
        <p:spPr>
          <a:xfrm>
            <a:off x="0" y="260280"/>
            <a:ext cx="2075040" cy="2664000"/>
          </a:xfrm>
          <a:prstGeom prst="rect">
            <a:avLst/>
          </a:prstGeom>
          <a:ln w="0">
            <a:noFill/>
          </a:ln>
        </p:spPr>
      </p:pic>
      <p:pic>
        <p:nvPicPr>
          <p:cNvPr id="603" name="" descr=""/>
          <p:cNvPicPr/>
          <p:nvPr/>
        </p:nvPicPr>
        <p:blipFill>
          <a:blip r:embed="rId5"/>
          <a:stretch/>
        </p:blipFill>
        <p:spPr>
          <a:xfrm>
            <a:off x="6084720" y="3835440"/>
            <a:ext cx="3059280" cy="3022560"/>
          </a:xfrm>
          <a:prstGeom prst="rect">
            <a:avLst/>
          </a:prstGeom>
          <a:ln w="0">
            <a:noFill/>
          </a:ln>
        </p:spPr>
      </p:pic>
      <p:pic>
        <p:nvPicPr>
          <p:cNvPr id="604" name="" descr=""/>
          <p:cNvPicPr/>
          <p:nvPr/>
        </p:nvPicPr>
        <p:blipFill>
          <a:blip r:embed="rId6"/>
          <a:stretch/>
        </p:blipFill>
        <p:spPr>
          <a:xfrm>
            <a:off x="395280" y="1844640"/>
            <a:ext cx="2075040" cy="266400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7"/>
          <a:stretch/>
        </p:blipFill>
        <p:spPr>
          <a:xfrm>
            <a:off x="0" y="3933720"/>
            <a:ext cx="3059280" cy="2924280"/>
          </a:xfrm>
          <a:prstGeom prst="rect">
            <a:avLst/>
          </a:prstGeom>
          <a:ln w="0">
            <a:noFill/>
          </a:ln>
        </p:spPr>
      </p:pic>
      <p:sp>
        <p:nvSpPr>
          <p:cNvPr id="606" name=""/>
          <p:cNvSpPr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39640" y="119700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V="1" rot="30600">
            <a:off x="469800" y="1555920"/>
            <a:ext cx="20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611280" y="5013360"/>
            <a:ext cx="35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68360" y="1557360"/>
            <a:ext cx="2158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79280" y="2852640"/>
            <a:ext cx="21592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50920" y="5157720"/>
            <a:ext cx="2158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Comic Sans MS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5720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761c00"/>
                </a:solidFill>
                <a:latin typeface="Comic Sans MS"/>
              </a:rPr>
              <a:t>63 :9 =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>
            <a:hlinkClick r:id="rId8" action="ppaction://hlinksldjump"/>
          </p:cNvPr>
          <p:cNvSpPr/>
          <p:nvPr/>
        </p:nvSpPr>
        <p:spPr>
          <a:xfrm>
            <a:off x="684360" y="1413000"/>
            <a:ext cx="2016000" cy="1081080"/>
          </a:xfrm>
          <a:custGeom>
            <a:avLst/>
            <a:gdLst>
              <a:gd name="textAreaLeft" fmla="*/ 69840 w 2016000"/>
              <a:gd name="textAreaRight" fmla="*/ 1946160 w 2016000"/>
              <a:gd name="textAreaTop" fmla="*/ 69840 h 1081080"/>
              <a:gd name="textAreaBottom" fmla="*/ 1011240 h 1081080"/>
            </a:gdLst>
            <a:ahLst/>
            <a:rect l="textAreaLeft" t="textAreaTop" r="textAreaRight" b="textAreaBottom"/>
            <a:pathLst>
              <a:path w="40274" h="21600">
                <a:moveTo>
                  <a:pt x="0" y="0"/>
                </a:moveTo>
                <a:lnTo>
                  <a:pt x="40274" y="0"/>
                </a:lnTo>
                <a:lnTo>
                  <a:pt x="40274" y="21600"/>
                </a:lnTo>
                <a:lnTo>
                  <a:pt x="0" y="21600"/>
                </a:lnTo>
                <a:close/>
              </a:path>
              <a:path fill="lightenLess" w="40274" h="21600">
                <a:moveTo>
                  <a:pt x="0" y="0"/>
                </a:moveTo>
                <a:lnTo>
                  <a:pt x="40274" y="0"/>
                </a:lnTo>
                <a:lnTo>
                  <a:pt x="38874" y="1400"/>
                </a:lnTo>
                <a:lnTo>
                  <a:pt x="1400" y="1400"/>
                </a:lnTo>
                <a:close/>
              </a:path>
              <a:path fill="darken" w="40274" h="21600">
                <a:moveTo>
                  <a:pt x="40274" y="0"/>
                </a:moveTo>
                <a:lnTo>
                  <a:pt x="40274" y="21600"/>
                </a:lnTo>
                <a:lnTo>
                  <a:pt x="38874" y="20200"/>
                </a:lnTo>
                <a:lnTo>
                  <a:pt x="38874" y="1400"/>
                </a:lnTo>
                <a:close/>
              </a:path>
              <a:path fill="darkenLess" w="40274" h="21600">
                <a:moveTo>
                  <a:pt x="402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874" y="20200"/>
                </a:lnTo>
                <a:close/>
              </a:path>
              <a:path fill="lighten" w="402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274" h="21600">
                <a:moveTo>
                  <a:pt x="13130" y="3794"/>
                </a:moveTo>
                <a:lnTo>
                  <a:pt x="27143" y="10800"/>
                </a:lnTo>
                <a:lnTo>
                  <a:pt x="1313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>
            <a:hlinkClick r:id="rId9" action="ppaction://hlinksldjump"/>
          </p:cNvPr>
          <p:cNvSpPr/>
          <p:nvPr/>
        </p:nvSpPr>
        <p:spPr>
          <a:xfrm>
            <a:off x="0" y="4941720"/>
            <a:ext cx="2700360" cy="1152720"/>
          </a:xfrm>
          <a:custGeom>
            <a:avLst/>
            <a:gdLst>
              <a:gd name="textAreaLeft" fmla="*/ 74520 w 2700360"/>
              <a:gd name="textAreaRight" fmla="*/ 2625840 w 270036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50591" h="21600">
                <a:moveTo>
                  <a:pt x="0" y="0"/>
                </a:moveTo>
                <a:lnTo>
                  <a:pt x="50591" y="0"/>
                </a:lnTo>
                <a:lnTo>
                  <a:pt x="50591" y="21600"/>
                </a:lnTo>
                <a:lnTo>
                  <a:pt x="0" y="21600"/>
                </a:lnTo>
                <a:close/>
              </a:path>
              <a:path fill="lightenLess" w="50591" h="21600">
                <a:moveTo>
                  <a:pt x="0" y="0"/>
                </a:moveTo>
                <a:lnTo>
                  <a:pt x="50591" y="0"/>
                </a:lnTo>
                <a:lnTo>
                  <a:pt x="49191" y="1400"/>
                </a:lnTo>
                <a:lnTo>
                  <a:pt x="1400" y="1400"/>
                </a:lnTo>
                <a:close/>
              </a:path>
              <a:path fill="darken" w="50591" h="21600">
                <a:moveTo>
                  <a:pt x="50591" y="0"/>
                </a:moveTo>
                <a:lnTo>
                  <a:pt x="50591" y="21600"/>
                </a:lnTo>
                <a:lnTo>
                  <a:pt x="49191" y="20200"/>
                </a:lnTo>
                <a:lnTo>
                  <a:pt x="49191" y="1400"/>
                </a:lnTo>
                <a:close/>
              </a:path>
              <a:path fill="darkenLess" w="50591" h="21600">
                <a:moveTo>
                  <a:pt x="50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191" y="20200"/>
                </a:lnTo>
                <a:close/>
              </a:path>
              <a:path fill="lighten" w="50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591" h="21600">
                <a:moveTo>
                  <a:pt x="18289" y="3794"/>
                </a:moveTo>
                <a:lnTo>
                  <a:pt x="32302" y="10800"/>
                </a:lnTo>
                <a:lnTo>
                  <a:pt x="18289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156360" y="1413000"/>
            <a:ext cx="21589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300720" y="3284640"/>
            <a:ext cx="21589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Comic Sans MS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300720" y="5013360"/>
            <a:ext cx="2158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Comic Sans MS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>
            <a:hlinkClick r:id="rId10" action="ppaction://hlinksldjump"/>
          </p:cNvPr>
          <p:cNvSpPr/>
          <p:nvPr/>
        </p:nvSpPr>
        <p:spPr>
          <a:xfrm>
            <a:off x="6227640" y="1197000"/>
            <a:ext cx="2160720" cy="934920"/>
          </a:xfrm>
          <a:custGeom>
            <a:avLst/>
            <a:gdLst>
              <a:gd name="textAreaLeft" fmla="*/ 60480 w 2160720"/>
              <a:gd name="textAreaRight" fmla="*/ 2100240 w 216072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49909" h="21600">
                <a:moveTo>
                  <a:pt x="0" y="0"/>
                </a:moveTo>
                <a:lnTo>
                  <a:pt x="49909" y="0"/>
                </a:lnTo>
                <a:lnTo>
                  <a:pt x="49909" y="21600"/>
                </a:lnTo>
                <a:lnTo>
                  <a:pt x="0" y="21600"/>
                </a:lnTo>
                <a:close/>
              </a:path>
              <a:path fill="lightenLess" w="49909" h="21600">
                <a:moveTo>
                  <a:pt x="0" y="0"/>
                </a:moveTo>
                <a:lnTo>
                  <a:pt x="49909" y="0"/>
                </a:lnTo>
                <a:lnTo>
                  <a:pt x="48509" y="1400"/>
                </a:lnTo>
                <a:lnTo>
                  <a:pt x="1400" y="1400"/>
                </a:lnTo>
                <a:close/>
              </a:path>
              <a:path fill="darken" w="49909" h="21600">
                <a:moveTo>
                  <a:pt x="49909" y="0"/>
                </a:moveTo>
                <a:lnTo>
                  <a:pt x="49909" y="21600"/>
                </a:lnTo>
                <a:lnTo>
                  <a:pt x="48509" y="20200"/>
                </a:lnTo>
                <a:lnTo>
                  <a:pt x="48509" y="1400"/>
                </a:lnTo>
                <a:close/>
              </a:path>
              <a:path fill="darkenLess" w="49909" h="21600">
                <a:moveTo>
                  <a:pt x="499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509" y="20200"/>
                </a:lnTo>
                <a:close/>
              </a:path>
              <a:path fill="lighten" w="499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909" h="21600">
                <a:moveTo>
                  <a:pt x="17948" y="3794"/>
                </a:moveTo>
                <a:lnTo>
                  <a:pt x="31961" y="10800"/>
                </a:lnTo>
                <a:lnTo>
                  <a:pt x="17948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>
            <a:hlinkClick r:id="rId11" action="ppaction://hlinksldjump"/>
          </p:cNvPr>
          <p:cNvSpPr/>
          <p:nvPr/>
        </p:nvSpPr>
        <p:spPr>
          <a:xfrm>
            <a:off x="6372360" y="3141720"/>
            <a:ext cx="2087280" cy="1081080"/>
          </a:xfrm>
          <a:custGeom>
            <a:avLst/>
            <a:gdLst>
              <a:gd name="textAreaLeft" fmla="*/ 69840 w 2087280"/>
              <a:gd name="textAreaRight" fmla="*/ 2017440 w 2087280"/>
              <a:gd name="textAreaTop" fmla="*/ 69840 h 1081080"/>
              <a:gd name="textAreaBottom" fmla="*/ 1011240 h 1081080"/>
            </a:gdLst>
            <a:ahLst/>
            <a:rect l="textAreaLeft" t="textAreaTop" r="textAreaRight" b="textAreaBottom"/>
            <a:pathLst>
              <a:path w="41697" h="21600">
                <a:moveTo>
                  <a:pt x="0" y="0"/>
                </a:moveTo>
                <a:lnTo>
                  <a:pt x="41697" y="0"/>
                </a:lnTo>
                <a:lnTo>
                  <a:pt x="41697" y="21600"/>
                </a:lnTo>
                <a:lnTo>
                  <a:pt x="0" y="21600"/>
                </a:lnTo>
                <a:close/>
              </a:path>
              <a:path fill="lightenLess" w="41697" h="21600">
                <a:moveTo>
                  <a:pt x="0" y="0"/>
                </a:moveTo>
                <a:lnTo>
                  <a:pt x="41697" y="0"/>
                </a:lnTo>
                <a:lnTo>
                  <a:pt x="40297" y="1400"/>
                </a:lnTo>
                <a:lnTo>
                  <a:pt x="1400" y="1400"/>
                </a:lnTo>
                <a:close/>
              </a:path>
              <a:path fill="darken" w="41697" h="21600">
                <a:moveTo>
                  <a:pt x="41697" y="0"/>
                </a:moveTo>
                <a:lnTo>
                  <a:pt x="41697" y="21600"/>
                </a:lnTo>
                <a:lnTo>
                  <a:pt x="40297" y="20200"/>
                </a:lnTo>
                <a:lnTo>
                  <a:pt x="40297" y="1400"/>
                </a:lnTo>
                <a:close/>
              </a:path>
              <a:path fill="darkenLess" w="41697" h="21600">
                <a:moveTo>
                  <a:pt x="41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297" y="20200"/>
                </a:lnTo>
                <a:close/>
              </a:path>
              <a:path fill="lighten" w="41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697" h="21600">
                <a:moveTo>
                  <a:pt x="13842" y="3794"/>
                </a:moveTo>
                <a:lnTo>
                  <a:pt x="27855" y="10800"/>
                </a:lnTo>
                <a:lnTo>
                  <a:pt x="1384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>
            <a:hlinkClick r:id="rId12" action="ppaction://hlinksldjump"/>
          </p:cNvPr>
          <p:cNvSpPr/>
          <p:nvPr/>
        </p:nvSpPr>
        <p:spPr>
          <a:xfrm>
            <a:off x="324000" y="2708280"/>
            <a:ext cx="2085840" cy="1079640"/>
          </a:xfrm>
          <a:custGeom>
            <a:avLst/>
            <a:gdLst>
              <a:gd name="textAreaLeft" fmla="*/ 69840 w 2085840"/>
              <a:gd name="textAreaRight" fmla="*/ 2016000 w 2085840"/>
              <a:gd name="textAreaTop" fmla="*/ 69840 h 1079640"/>
              <a:gd name="textAreaBottom" fmla="*/ 1009800 h 1079640"/>
            </a:gdLst>
            <a:ahLst/>
            <a:rect l="textAreaLeft" t="textAreaTop" r="textAreaRight" b="textAreaBottom"/>
            <a:pathLst>
              <a:path w="41724" h="21600">
                <a:moveTo>
                  <a:pt x="0" y="0"/>
                </a:moveTo>
                <a:lnTo>
                  <a:pt x="41724" y="0"/>
                </a:lnTo>
                <a:lnTo>
                  <a:pt x="41724" y="21600"/>
                </a:lnTo>
                <a:lnTo>
                  <a:pt x="0" y="21600"/>
                </a:lnTo>
                <a:close/>
              </a:path>
              <a:path fill="lightenLess" w="41724" h="21600">
                <a:moveTo>
                  <a:pt x="0" y="0"/>
                </a:moveTo>
                <a:lnTo>
                  <a:pt x="41724" y="0"/>
                </a:lnTo>
                <a:lnTo>
                  <a:pt x="40324" y="1400"/>
                </a:lnTo>
                <a:lnTo>
                  <a:pt x="1400" y="1400"/>
                </a:lnTo>
                <a:close/>
              </a:path>
              <a:path fill="darken" w="41724" h="21600">
                <a:moveTo>
                  <a:pt x="41724" y="0"/>
                </a:moveTo>
                <a:lnTo>
                  <a:pt x="41724" y="21600"/>
                </a:lnTo>
                <a:lnTo>
                  <a:pt x="40324" y="20200"/>
                </a:lnTo>
                <a:lnTo>
                  <a:pt x="40324" y="1400"/>
                </a:lnTo>
                <a:close/>
              </a:path>
              <a:path fill="darkenLess" w="41724" h="21600">
                <a:moveTo>
                  <a:pt x="417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324" y="20200"/>
                </a:lnTo>
                <a:close/>
              </a:path>
              <a:path fill="lighten" w="417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724" h="21600">
                <a:moveTo>
                  <a:pt x="13856" y="3794"/>
                </a:moveTo>
                <a:lnTo>
                  <a:pt x="27868" y="10800"/>
                </a:lnTo>
                <a:lnTo>
                  <a:pt x="1385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" descr=""/>
          <p:cNvPicPr/>
          <p:nvPr/>
        </p:nvPicPr>
        <p:blipFill>
          <a:blip r:embed="rId13"/>
          <a:stretch/>
        </p:blipFill>
        <p:spPr>
          <a:xfrm>
            <a:off x="3203640" y="4221000"/>
            <a:ext cx="2255760" cy="2637000"/>
          </a:xfrm>
          <a:prstGeom prst="rect">
            <a:avLst/>
          </a:prstGeom>
          <a:ln w="0">
            <a:noFill/>
          </a:ln>
        </p:spPr>
      </p:pic>
      <p:sp>
        <p:nvSpPr>
          <p:cNvPr id="623" name="">
            <a:hlinkClick r:id="rId14" action="ppaction://hlinksldjump"/>
          </p:cNvPr>
          <p:cNvSpPr/>
          <p:nvPr/>
        </p:nvSpPr>
        <p:spPr>
          <a:xfrm>
            <a:off x="5975280" y="4653000"/>
            <a:ext cx="3168720" cy="1584360"/>
          </a:xfrm>
          <a:custGeom>
            <a:avLst/>
            <a:gdLst>
              <a:gd name="textAreaLeft" fmla="*/ 102600 w 3168720"/>
              <a:gd name="textAreaRight" fmla="*/ 3066120 w 316872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43195" h="21600">
                <a:moveTo>
                  <a:pt x="0" y="0"/>
                </a:moveTo>
                <a:lnTo>
                  <a:pt x="43195" y="0"/>
                </a:lnTo>
                <a:lnTo>
                  <a:pt x="43195" y="21600"/>
                </a:lnTo>
                <a:lnTo>
                  <a:pt x="0" y="21600"/>
                </a:lnTo>
                <a:close/>
              </a:path>
              <a:path fill="lightenLess" w="43195" h="21600">
                <a:moveTo>
                  <a:pt x="0" y="0"/>
                </a:moveTo>
                <a:lnTo>
                  <a:pt x="43195" y="0"/>
                </a:lnTo>
                <a:lnTo>
                  <a:pt x="41795" y="1400"/>
                </a:lnTo>
                <a:lnTo>
                  <a:pt x="1400" y="1400"/>
                </a:lnTo>
                <a:close/>
              </a:path>
              <a:path fill="darken" w="43195" h="21600">
                <a:moveTo>
                  <a:pt x="43195" y="0"/>
                </a:moveTo>
                <a:lnTo>
                  <a:pt x="43195" y="21600"/>
                </a:lnTo>
                <a:lnTo>
                  <a:pt x="41795" y="20200"/>
                </a:lnTo>
                <a:lnTo>
                  <a:pt x="41795" y="1400"/>
                </a:lnTo>
                <a:close/>
              </a:path>
              <a:path fill="darkenLess" w="43195" h="21600">
                <a:moveTo>
                  <a:pt x="43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5" y="20200"/>
                </a:lnTo>
                <a:close/>
              </a:path>
              <a:path fill="lighten" w="43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95" h="21600">
                <a:moveTo>
                  <a:pt x="14591" y="3794"/>
                </a:moveTo>
                <a:lnTo>
                  <a:pt x="28604" y="10800"/>
                </a:lnTo>
                <a:lnTo>
                  <a:pt x="14591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15"/>
          <a:stretch/>
        </p:blipFill>
        <p:spPr>
          <a:xfrm>
            <a:off x="3178080" y="2163600"/>
            <a:ext cx="2787840" cy="253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4" dur="indefinite" restart="never" nodeType="tmRoot">
          <p:childTnLst>
            <p:seq>
              <p:cTn id="1315" dur="indefinite" nodeType="mainSeq">
                <p:childTnLst>
                  <p:par>
                    <p:cTn id="1316" fill="hold">
                      <p:stCondLst>
                        <p:cond delay="0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1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>
            <a:hlinkClick r:id="rId2" action="ppaction://hlinksldjump"/>
          </p:cNvPr>
          <p:cNvSpPr/>
          <p:nvPr/>
        </p:nvSpPr>
        <p:spPr>
          <a:xfrm>
            <a:off x="4267080" y="4343400"/>
            <a:ext cx="1081080" cy="792000"/>
          </a:xfrm>
          <a:custGeom>
            <a:avLst/>
            <a:gdLst>
              <a:gd name="textAreaLeft" fmla="*/ 51120 w 1081080"/>
              <a:gd name="textAreaRight" fmla="*/ 1029960 w 1081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9480" h="21600">
                <a:moveTo>
                  <a:pt x="0" y="0"/>
                </a:moveTo>
                <a:lnTo>
                  <a:pt x="29480" y="0"/>
                </a:lnTo>
                <a:lnTo>
                  <a:pt x="29480" y="21600"/>
                </a:lnTo>
                <a:lnTo>
                  <a:pt x="0" y="21600"/>
                </a:lnTo>
                <a:close/>
              </a:path>
              <a:path fill="lightenLess" w="29480" h="21600">
                <a:moveTo>
                  <a:pt x="0" y="0"/>
                </a:moveTo>
                <a:lnTo>
                  <a:pt x="29480" y="0"/>
                </a:lnTo>
                <a:lnTo>
                  <a:pt x="28080" y="1400"/>
                </a:lnTo>
                <a:lnTo>
                  <a:pt x="1400" y="1400"/>
                </a:lnTo>
                <a:close/>
              </a:path>
              <a:path fill="darken" w="29480" h="21600">
                <a:moveTo>
                  <a:pt x="29480" y="0"/>
                </a:moveTo>
                <a:lnTo>
                  <a:pt x="29480" y="21600"/>
                </a:lnTo>
                <a:lnTo>
                  <a:pt x="28080" y="20200"/>
                </a:lnTo>
                <a:lnTo>
                  <a:pt x="28080" y="1400"/>
                </a:lnTo>
                <a:close/>
              </a:path>
              <a:path fill="darkenLess" w="29480" h="21600">
                <a:moveTo>
                  <a:pt x="294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80" y="20200"/>
                </a:lnTo>
                <a:close/>
              </a:path>
              <a:path fill="lighten" w="294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80" h="21600">
                <a:moveTo>
                  <a:pt x="7734" y="3794"/>
                </a:moveTo>
                <a:lnTo>
                  <a:pt x="21747" y="10800"/>
                </a:lnTo>
                <a:lnTo>
                  <a:pt x="7734" y="17806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6191280" y="3290760"/>
            <a:ext cx="2814480" cy="33782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2771640" y="404640"/>
            <a:ext cx="39592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c521"/>
                    </a:gs>
                  </a:gsLst>
                  <a:lin ang="5400000"/>
                </a:gradFill>
                <a:latin typeface="Times New Roman"/>
              </a:rPr>
              <a:t>Oar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c521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2971800"/>
            <a:ext cx="3656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f800"/>
                </a:solidFill>
                <a:latin typeface="Arial"/>
              </a:rPr>
              <a:t>Dă clic  şi încearcă din n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77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" dur="770" fill="hold"/>
                                        <p:tgtEl>
                                          <p:spTgt spid="1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7" dur="77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96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2"/>
          <a:stretch/>
        </p:blipFill>
        <p:spPr>
          <a:xfrm>
            <a:off x="5446800" y="2133720"/>
            <a:ext cx="3697200" cy="4437000"/>
          </a:xfrm>
          <a:prstGeom prst="rect">
            <a:avLst/>
          </a:prstGeom>
          <a:ln w="0">
            <a:noFill/>
          </a:ln>
        </p:spPr>
      </p:pic>
      <p:pic>
        <p:nvPicPr>
          <p:cNvPr id="62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8761320" cy="3290760"/>
          </a:xfrm>
          <a:prstGeom prst="rect">
            <a:avLst/>
          </a:prstGeom>
          <a:ln w="0">
            <a:noFill/>
          </a:ln>
        </p:spPr>
      </p:pic>
      <p:pic>
        <p:nvPicPr>
          <p:cNvPr id="628" name="" descr=""/>
          <p:cNvPicPr/>
          <p:nvPr/>
        </p:nvPicPr>
        <p:blipFill>
          <a:blip r:embed="rId4"/>
          <a:stretch/>
        </p:blipFill>
        <p:spPr>
          <a:xfrm>
            <a:off x="395280" y="2924280"/>
            <a:ext cx="4195800" cy="4538520"/>
          </a:xfrm>
          <a:prstGeom prst="rect">
            <a:avLst/>
          </a:prstGeom>
          <a:ln w="0">
            <a:noFill/>
          </a:ln>
        </p:spPr>
      </p:pic>
      <p:sp>
        <p:nvSpPr>
          <p:cNvPr id="629" name="">
            <a:hlinkClick r:id="rId5" action="ppaction://hlinksldjump"/>
          </p:cNvPr>
          <p:cNvSpPr/>
          <p:nvPr/>
        </p:nvSpPr>
        <p:spPr>
          <a:xfrm>
            <a:off x="4500720" y="4292640"/>
            <a:ext cx="863280" cy="1008000"/>
          </a:xfrm>
          <a:custGeom>
            <a:avLst/>
            <a:gdLst>
              <a:gd name="textAreaLeft" fmla="*/ 55800 w 863280"/>
              <a:gd name="textAreaRight" fmla="*/ 807480 w 863280"/>
              <a:gd name="textAreaTop" fmla="*/ 55800 h 1008000"/>
              <a:gd name="textAreaBottom" fmla="*/ 952200 h 1008000"/>
            </a:gdLst>
            <a:ahLst/>
            <a:rect l="textAreaLeft" t="textAreaTop" r="textAreaRight" b="textAreaBottom"/>
            <a:pathLst>
              <a:path w="21600" h="25220">
                <a:moveTo>
                  <a:pt x="0" y="0"/>
                </a:moveTo>
                <a:lnTo>
                  <a:pt x="21600" y="0"/>
                </a:lnTo>
                <a:lnTo>
                  <a:pt x="21600" y="25220"/>
                </a:lnTo>
                <a:lnTo>
                  <a:pt x="0" y="25220"/>
                </a:lnTo>
                <a:close/>
              </a:path>
              <a:path fill="lightenLess" w="21600" h="25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20">
                <a:moveTo>
                  <a:pt x="21600" y="0"/>
                </a:moveTo>
                <a:lnTo>
                  <a:pt x="21600" y="25220"/>
                </a:lnTo>
                <a:lnTo>
                  <a:pt x="20200" y="23820"/>
                </a:lnTo>
                <a:lnTo>
                  <a:pt x="20200" y="1400"/>
                </a:lnTo>
                <a:close/>
              </a:path>
              <a:path fill="darkenLess" w="21600" h="25220">
                <a:moveTo>
                  <a:pt x="21600" y="25220"/>
                </a:moveTo>
                <a:lnTo>
                  <a:pt x="0" y="25220"/>
                </a:lnTo>
                <a:lnTo>
                  <a:pt x="1400" y="23820"/>
                </a:lnTo>
                <a:lnTo>
                  <a:pt x="20200" y="23820"/>
                </a:lnTo>
                <a:close/>
              </a:path>
              <a:path fill="lighten" w="21600" h="25220">
                <a:moveTo>
                  <a:pt x="0" y="25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20"/>
                </a:lnTo>
                <a:close/>
              </a:path>
              <a:path fill="darken" w="21600" h="25220">
                <a:moveTo>
                  <a:pt x="3794" y="5603"/>
                </a:moveTo>
                <a:lnTo>
                  <a:pt x="17806" y="12610"/>
                </a:lnTo>
                <a:lnTo>
                  <a:pt x="3794" y="19616"/>
                </a:lnTo>
                <a:close/>
              </a:path>
            </a:pathLst>
          </a:custGeom>
          <a:solidFill>
            <a:srgbClr val="ffff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2" dur="indefinite" restart="never" nodeType="tmRoot">
          <p:childTnLst>
            <p:seq>
              <p:cTn id="1333" dur="indefinite" nodeType="mainSeq">
                <p:childTnLst>
                  <p:par>
                    <p:cTn id="1334" fill="hold">
                      <p:stCondLst>
                        <p:cond delay="0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40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2"/>
          <a:stretch/>
        </p:blipFill>
        <p:spPr>
          <a:xfrm>
            <a:off x="4356000" y="2060640"/>
            <a:ext cx="4500720" cy="4292640"/>
          </a:xfrm>
          <a:prstGeom prst="rect">
            <a:avLst/>
          </a:prstGeom>
          <a:ln w="0">
            <a:noFill/>
          </a:ln>
        </p:spPr>
      </p:pic>
      <p:pic>
        <p:nvPicPr>
          <p:cNvPr id="635" name="" descr=""/>
          <p:cNvPicPr/>
          <p:nvPr/>
        </p:nvPicPr>
        <p:blipFill>
          <a:blip r:embed="rId3"/>
          <a:stretch/>
        </p:blipFill>
        <p:spPr>
          <a:xfrm>
            <a:off x="1258920" y="476280"/>
            <a:ext cx="6719760" cy="1782720"/>
          </a:xfrm>
          <a:prstGeom prst="rect">
            <a:avLst/>
          </a:prstGeom>
          <a:ln w="0">
            <a:noFill/>
          </a:ln>
        </p:spPr>
      </p:pic>
      <p:sp>
        <p:nvSpPr>
          <p:cNvPr id="636" name=""/>
          <p:cNvSpPr/>
          <p:nvPr/>
        </p:nvSpPr>
        <p:spPr>
          <a:xfrm>
            <a:off x="0" y="3352680"/>
            <a:ext cx="3274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f800"/>
                </a:solidFill>
                <a:latin typeface="Arial"/>
              </a:rPr>
              <a:t>Dă clic  şi încearcă din n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>
            <a:hlinkClick r:id="rId4" action="ppaction://hlinksldjump"/>
          </p:cNvPr>
          <p:cNvSpPr/>
          <p:nvPr/>
        </p:nvSpPr>
        <p:spPr>
          <a:xfrm>
            <a:off x="3200400" y="4648320"/>
            <a:ext cx="1008000" cy="792000"/>
          </a:xfrm>
          <a:custGeom>
            <a:avLst/>
            <a:gdLst>
              <a:gd name="textAreaLeft" fmla="*/ 51120 w 1008000"/>
              <a:gd name="textAreaRight" fmla="*/ 956880 w 1008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88" h="21600">
                <a:moveTo>
                  <a:pt x="0" y="0"/>
                </a:moveTo>
                <a:lnTo>
                  <a:pt x="27488" y="0"/>
                </a:lnTo>
                <a:lnTo>
                  <a:pt x="27488" y="21600"/>
                </a:lnTo>
                <a:lnTo>
                  <a:pt x="0" y="21600"/>
                </a:lnTo>
                <a:close/>
              </a:path>
              <a:path fill="lightenLess" w="27488" h="21600">
                <a:moveTo>
                  <a:pt x="0" y="0"/>
                </a:moveTo>
                <a:lnTo>
                  <a:pt x="27488" y="0"/>
                </a:lnTo>
                <a:lnTo>
                  <a:pt x="26088" y="1400"/>
                </a:lnTo>
                <a:lnTo>
                  <a:pt x="1400" y="1400"/>
                </a:lnTo>
                <a:close/>
              </a:path>
              <a:path fill="darken" w="27488" h="21600">
                <a:moveTo>
                  <a:pt x="27488" y="0"/>
                </a:moveTo>
                <a:lnTo>
                  <a:pt x="27488" y="21600"/>
                </a:lnTo>
                <a:lnTo>
                  <a:pt x="26088" y="20200"/>
                </a:lnTo>
                <a:lnTo>
                  <a:pt x="26088" y="1400"/>
                </a:lnTo>
                <a:close/>
              </a:path>
              <a:path fill="darkenLess" w="27488" h="21600">
                <a:moveTo>
                  <a:pt x="274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8" y="20200"/>
                </a:lnTo>
                <a:close/>
              </a:path>
              <a:path fill="lighten" w="274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8" h="21600">
                <a:moveTo>
                  <a:pt x="6738" y="3794"/>
                </a:moveTo>
                <a:lnTo>
                  <a:pt x="20751" y="10800"/>
                </a:lnTo>
                <a:lnTo>
                  <a:pt x="6738" y="17806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5" dur="indefinite" restart="never" nodeType="tmRoot">
          <p:childTnLst>
            <p:seq>
              <p:cTn id="1356" dur="indefinite" nodeType="mainSeq">
                <p:childTnLst>
                  <p:par>
                    <p:cTn id="1357" fill="hold">
                      <p:stCondLst>
                        <p:cond delay="0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afterEffect" fill="hold" presetClass="entr" presetID="5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1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3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5" nodeType="afterEffect" fill="hold" presetClass="entr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7" dur="8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8" dur="8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9" dur="8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fill="hold">
                            <p:stCondLst>
                              <p:cond delay="1960"/>
                            </p:stCondLst>
                            <p:childTnLst>
                              <p:par>
                                <p:cTn id="13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>
            <a:hlinkClick r:id="rId2" action="ppaction://hlinksldjump"/>
          </p:cNvPr>
          <p:cNvSpPr/>
          <p:nvPr/>
        </p:nvSpPr>
        <p:spPr>
          <a:xfrm>
            <a:off x="3886200" y="4343400"/>
            <a:ext cx="936720" cy="792000"/>
          </a:xfrm>
          <a:custGeom>
            <a:avLst/>
            <a:gdLst>
              <a:gd name="textAreaLeft" fmla="*/ 51120 w 936720"/>
              <a:gd name="textAreaRight" fmla="*/ 885600 w 9367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5545" h="21600">
                <a:moveTo>
                  <a:pt x="0" y="0"/>
                </a:moveTo>
                <a:lnTo>
                  <a:pt x="25545" y="0"/>
                </a:lnTo>
                <a:lnTo>
                  <a:pt x="25545" y="21600"/>
                </a:lnTo>
                <a:lnTo>
                  <a:pt x="0" y="21600"/>
                </a:lnTo>
                <a:close/>
              </a:path>
              <a:path fill="lightenLess" w="25545" h="21600">
                <a:moveTo>
                  <a:pt x="0" y="0"/>
                </a:moveTo>
                <a:lnTo>
                  <a:pt x="25545" y="0"/>
                </a:lnTo>
                <a:lnTo>
                  <a:pt x="24145" y="1400"/>
                </a:lnTo>
                <a:lnTo>
                  <a:pt x="1400" y="1400"/>
                </a:lnTo>
                <a:close/>
              </a:path>
              <a:path fill="darken" w="25545" h="21600">
                <a:moveTo>
                  <a:pt x="25545" y="0"/>
                </a:moveTo>
                <a:lnTo>
                  <a:pt x="25545" y="21600"/>
                </a:lnTo>
                <a:lnTo>
                  <a:pt x="24145" y="20200"/>
                </a:lnTo>
                <a:lnTo>
                  <a:pt x="24145" y="1400"/>
                </a:lnTo>
                <a:close/>
              </a:path>
              <a:path fill="darkenLess" w="25545" h="21600">
                <a:moveTo>
                  <a:pt x="255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45" y="20200"/>
                </a:lnTo>
                <a:close/>
              </a:path>
              <a:path fill="lighten" w="255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45" h="21600">
                <a:moveTo>
                  <a:pt x="5766" y="3794"/>
                </a:moveTo>
                <a:lnTo>
                  <a:pt x="19779" y="10800"/>
                </a:lnTo>
                <a:lnTo>
                  <a:pt x="5766" y="17806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" descr=""/>
          <p:cNvPicPr/>
          <p:nvPr/>
        </p:nvPicPr>
        <p:blipFill>
          <a:blip r:embed="rId3"/>
          <a:stretch/>
        </p:blipFill>
        <p:spPr>
          <a:xfrm>
            <a:off x="5292720" y="2708280"/>
            <a:ext cx="3238560" cy="388764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 txBox="1"/>
          <p:nvPr/>
        </p:nvSpPr>
        <p:spPr>
          <a:xfrm>
            <a:off x="2771640" y="404640"/>
            <a:ext cx="39592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c521"/>
                    </a:gs>
                  </a:gsLst>
                  <a:lin ang="5400000"/>
                </a:gradFill>
                <a:latin typeface="Times New Roman"/>
              </a:rPr>
              <a:t>Oar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c521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0" y="2895480"/>
            <a:ext cx="3274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f800"/>
                </a:solidFill>
                <a:latin typeface="Arial"/>
              </a:rPr>
              <a:t>Dă clic  şi încearcă din n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3" dur="indefinite" restart="never" nodeType="tmRoot">
          <p:childTnLst>
            <p:seq>
              <p:cTn id="1374" dur="indefinite" nodeType="mainSeq">
                <p:childTnLst>
                  <p:par>
                    <p:cTn id="1375" fill="hold">
                      <p:stCondLst>
                        <p:cond delay="0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9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3" fill="hold">
                            <p:stCondLst>
                              <p:cond delay="500"/>
                            </p:stCondLst>
                            <p:childTnLst>
                              <p:par>
                                <p:cTn id="1384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5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99ff"/>
                                      </p:to>
                                    </p:animClr>
                                    <p:set>
                                      <p:cBhvr>
                                        <p:cTn id="1386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0" dur="80"/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1" dur="80"/>
                                        <p:tgtEl>
                                          <p:spTgt spid="6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2" dur="80"/>
                                        <p:tgtEl>
                                          <p:spTgt spid="6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fill="hold">
                            <p:stCondLst>
                              <p:cond delay="1960"/>
                            </p:stCondLst>
                            <p:childTnLst>
                              <p:par>
                                <p:cTn id="13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" descr=""/>
          <p:cNvPicPr/>
          <p:nvPr/>
        </p:nvPicPr>
        <p:blipFill>
          <a:blip r:embed="rId2"/>
          <a:stretch/>
        </p:blipFill>
        <p:spPr>
          <a:xfrm>
            <a:off x="5724360" y="1700280"/>
            <a:ext cx="3419640" cy="4941720"/>
          </a:xfrm>
          <a:prstGeom prst="rect">
            <a:avLst/>
          </a:prstGeom>
          <a:ln w="0">
            <a:noFill/>
          </a:ln>
        </p:spPr>
      </p:pic>
      <p:pic>
        <p:nvPicPr>
          <p:cNvPr id="645" name="" descr=""/>
          <p:cNvPicPr/>
          <p:nvPr/>
        </p:nvPicPr>
        <p:blipFill>
          <a:blip r:embed="rId3"/>
          <a:stretch/>
        </p:blipFill>
        <p:spPr>
          <a:xfrm>
            <a:off x="468360" y="333360"/>
            <a:ext cx="8242200" cy="1219320"/>
          </a:xfrm>
          <a:prstGeom prst="rect">
            <a:avLst/>
          </a:prstGeom>
          <a:ln w="0">
            <a:noFill/>
          </a:ln>
        </p:spPr>
      </p:pic>
      <p:sp>
        <p:nvSpPr>
          <p:cNvPr id="646" name=""/>
          <p:cNvSpPr/>
          <p:nvPr/>
        </p:nvSpPr>
        <p:spPr>
          <a:xfrm>
            <a:off x="0" y="2895480"/>
            <a:ext cx="3274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f800"/>
                </a:solidFill>
                <a:latin typeface="Arial"/>
              </a:rPr>
              <a:t>Dă clic  şi încearcă din n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>
            <a:hlinkClick r:id="rId4" action="ppaction://hlinksldjump"/>
          </p:cNvPr>
          <p:cNvSpPr/>
          <p:nvPr/>
        </p:nvSpPr>
        <p:spPr>
          <a:xfrm>
            <a:off x="3657600" y="4267080"/>
            <a:ext cx="1081080" cy="792360"/>
          </a:xfrm>
          <a:custGeom>
            <a:avLst/>
            <a:gdLst>
              <a:gd name="textAreaLeft" fmla="*/ 51120 w 1081080"/>
              <a:gd name="textAreaRight" fmla="*/ 1029960 w 108108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9467" h="21600">
                <a:moveTo>
                  <a:pt x="0" y="0"/>
                </a:moveTo>
                <a:lnTo>
                  <a:pt x="29467" y="0"/>
                </a:lnTo>
                <a:lnTo>
                  <a:pt x="29467" y="21600"/>
                </a:lnTo>
                <a:lnTo>
                  <a:pt x="0" y="21600"/>
                </a:lnTo>
                <a:close/>
              </a:path>
              <a:path fill="lightenLess" w="29467" h="21600">
                <a:moveTo>
                  <a:pt x="0" y="0"/>
                </a:moveTo>
                <a:lnTo>
                  <a:pt x="29467" y="0"/>
                </a:lnTo>
                <a:lnTo>
                  <a:pt x="28067" y="1400"/>
                </a:lnTo>
                <a:lnTo>
                  <a:pt x="1400" y="1400"/>
                </a:lnTo>
                <a:close/>
              </a:path>
              <a:path fill="darken" w="29467" h="21600">
                <a:moveTo>
                  <a:pt x="29467" y="0"/>
                </a:moveTo>
                <a:lnTo>
                  <a:pt x="29467" y="21600"/>
                </a:lnTo>
                <a:lnTo>
                  <a:pt x="28067" y="20200"/>
                </a:lnTo>
                <a:lnTo>
                  <a:pt x="28067" y="1400"/>
                </a:lnTo>
                <a:close/>
              </a:path>
              <a:path fill="darkenLess" w="29467" h="21600">
                <a:moveTo>
                  <a:pt x="294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67" y="20200"/>
                </a:lnTo>
                <a:close/>
              </a:path>
              <a:path fill="lighten" w="294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67" h="21600">
                <a:moveTo>
                  <a:pt x="7727" y="3794"/>
                </a:moveTo>
                <a:lnTo>
                  <a:pt x="21740" y="10800"/>
                </a:lnTo>
                <a:lnTo>
                  <a:pt x="7727" y="17806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6" dur="indefinite" restart="never" nodeType="tmRoot">
          <p:childTnLst>
            <p:seq>
              <p:cTn id="1397" dur="indefinite" nodeType="mainSeq">
                <p:childTnLst>
                  <p:par>
                    <p:cTn id="1398" fill="hold">
                      <p:stCondLst>
                        <p:cond delay="0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afterEffect" fill="hold" presetClass="entr" presetID="2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1" nodeType="afterEffect" fill="hold" presetClass="entr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3" dur="8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4" dur="8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5" dur="8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fill="hold">
                            <p:stCondLst>
                              <p:cond delay="1960"/>
                            </p:stCondLst>
                            <p:childTnLst>
                              <p:par>
                                <p:cTn id="14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Se poate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>
            <a:hlinkClick r:id="rId2" action="ppaction://hlinksldjump"/>
          </p:cNvPr>
          <p:cNvSpPr/>
          <p:nvPr/>
        </p:nvSpPr>
        <p:spPr>
          <a:xfrm>
            <a:off x="3962520" y="4419720"/>
            <a:ext cx="1081080" cy="792000"/>
          </a:xfrm>
          <a:custGeom>
            <a:avLst/>
            <a:gdLst>
              <a:gd name="textAreaLeft" fmla="*/ 51120 w 1081080"/>
              <a:gd name="textAreaRight" fmla="*/ 1029960 w 1081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9480" h="21600">
                <a:moveTo>
                  <a:pt x="0" y="0"/>
                </a:moveTo>
                <a:lnTo>
                  <a:pt x="29480" y="0"/>
                </a:lnTo>
                <a:lnTo>
                  <a:pt x="29480" y="21600"/>
                </a:lnTo>
                <a:lnTo>
                  <a:pt x="0" y="21600"/>
                </a:lnTo>
                <a:close/>
              </a:path>
              <a:path fill="lightenLess" w="29480" h="21600">
                <a:moveTo>
                  <a:pt x="0" y="0"/>
                </a:moveTo>
                <a:lnTo>
                  <a:pt x="29480" y="0"/>
                </a:lnTo>
                <a:lnTo>
                  <a:pt x="28080" y="1400"/>
                </a:lnTo>
                <a:lnTo>
                  <a:pt x="1400" y="1400"/>
                </a:lnTo>
                <a:close/>
              </a:path>
              <a:path fill="darken" w="29480" h="21600">
                <a:moveTo>
                  <a:pt x="29480" y="0"/>
                </a:moveTo>
                <a:lnTo>
                  <a:pt x="29480" y="21600"/>
                </a:lnTo>
                <a:lnTo>
                  <a:pt x="28080" y="20200"/>
                </a:lnTo>
                <a:lnTo>
                  <a:pt x="28080" y="1400"/>
                </a:lnTo>
                <a:close/>
              </a:path>
              <a:path fill="darkenLess" w="29480" h="21600">
                <a:moveTo>
                  <a:pt x="294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80" y="20200"/>
                </a:lnTo>
                <a:close/>
              </a:path>
              <a:path fill="lighten" w="294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80" h="21600">
                <a:moveTo>
                  <a:pt x="7734" y="3794"/>
                </a:moveTo>
                <a:lnTo>
                  <a:pt x="21747" y="10800"/>
                </a:lnTo>
                <a:lnTo>
                  <a:pt x="7734" y="17806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3"/>
          <a:stretch/>
        </p:blipFill>
        <p:spPr>
          <a:xfrm>
            <a:off x="5724360" y="1700280"/>
            <a:ext cx="3419640" cy="4941720"/>
          </a:xfrm>
          <a:prstGeom prst="rect">
            <a:avLst/>
          </a:prstGeom>
          <a:ln w="0">
            <a:noFill/>
          </a:ln>
        </p:spPr>
      </p:pic>
      <p:sp>
        <p:nvSpPr>
          <p:cNvPr id="651" name=""/>
          <p:cNvSpPr/>
          <p:nvPr/>
        </p:nvSpPr>
        <p:spPr>
          <a:xfrm>
            <a:off x="0" y="2895480"/>
            <a:ext cx="3274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f800"/>
                </a:solidFill>
                <a:latin typeface="Arial"/>
              </a:rPr>
              <a:t>Dă clic  şi încearcă din n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9" dur="indefinite" restart="never" nodeType="tmRoot">
          <p:childTnLst>
            <p:seq>
              <p:cTn id="1420" dur="indefinite" nodeType="mainSeq">
                <p:childTnLst>
                  <p:par>
                    <p:cTn id="1421" fill="hold">
                      <p:stCondLst>
                        <p:cond delay="0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2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2250"/>
                            </p:stCondLst>
                            <p:childTnLst>
                              <p:par>
                                <p:cTn id="14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3" dur="8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4" dur="8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5" dur="8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6" fill="hold">
                            <p:stCondLst>
                              <p:cond delay="2610"/>
                            </p:stCondLst>
                            <p:childTnLst>
                              <p:par>
                                <p:cTn id="14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9" dur="80"/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0" dur="80"/>
                                        <p:tgtEl>
                                          <p:spTgt spid="6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1" dur="80"/>
                                        <p:tgtEl>
                                          <p:spTgt spid="6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fill="hold">
                            <p:stCondLst>
                              <p:cond delay="3570"/>
                            </p:stCondLst>
                            <p:childTnLst>
                              <p:par>
                                <p:cTn id="14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" descr=""/>
          <p:cNvPicPr/>
          <p:nvPr/>
        </p:nvPicPr>
        <p:blipFill>
          <a:blip r:embed="rId2"/>
          <a:stretch/>
        </p:blipFill>
        <p:spPr>
          <a:xfrm>
            <a:off x="0" y="2565360"/>
            <a:ext cx="2843280" cy="230364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3"/>
          <a:stretch/>
        </p:blipFill>
        <p:spPr>
          <a:xfrm>
            <a:off x="250920" y="4076640"/>
            <a:ext cx="3348000" cy="2781360"/>
          </a:xfrm>
          <a:prstGeom prst="rect">
            <a:avLst/>
          </a:prstGeom>
          <a:ln w="0">
            <a:noFill/>
          </a:ln>
        </p:spPr>
      </p:pic>
      <p:pic>
        <p:nvPicPr>
          <p:cNvPr id="654" name="" descr=""/>
          <p:cNvPicPr/>
          <p:nvPr/>
        </p:nvPicPr>
        <p:blipFill>
          <a:blip r:embed="rId4"/>
          <a:stretch/>
        </p:blipFill>
        <p:spPr>
          <a:xfrm>
            <a:off x="6335640" y="907920"/>
            <a:ext cx="2808360" cy="2192400"/>
          </a:xfrm>
          <a:prstGeom prst="rect">
            <a:avLst/>
          </a:prstGeom>
          <a:ln w="0">
            <a:noFill/>
          </a:ln>
        </p:spPr>
      </p:pic>
      <p:pic>
        <p:nvPicPr>
          <p:cNvPr id="655" name="" descr=""/>
          <p:cNvPicPr/>
          <p:nvPr/>
        </p:nvPicPr>
        <p:blipFill>
          <a:blip r:embed="rId5"/>
          <a:stretch/>
        </p:blipFill>
        <p:spPr>
          <a:xfrm>
            <a:off x="6156360" y="2133720"/>
            <a:ext cx="2987640" cy="2636640"/>
          </a:xfrm>
          <a:prstGeom prst="rect">
            <a:avLst/>
          </a:prstGeom>
          <a:ln w="0">
            <a:noFill/>
          </a:ln>
        </p:spPr>
      </p:pic>
      <p:pic>
        <p:nvPicPr>
          <p:cNvPr id="656" name="" descr=""/>
          <p:cNvPicPr/>
          <p:nvPr/>
        </p:nvPicPr>
        <p:blipFill>
          <a:blip r:embed="rId6"/>
          <a:stretch/>
        </p:blipFill>
        <p:spPr>
          <a:xfrm>
            <a:off x="6156360" y="4076640"/>
            <a:ext cx="2295360" cy="2781360"/>
          </a:xfrm>
          <a:prstGeom prst="rect">
            <a:avLst/>
          </a:prstGeom>
          <a:ln w="0">
            <a:noFill/>
          </a:ln>
        </p:spPr>
      </p:pic>
      <p:pic>
        <p:nvPicPr>
          <p:cNvPr id="657" name="" descr=""/>
          <p:cNvPicPr/>
          <p:nvPr/>
        </p:nvPicPr>
        <p:blipFill>
          <a:blip r:embed="rId7"/>
          <a:stretch/>
        </p:blipFill>
        <p:spPr>
          <a:xfrm>
            <a:off x="539640" y="1125360"/>
            <a:ext cx="2700360" cy="1954440"/>
          </a:xfrm>
          <a:prstGeom prst="rect">
            <a:avLst/>
          </a:prstGeom>
          <a:ln w="0">
            <a:noFill/>
          </a:ln>
        </p:spPr>
      </p:pic>
      <p:sp>
        <p:nvSpPr>
          <p:cNvPr id="6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11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539640" y="119700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flipV="1" rot="30600">
            <a:off x="469800" y="1555920"/>
            <a:ext cx="20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11280" y="5013360"/>
            <a:ext cx="35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68360" y="1773360"/>
            <a:ext cx="21589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33cc"/>
                </a:solidFill>
                <a:latin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58920" y="3284640"/>
            <a:ext cx="21589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cc3300"/>
                </a:solidFill>
                <a:latin typeface="Arial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372360" y="3213000"/>
            <a:ext cx="2158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33cc"/>
                </a:solidFill>
                <a:latin typeface="Arial"/>
              </a:rPr>
              <a:t>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635280" y="2349360"/>
            <a:ext cx="2089080" cy="1871640"/>
          </a:xfrm>
          <a:prstGeom prst="wedgeRoundRectCallout">
            <a:avLst>
              <a:gd name="adj1" fmla="val 11398"/>
              <a:gd name="adj2" fmla="val 65013"/>
              <a:gd name="adj3" fmla="val 16667"/>
            </a:avLst>
          </a:prstGeom>
          <a:solidFill>
            <a:srgbClr val="ccffff">
              <a:alpha val="27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cc"/>
                </a:solidFill>
                <a:latin typeface="Comic Sans MS"/>
              </a:rPr>
              <a:t>Afl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cc"/>
                </a:solidFill>
                <a:latin typeface="Comic Sans MS"/>
              </a:rPr>
              <a:t>rapi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45720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0000cc"/>
                </a:solidFill>
                <a:latin typeface="Comic Sans MS"/>
              </a:rPr>
              <a:t>33 :</a:t>
            </a:r>
            <a:r>
              <a:rPr b="1" lang="en-GB" sz="54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1" lang="ro-RO" sz="5400" spc="-1" strike="noStrike">
                <a:solidFill>
                  <a:srgbClr val="0000cc"/>
                </a:solidFill>
                <a:latin typeface="Comic Sans MS"/>
              </a:rPr>
              <a:t>3 </a:t>
            </a:r>
            <a:r>
              <a:rPr b="1" lang="en-US" sz="5400" spc="-1" strike="noStrike">
                <a:solidFill>
                  <a:srgbClr val="0000cc"/>
                </a:solidFill>
                <a:latin typeface="Comic Sans MS"/>
              </a:rPr>
              <a:t>=</a:t>
            </a:r>
            <a:r>
              <a:rPr b="1" lang="ro-RO" sz="5400" spc="-1" strike="noStrike">
                <a:solidFill>
                  <a:srgbClr val="0000cc"/>
                </a:solidFill>
                <a:latin typeface="Comic Sans MS"/>
              </a:rPr>
              <a:t>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>
            <a:hlinkClick r:id="rId8" action="ppaction://hlinksldjump"/>
          </p:cNvPr>
          <p:cNvSpPr/>
          <p:nvPr/>
        </p:nvSpPr>
        <p:spPr>
          <a:xfrm>
            <a:off x="395280" y="1700280"/>
            <a:ext cx="2448000" cy="936720"/>
          </a:xfrm>
          <a:custGeom>
            <a:avLst/>
            <a:gdLst>
              <a:gd name="textAreaLeft" fmla="*/ 60480 w 2448000"/>
              <a:gd name="textAreaRight" fmla="*/ 2387520 w 244800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56435" h="21600">
                <a:moveTo>
                  <a:pt x="0" y="0"/>
                </a:moveTo>
                <a:lnTo>
                  <a:pt x="56435" y="0"/>
                </a:lnTo>
                <a:lnTo>
                  <a:pt x="56435" y="21600"/>
                </a:lnTo>
                <a:lnTo>
                  <a:pt x="0" y="21600"/>
                </a:lnTo>
                <a:close/>
              </a:path>
              <a:path fill="lightenLess" w="56435" h="21600">
                <a:moveTo>
                  <a:pt x="0" y="0"/>
                </a:moveTo>
                <a:lnTo>
                  <a:pt x="56435" y="0"/>
                </a:lnTo>
                <a:lnTo>
                  <a:pt x="55035" y="1400"/>
                </a:lnTo>
                <a:lnTo>
                  <a:pt x="1400" y="1400"/>
                </a:lnTo>
                <a:close/>
              </a:path>
              <a:path fill="darken" w="56435" h="21600">
                <a:moveTo>
                  <a:pt x="56435" y="0"/>
                </a:moveTo>
                <a:lnTo>
                  <a:pt x="56435" y="21600"/>
                </a:lnTo>
                <a:lnTo>
                  <a:pt x="55035" y="20200"/>
                </a:lnTo>
                <a:lnTo>
                  <a:pt x="55035" y="1400"/>
                </a:lnTo>
                <a:close/>
              </a:path>
              <a:path fill="darkenLess" w="56435" h="21600">
                <a:moveTo>
                  <a:pt x="564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035" y="20200"/>
                </a:lnTo>
                <a:close/>
              </a:path>
              <a:path fill="lighten" w="564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435" h="21600">
                <a:moveTo>
                  <a:pt x="21211" y="3794"/>
                </a:moveTo>
                <a:lnTo>
                  <a:pt x="35224" y="10800"/>
                </a:lnTo>
                <a:lnTo>
                  <a:pt x="21211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>
            <a:hlinkClick r:id="rId9" action="ppaction://hlinksldjump"/>
          </p:cNvPr>
          <p:cNvSpPr/>
          <p:nvPr/>
        </p:nvSpPr>
        <p:spPr>
          <a:xfrm>
            <a:off x="6443640" y="3068640"/>
            <a:ext cx="2232000" cy="1152360"/>
          </a:xfrm>
          <a:custGeom>
            <a:avLst/>
            <a:gdLst>
              <a:gd name="textAreaLeft" fmla="*/ 74520 w 2232000"/>
              <a:gd name="textAreaRight" fmla="*/ 2157480 w 223200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41831" h="21600">
                <a:moveTo>
                  <a:pt x="0" y="0"/>
                </a:moveTo>
                <a:lnTo>
                  <a:pt x="41831" y="0"/>
                </a:lnTo>
                <a:lnTo>
                  <a:pt x="41831" y="21600"/>
                </a:lnTo>
                <a:lnTo>
                  <a:pt x="0" y="21600"/>
                </a:lnTo>
                <a:close/>
              </a:path>
              <a:path fill="lightenLess" w="41831" h="21600">
                <a:moveTo>
                  <a:pt x="0" y="0"/>
                </a:moveTo>
                <a:lnTo>
                  <a:pt x="41831" y="0"/>
                </a:lnTo>
                <a:lnTo>
                  <a:pt x="40431" y="1400"/>
                </a:lnTo>
                <a:lnTo>
                  <a:pt x="1400" y="1400"/>
                </a:lnTo>
                <a:close/>
              </a:path>
              <a:path fill="darken" w="41831" h="21600">
                <a:moveTo>
                  <a:pt x="41831" y="0"/>
                </a:moveTo>
                <a:lnTo>
                  <a:pt x="41831" y="21600"/>
                </a:lnTo>
                <a:lnTo>
                  <a:pt x="40431" y="20200"/>
                </a:lnTo>
                <a:lnTo>
                  <a:pt x="40431" y="1400"/>
                </a:lnTo>
                <a:close/>
              </a:path>
              <a:path fill="darkenLess" w="41831" h="21600">
                <a:moveTo>
                  <a:pt x="418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31" y="20200"/>
                </a:lnTo>
                <a:close/>
              </a:path>
              <a:path fill="lighten" w="418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831" h="21600">
                <a:moveTo>
                  <a:pt x="13909" y="3794"/>
                </a:moveTo>
                <a:lnTo>
                  <a:pt x="27922" y="10800"/>
                </a:lnTo>
                <a:lnTo>
                  <a:pt x="13909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297480" y="1700280"/>
            <a:ext cx="21592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33cc"/>
                </a:solidFill>
                <a:latin typeface="Comic Sans MS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539640" y="5229360"/>
            <a:ext cx="21592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Comic Sans MS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297480" y="4869000"/>
            <a:ext cx="21592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33cc"/>
                </a:solidFill>
                <a:latin typeface="Comic Sans MS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>
            <a:hlinkClick r:id="rId10" action="ppaction://hlinksldjump"/>
          </p:cNvPr>
          <p:cNvSpPr/>
          <p:nvPr/>
        </p:nvSpPr>
        <p:spPr>
          <a:xfrm>
            <a:off x="6443640" y="1557360"/>
            <a:ext cx="2087640" cy="1079640"/>
          </a:xfrm>
          <a:custGeom>
            <a:avLst/>
            <a:gdLst>
              <a:gd name="textAreaLeft" fmla="*/ 69840 w 2087640"/>
              <a:gd name="textAreaRight" fmla="*/ 2017800 w 2087640"/>
              <a:gd name="textAreaTop" fmla="*/ 69840 h 1079640"/>
              <a:gd name="textAreaBottom" fmla="*/ 1009800 h 1079640"/>
            </a:gdLst>
            <a:ahLst/>
            <a:rect l="textAreaLeft" t="textAreaTop" r="textAreaRight" b="textAreaBottom"/>
            <a:pathLst>
              <a:path w="41760" h="21600">
                <a:moveTo>
                  <a:pt x="0" y="0"/>
                </a:moveTo>
                <a:lnTo>
                  <a:pt x="41760" y="0"/>
                </a:lnTo>
                <a:lnTo>
                  <a:pt x="41760" y="21600"/>
                </a:lnTo>
                <a:lnTo>
                  <a:pt x="0" y="21600"/>
                </a:lnTo>
                <a:close/>
              </a:path>
              <a:path fill="lightenLess" w="41760" h="21600">
                <a:moveTo>
                  <a:pt x="0" y="0"/>
                </a:moveTo>
                <a:lnTo>
                  <a:pt x="41760" y="0"/>
                </a:lnTo>
                <a:lnTo>
                  <a:pt x="40360" y="1400"/>
                </a:lnTo>
                <a:lnTo>
                  <a:pt x="1400" y="1400"/>
                </a:lnTo>
                <a:close/>
              </a:path>
              <a:path fill="darken" w="41760" h="21600">
                <a:moveTo>
                  <a:pt x="41760" y="0"/>
                </a:moveTo>
                <a:lnTo>
                  <a:pt x="41760" y="21600"/>
                </a:lnTo>
                <a:lnTo>
                  <a:pt x="40360" y="20200"/>
                </a:lnTo>
                <a:lnTo>
                  <a:pt x="40360" y="1400"/>
                </a:lnTo>
                <a:close/>
              </a:path>
              <a:path fill="darkenLess" w="41760" h="21600">
                <a:moveTo>
                  <a:pt x="417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360" y="20200"/>
                </a:lnTo>
                <a:close/>
              </a:path>
              <a:path fill="lighten" w="417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760" h="21600">
                <a:moveTo>
                  <a:pt x="13874" y="3794"/>
                </a:moveTo>
                <a:lnTo>
                  <a:pt x="27886" y="10800"/>
                </a:lnTo>
                <a:lnTo>
                  <a:pt x="1387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>
            <a:hlinkClick r:id="rId11" action="ppaction://hlinksldjump"/>
          </p:cNvPr>
          <p:cNvSpPr/>
          <p:nvPr/>
        </p:nvSpPr>
        <p:spPr>
          <a:xfrm>
            <a:off x="826920" y="5013360"/>
            <a:ext cx="2160720" cy="1225440"/>
          </a:xfrm>
          <a:custGeom>
            <a:avLst/>
            <a:gdLst>
              <a:gd name="textAreaLeft" fmla="*/ 79200 w 2160720"/>
              <a:gd name="textAreaRight" fmla="*/ 2081520 w 2160720"/>
              <a:gd name="textAreaTop" fmla="*/ 79200 h 1225440"/>
              <a:gd name="textAreaBottom" fmla="*/ 1146240 h 1225440"/>
            </a:gdLst>
            <a:ahLst/>
            <a:rect l="textAreaLeft" t="textAreaTop" r="textAreaRight" b="textAreaBottom"/>
            <a:pathLst>
              <a:path w="38081" h="21600">
                <a:moveTo>
                  <a:pt x="0" y="0"/>
                </a:moveTo>
                <a:lnTo>
                  <a:pt x="38081" y="0"/>
                </a:lnTo>
                <a:lnTo>
                  <a:pt x="38081" y="21600"/>
                </a:lnTo>
                <a:lnTo>
                  <a:pt x="0" y="21600"/>
                </a:lnTo>
                <a:close/>
              </a:path>
              <a:path fill="lightenLess" w="38081" h="21600">
                <a:moveTo>
                  <a:pt x="0" y="0"/>
                </a:moveTo>
                <a:lnTo>
                  <a:pt x="38081" y="0"/>
                </a:lnTo>
                <a:lnTo>
                  <a:pt x="36681" y="1400"/>
                </a:lnTo>
                <a:lnTo>
                  <a:pt x="1400" y="1400"/>
                </a:lnTo>
                <a:close/>
              </a:path>
              <a:path fill="darken" w="38081" h="21600">
                <a:moveTo>
                  <a:pt x="38081" y="0"/>
                </a:moveTo>
                <a:lnTo>
                  <a:pt x="38081" y="21600"/>
                </a:lnTo>
                <a:lnTo>
                  <a:pt x="36681" y="20200"/>
                </a:lnTo>
                <a:lnTo>
                  <a:pt x="36681" y="1400"/>
                </a:lnTo>
                <a:close/>
              </a:path>
              <a:path fill="darkenLess" w="38081" h="21600">
                <a:moveTo>
                  <a:pt x="380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681" y="20200"/>
                </a:lnTo>
                <a:close/>
              </a:path>
              <a:path fill="lighten" w="380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081" h="21600">
                <a:moveTo>
                  <a:pt x="12034" y="3794"/>
                </a:moveTo>
                <a:lnTo>
                  <a:pt x="26047" y="10800"/>
                </a:lnTo>
                <a:lnTo>
                  <a:pt x="1203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>
            <a:hlinkClick r:id="rId12" action="ppaction://hlinksldjump"/>
          </p:cNvPr>
          <p:cNvSpPr/>
          <p:nvPr/>
        </p:nvSpPr>
        <p:spPr>
          <a:xfrm>
            <a:off x="6516720" y="4653000"/>
            <a:ext cx="2230560" cy="1152360"/>
          </a:xfrm>
          <a:custGeom>
            <a:avLst/>
            <a:gdLst>
              <a:gd name="textAreaLeft" fmla="*/ 74520 w 2230560"/>
              <a:gd name="textAreaRight" fmla="*/ 2156040 w 223056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41804" h="21600">
                <a:moveTo>
                  <a:pt x="0" y="0"/>
                </a:moveTo>
                <a:lnTo>
                  <a:pt x="41804" y="0"/>
                </a:lnTo>
                <a:lnTo>
                  <a:pt x="41804" y="21600"/>
                </a:lnTo>
                <a:lnTo>
                  <a:pt x="0" y="21600"/>
                </a:lnTo>
                <a:close/>
              </a:path>
              <a:path fill="lightenLess" w="41804" h="21600">
                <a:moveTo>
                  <a:pt x="0" y="0"/>
                </a:moveTo>
                <a:lnTo>
                  <a:pt x="41804" y="0"/>
                </a:lnTo>
                <a:lnTo>
                  <a:pt x="40404" y="1400"/>
                </a:lnTo>
                <a:lnTo>
                  <a:pt x="1400" y="1400"/>
                </a:lnTo>
                <a:close/>
              </a:path>
              <a:path fill="darken" w="41804" h="21600">
                <a:moveTo>
                  <a:pt x="41804" y="0"/>
                </a:moveTo>
                <a:lnTo>
                  <a:pt x="41804" y="21600"/>
                </a:lnTo>
                <a:lnTo>
                  <a:pt x="40404" y="20200"/>
                </a:lnTo>
                <a:lnTo>
                  <a:pt x="40404" y="1400"/>
                </a:lnTo>
                <a:close/>
              </a:path>
              <a:path fill="darkenLess" w="41804" h="21600">
                <a:moveTo>
                  <a:pt x="418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04" y="20200"/>
                </a:lnTo>
                <a:close/>
              </a:path>
              <a:path fill="lighten" w="418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804" h="21600">
                <a:moveTo>
                  <a:pt x="13895" y="3794"/>
                </a:moveTo>
                <a:lnTo>
                  <a:pt x="27908" y="10800"/>
                </a:lnTo>
                <a:lnTo>
                  <a:pt x="13895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" descr=""/>
          <p:cNvPicPr/>
          <p:nvPr/>
        </p:nvPicPr>
        <p:blipFill>
          <a:blip r:embed="rId13"/>
          <a:stretch/>
        </p:blipFill>
        <p:spPr>
          <a:xfrm>
            <a:off x="3276720" y="4076640"/>
            <a:ext cx="2377800" cy="2781360"/>
          </a:xfrm>
          <a:prstGeom prst="rect">
            <a:avLst/>
          </a:prstGeom>
          <a:ln w="0">
            <a:noFill/>
          </a:ln>
        </p:spPr>
      </p:pic>
      <p:sp>
        <p:nvSpPr>
          <p:cNvPr id="678" name="">
            <a:hlinkClick r:id="rId14" action="ppaction://hlinksldjump"/>
          </p:cNvPr>
          <p:cNvSpPr/>
          <p:nvPr/>
        </p:nvSpPr>
        <p:spPr>
          <a:xfrm>
            <a:off x="468360" y="1557360"/>
            <a:ext cx="2448000" cy="1440000"/>
          </a:xfrm>
          <a:custGeom>
            <a:avLst/>
            <a:gdLst>
              <a:gd name="textAreaLeft" fmla="*/ 93240 w 2448000"/>
              <a:gd name="textAreaRight" fmla="*/ 2354760 w 2448000"/>
              <a:gd name="textAreaTop" fmla="*/ 93240 h 1440000"/>
              <a:gd name="textAreaBottom" fmla="*/ 1346760 h 1440000"/>
            </a:gdLst>
            <a:ahLst/>
            <a:rect l="textAreaLeft" t="textAreaTop" r="textAreaRight" b="textAreaBottom"/>
            <a:pathLst>
              <a:path w="36716" h="21600">
                <a:moveTo>
                  <a:pt x="0" y="0"/>
                </a:moveTo>
                <a:lnTo>
                  <a:pt x="36716" y="0"/>
                </a:lnTo>
                <a:lnTo>
                  <a:pt x="36716" y="21600"/>
                </a:lnTo>
                <a:lnTo>
                  <a:pt x="0" y="21600"/>
                </a:lnTo>
                <a:close/>
              </a:path>
              <a:path fill="lightenLess" w="36716" h="21600">
                <a:moveTo>
                  <a:pt x="0" y="0"/>
                </a:moveTo>
                <a:lnTo>
                  <a:pt x="36716" y="0"/>
                </a:lnTo>
                <a:lnTo>
                  <a:pt x="35316" y="1400"/>
                </a:lnTo>
                <a:lnTo>
                  <a:pt x="1400" y="1400"/>
                </a:lnTo>
                <a:close/>
              </a:path>
              <a:path fill="darken" w="36716" h="21600">
                <a:moveTo>
                  <a:pt x="36716" y="0"/>
                </a:moveTo>
                <a:lnTo>
                  <a:pt x="36716" y="21600"/>
                </a:lnTo>
                <a:lnTo>
                  <a:pt x="35316" y="20200"/>
                </a:lnTo>
                <a:lnTo>
                  <a:pt x="35316" y="1400"/>
                </a:lnTo>
                <a:close/>
              </a:path>
              <a:path fill="darkenLess" w="36716" h="21600">
                <a:moveTo>
                  <a:pt x="367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16" y="20200"/>
                </a:lnTo>
                <a:close/>
              </a:path>
              <a:path fill="lighten" w="367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16" h="21600">
                <a:moveTo>
                  <a:pt x="11352" y="3794"/>
                </a:moveTo>
                <a:lnTo>
                  <a:pt x="25365" y="10800"/>
                </a:lnTo>
                <a:lnTo>
                  <a:pt x="1135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>
            <a:hlinkClick r:id="rId15" action="ppaction://hlinksldjump"/>
          </p:cNvPr>
          <p:cNvSpPr/>
          <p:nvPr/>
        </p:nvSpPr>
        <p:spPr>
          <a:xfrm>
            <a:off x="468360" y="3284640"/>
            <a:ext cx="2448000" cy="936360"/>
          </a:xfrm>
          <a:custGeom>
            <a:avLst/>
            <a:gdLst>
              <a:gd name="textAreaLeft" fmla="*/ 60480 w 2448000"/>
              <a:gd name="textAreaRight" fmla="*/ 2387520 w 2448000"/>
              <a:gd name="textAreaTop" fmla="*/ 60480 h 936360"/>
              <a:gd name="textAreaBottom" fmla="*/ 875880 h 936360"/>
            </a:gdLst>
            <a:ahLst/>
            <a:rect l="textAreaLeft" t="textAreaTop" r="textAreaRight" b="textAreaBottom"/>
            <a:pathLst>
              <a:path w="56457" h="21600">
                <a:moveTo>
                  <a:pt x="0" y="0"/>
                </a:moveTo>
                <a:lnTo>
                  <a:pt x="56457" y="0"/>
                </a:lnTo>
                <a:lnTo>
                  <a:pt x="56457" y="21600"/>
                </a:lnTo>
                <a:lnTo>
                  <a:pt x="0" y="21600"/>
                </a:lnTo>
                <a:close/>
              </a:path>
              <a:path fill="lightenLess" w="56457" h="21600">
                <a:moveTo>
                  <a:pt x="0" y="0"/>
                </a:moveTo>
                <a:lnTo>
                  <a:pt x="56457" y="0"/>
                </a:lnTo>
                <a:lnTo>
                  <a:pt x="55057" y="1400"/>
                </a:lnTo>
                <a:lnTo>
                  <a:pt x="1400" y="1400"/>
                </a:lnTo>
                <a:close/>
              </a:path>
              <a:path fill="darken" w="56457" h="21600">
                <a:moveTo>
                  <a:pt x="56457" y="0"/>
                </a:moveTo>
                <a:lnTo>
                  <a:pt x="56457" y="21600"/>
                </a:lnTo>
                <a:lnTo>
                  <a:pt x="55057" y="20200"/>
                </a:lnTo>
                <a:lnTo>
                  <a:pt x="55057" y="1400"/>
                </a:lnTo>
                <a:close/>
              </a:path>
              <a:path fill="darkenLess" w="56457" h="21600">
                <a:moveTo>
                  <a:pt x="564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057" y="20200"/>
                </a:lnTo>
                <a:close/>
              </a:path>
              <a:path fill="lighten" w="564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457" h="21600">
                <a:moveTo>
                  <a:pt x="21222" y="3794"/>
                </a:moveTo>
                <a:lnTo>
                  <a:pt x="35235" y="10800"/>
                </a:lnTo>
                <a:lnTo>
                  <a:pt x="2122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5" dur="indefinite" restart="never" nodeType="tmRoot">
          <p:childTnLst>
            <p:seq>
              <p:cTn id="1446" dur="indefinite" nodeType="mainSeq">
                <p:childTnLst>
                  <p:par>
                    <p:cTn id="1447" fill="hold">
                      <p:stCondLst>
                        <p:cond delay="0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68360" y="40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7200" spc="-1" strike="noStrike">
                <a:solidFill>
                  <a:srgbClr val="ffff00"/>
                </a:solidFill>
                <a:latin typeface="Comic Sans MS"/>
              </a:rPr>
              <a:t>Foarte bine</a:t>
            </a:r>
            <a:r>
              <a:rPr b="1" lang="en-GB" sz="7200" spc="-1" strike="noStrike">
                <a:solidFill>
                  <a:srgbClr val="ffff00"/>
                </a:solidFill>
                <a:latin typeface="Comic Sans MS"/>
              </a:rPr>
              <a:t>!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79280" y="1628640"/>
            <a:ext cx="800280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omic Sans MS"/>
              </a:rPr>
              <a:t>         </a:t>
            </a:r>
            <a:r>
              <a:rPr b="1" lang="ro-RO" sz="6000" spc="-1" strike="noStrike">
                <a:solidFill>
                  <a:srgbClr val="ffff00"/>
                </a:solidFill>
                <a:latin typeface="Comic Sans MS"/>
              </a:rPr>
              <a:t>Te descurci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0" y="2708280"/>
            <a:ext cx="5041800" cy="20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Te aşteaptă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o nouă aventură!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684" name="">
            <a:hlinkClick r:id="rId2" action="ppaction://hlinksldjump"/>
          </p:cNvPr>
          <p:cNvSpPr/>
          <p:nvPr/>
        </p:nvSpPr>
        <p:spPr>
          <a:xfrm>
            <a:off x="1979640" y="5516640"/>
            <a:ext cx="1152360" cy="792000"/>
          </a:xfrm>
          <a:custGeom>
            <a:avLst/>
            <a:gdLst>
              <a:gd name="textAreaLeft" fmla="*/ 51120 w 1152360"/>
              <a:gd name="textAreaRight" fmla="*/ 1101240 w 1152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31424" h="21600">
                <a:moveTo>
                  <a:pt x="0" y="0"/>
                </a:moveTo>
                <a:lnTo>
                  <a:pt x="31424" y="0"/>
                </a:lnTo>
                <a:lnTo>
                  <a:pt x="31424" y="21600"/>
                </a:lnTo>
                <a:lnTo>
                  <a:pt x="0" y="21600"/>
                </a:lnTo>
                <a:close/>
              </a:path>
              <a:path fill="lightenLess" w="31424" h="21600">
                <a:moveTo>
                  <a:pt x="0" y="0"/>
                </a:moveTo>
                <a:lnTo>
                  <a:pt x="31424" y="0"/>
                </a:lnTo>
                <a:lnTo>
                  <a:pt x="30024" y="1400"/>
                </a:lnTo>
                <a:lnTo>
                  <a:pt x="1400" y="1400"/>
                </a:lnTo>
                <a:close/>
              </a:path>
              <a:path fill="darken" w="31424" h="21600">
                <a:moveTo>
                  <a:pt x="31424" y="0"/>
                </a:moveTo>
                <a:lnTo>
                  <a:pt x="31424" y="21600"/>
                </a:lnTo>
                <a:lnTo>
                  <a:pt x="30024" y="20200"/>
                </a:lnTo>
                <a:lnTo>
                  <a:pt x="30024" y="1400"/>
                </a:lnTo>
                <a:close/>
              </a:path>
              <a:path fill="darkenLess" w="31424" h="21600">
                <a:moveTo>
                  <a:pt x="31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4" y="20200"/>
                </a:lnTo>
                <a:close/>
              </a:path>
              <a:path fill="lighten" w="31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424" h="21600">
                <a:moveTo>
                  <a:pt x="8705" y="3794"/>
                </a:moveTo>
                <a:lnTo>
                  <a:pt x="22718" y="10800"/>
                </a:lnTo>
                <a:lnTo>
                  <a:pt x="8705" y="17806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" descr=""/>
          <p:cNvPicPr/>
          <p:nvPr/>
        </p:nvPicPr>
        <p:blipFill>
          <a:blip r:embed="rId3"/>
          <a:stretch/>
        </p:blipFill>
        <p:spPr>
          <a:xfrm>
            <a:off x="6781680" y="4067280"/>
            <a:ext cx="2156040" cy="279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2" dur="indefinite" restart="never" nodeType="tmRoot">
          <p:childTnLst>
            <p:seq>
              <p:cTn id="1463" dur="indefinite" nodeType="mainSeq">
                <p:childTnLst>
                  <p:par>
                    <p:cTn id="1464" fill="hold">
                      <p:stCondLst>
                        <p:cond delay="0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9" dur="8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0" dur="8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1" dur="8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2" fill="hold">
                            <p:stCondLst>
                              <p:cond delay="980"/>
                            </p:stCondLst>
                            <p:childTnLst>
                              <p:par>
                                <p:cTn id="148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5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6" dur="2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2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2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9" fill="hold">
                            <p:stCondLst>
                              <p:cond delay="2980"/>
                            </p:stCondLst>
                            <p:childTnLst>
                              <p:par>
                                <p:cTn id="14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2"/>
          <a:stretch/>
        </p:blipFill>
        <p:spPr>
          <a:xfrm>
            <a:off x="5827680" y="2133720"/>
            <a:ext cx="2968560" cy="4508280"/>
          </a:xfrm>
          <a:prstGeom prst="rect">
            <a:avLst/>
          </a:prstGeom>
          <a:ln w="0">
            <a:noFill/>
          </a:ln>
        </p:spPr>
      </p:pic>
      <p:sp>
        <p:nvSpPr>
          <p:cNvPr id="691" name=""/>
          <p:cNvSpPr txBox="1"/>
          <p:nvPr/>
        </p:nvSpPr>
        <p:spPr>
          <a:xfrm>
            <a:off x="1619280" y="189000"/>
            <a:ext cx="62182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99"/>
                    </a:gs>
                    <a:gs pos="100000">
                      <a:srgbClr val="3399ff"/>
                    </a:gs>
                  </a:gsLst>
                  <a:lin ang="5400000"/>
                </a:gradFill>
                <a:latin typeface="Times New Roman"/>
              </a:rPr>
              <a:t>Încerc să am răbdare cu tine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99"/>
                  </a:gs>
                  <a:gs pos="100000">
                    <a:srgbClr val="3399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57200" y="2971800"/>
            <a:ext cx="3274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f800"/>
                </a:solidFill>
                <a:latin typeface="Arial"/>
              </a:rPr>
              <a:t>Dă clic  şi încearcă din n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>
            <a:hlinkClick r:id="rId3" action="ppaction://hlinksldjump"/>
          </p:cNvPr>
          <p:cNvSpPr/>
          <p:nvPr/>
        </p:nvSpPr>
        <p:spPr>
          <a:xfrm>
            <a:off x="4114800" y="3962520"/>
            <a:ext cx="1152360" cy="792000"/>
          </a:xfrm>
          <a:custGeom>
            <a:avLst/>
            <a:gdLst>
              <a:gd name="textAreaLeft" fmla="*/ 51120 w 1152360"/>
              <a:gd name="textAreaRight" fmla="*/ 1101240 w 1152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31424" h="21600">
                <a:moveTo>
                  <a:pt x="0" y="0"/>
                </a:moveTo>
                <a:lnTo>
                  <a:pt x="31424" y="0"/>
                </a:lnTo>
                <a:lnTo>
                  <a:pt x="31424" y="21600"/>
                </a:lnTo>
                <a:lnTo>
                  <a:pt x="0" y="21600"/>
                </a:lnTo>
                <a:close/>
              </a:path>
              <a:path fill="lightenLess" w="31424" h="21600">
                <a:moveTo>
                  <a:pt x="0" y="0"/>
                </a:moveTo>
                <a:lnTo>
                  <a:pt x="31424" y="0"/>
                </a:lnTo>
                <a:lnTo>
                  <a:pt x="30024" y="1400"/>
                </a:lnTo>
                <a:lnTo>
                  <a:pt x="1400" y="1400"/>
                </a:lnTo>
                <a:close/>
              </a:path>
              <a:path fill="darken" w="31424" h="21600">
                <a:moveTo>
                  <a:pt x="31424" y="0"/>
                </a:moveTo>
                <a:lnTo>
                  <a:pt x="31424" y="21600"/>
                </a:lnTo>
                <a:lnTo>
                  <a:pt x="30024" y="20200"/>
                </a:lnTo>
                <a:lnTo>
                  <a:pt x="30024" y="1400"/>
                </a:lnTo>
                <a:close/>
              </a:path>
              <a:path fill="darkenLess" w="31424" h="21600">
                <a:moveTo>
                  <a:pt x="31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4" y="20200"/>
                </a:lnTo>
                <a:close/>
              </a:path>
              <a:path fill="lighten" w="31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424" h="21600">
                <a:moveTo>
                  <a:pt x="8705" y="3794"/>
                </a:moveTo>
                <a:lnTo>
                  <a:pt x="22718" y="10800"/>
                </a:lnTo>
                <a:lnTo>
                  <a:pt x="8705" y="17806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2" dur="indefinite" restart="never" nodeType="tmRoot">
          <p:childTnLst>
            <p:seq>
              <p:cTn id="1493" dur="indefinite" nodeType="mainSeq">
                <p:childTnLst>
                  <p:par>
                    <p:cTn id="1494" fill="hold">
                      <p:stCondLst>
                        <p:cond delay="0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00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4" dur="80"/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5" dur="80"/>
                                        <p:tgtEl>
                                          <p:spTgt spid="6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6" dur="80"/>
                                        <p:tgtEl>
                                          <p:spTgt spid="6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7" fill="hold">
                            <p:stCondLst>
                              <p:cond delay="1960"/>
                            </p:stCondLst>
                            <p:childTnLst>
                              <p:par>
                                <p:cTn id="15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Fii mai atent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>
            <a:hlinkClick r:id="rId2" action="ppaction://hlinksldjump"/>
          </p:cNvPr>
          <p:cNvSpPr/>
          <p:nvPr/>
        </p:nvSpPr>
        <p:spPr>
          <a:xfrm>
            <a:off x="4356000" y="3429000"/>
            <a:ext cx="1081080" cy="792000"/>
          </a:xfrm>
          <a:custGeom>
            <a:avLst/>
            <a:gdLst>
              <a:gd name="textAreaLeft" fmla="*/ 51120 w 1081080"/>
              <a:gd name="textAreaRight" fmla="*/ 1029960 w 1081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9480" h="21600">
                <a:moveTo>
                  <a:pt x="0" y="0"/>
                </a:moveTo>
                <a:lnTo>
                  <a:pt x="29480" y="0"/>
                </a:lnTo>
                <a:lnTo>
                  <a:pt x="29480" y="21600"/>
                </a:lnTo>
                <a:lnTo>
                  <a:pt x="0" y="21600"/>
                </a:lnTo>
                <a:close/>
              </a:path>
              <a:path fill="lightenLess" w="29480" h="21600">
                <a:moveTo>
                  <a:pt x="0" y="0"/>
                </a:moveTo>
                <a:lnTo>
                  <a:pt x="29480" y="0"/>
                </a:lnTo>
                <a:lnTo>
                  <a:pt x="28080" y="1400"/>
                </a:lnTo>
                <a:lnTo>
                  <a:pt x="1400" y="1400"/>
                </a:lnTo>
                <a:close/>
              </a:path>
              <a:path fill="darken" w="29480" h="21600">
                <a:moveTo>
                  <a:pt x="29480" y="0"/>
                </a:moveTo>
                <a:lnTo>
                  <a:pt x="29480" y="21600"/>
                </a:lnTo>
                <a:lnTo>
                  <a:pt x="28080" y="20200"/>
                </a:lnTo>
                <a:lnTo>
                  <a:pt x="28080" y="1400"/>
                </a:lnTo>
                <a:close/>
              </a:path>
              <a:path fill="darkenLess" w="29480" h="21600">
                <a:moveTo>
                  <a:pt x="294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80" y="20200"/>
                </a:lnTo>
                <a:close/>
              </a:path>
              <a:path fill="lighten" w="294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80" h="21600">
                <a:moveTo>
                  <a:pt x="7734" y="3794"/>
                </a:moveTo>
                <a:lnTo>
                  <a:pt x="21747" y="10800"/>
                </a:lnTo>
                <a:lnTo>
                  <a:pt x="7734" y="17806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" descr=""/>
          <p:cNvPicPr/>
          <p:nvPr/>
        </p:nvPicPr>
        <p:blipFill>
          <a:blip r:embed="rId3"/>
          <a:stretch/>
        </p:blipFill>
        <p:spPr>
          <a:xfrm>
            <a:off x="5724360" y="1700280"/>
            <a:ext cx="3419640" cy="4941720"/>
          </a:xfrm>
          <a:prstGeom prst="rect">
            <a:avLst/>
          </a:prstGeom>
          <a:ln w="0">
            <a:noFill/>
          </a:ln>
        </p:spPr>
      </p:pic>
      <p:sp>
        <p:nvSpPr>
          <p:cNvPr id="697" name=""/>
          <p:cNvSpPr/>
          <p:nvPr/>
        </p:nvSpPr>
        <p:spPr>
          <a:xfrm>
            <a:off x="457200" y="2895480"/>
            <a:ext cx="3274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f800"/>
                </a:solidFill>
                <a:latin typeface="Arial"/>
              </a:rPr>
              <a:t>Dă clic  şi încearcă din n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0" dur="indefinite" restart="never" nodeType="tmRoot">
          <p:childTnLst>
            <p:seq>
              <p:cTn id="1511" dur="indefinite" nodeType="mainSeq">
                <p:childTnLst>
                  <p:par>
                    <p:cTn id="1512" fill="hold">
                      <p:stCondLst>
                        <p:cond delay="0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afterEffect" fill="hold" presetClass="entr" presetID="2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1" nodeType="afterEffect" fill="hold" presetClass="entr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3" dur="80"/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4" dur="80"/>
                                        <p:tgtEl>
                                          <p:spTgt spid="6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5" dur="80"/>
                                        <p:tgtEl>
                                          <p:spTgt spid="6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fill="hold">
                            <p:stCondLst>
                              <p:cond delay="2960"/>
                            </p:stCondLst>
                            <p:childTnLst>
                              <p:par>
                                <p:cTn id="15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0" name="" descr=""/>
          <p:cNvPicPr/>
          <p:nvPr/>
        </p:nvPicPr>
        <p:blipFill>
          <a:blip r:embed="rId2"/>
          <a:stretch/>
        </p:blipFill>
        <p:spPr>
          <a:xfrm>
            <a:off x="5257800" y="2743200"/>
            <a:ext cx="3238560" cy="3887640"/>
          </a:xfrm>
          <a:prstGeom prst="rect">
            <a:avLst/>
          </a:prstGeom>
          <a:ln w="0">
            <a:noFill/>
          </a:ln>
        </p:spPr>
      </p:pic>
      <p:sp>
        <p:nvSpPr>
          <p:cNvPr id="701" name=""/>
          <p:cNvSpPr txBox="1"/>
          <p:nvPr/>
        </p:nvSpPr>
        <p:spPr>
          <a:xfrm>
            <a:off x="2771640" y="404640"/>
            <a:ext cx="39592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c521"/>
                    </a:gs>
                  </a:gsLst>
                  <a:lin ang="5400000"/>
                </a:gradFill>
                <a:latin typeface="Times New Roman"/>
              </a:rPr>
              <a:t>Oar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c521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33520" y="2819520"/>
            <a:ext cx="3274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f800"/>
                </a:solidFill>
                <a:latin typeface="Arial"/>
              </a:rPr>
              <a:t>Dă clic  şi încearcă din n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>
            <a:hlinkClick r:id="rId3" action="ppaction://hlinksldjump"/>
          </p:cNvPr>
          <p:cNvSpPr/>
          <p:nvPr/>
        </p:nvSpPr>
        <p:spPr>
          <a:xfrm>
            <a:off x="4191120" y="4267080"/>
            <a:ext cx="936360" cy="792360"/>
          </a:xfrm>
          <a:custGeom>
            <a:avLst/>
            <a:gdLst>
              <a:gd name="textAreaLeft" fmla="*/ 51120 w 936360"/>
              <a:gd name="textAreaRight" fmla="*/ 885240 w 93636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5524" h="21600">
                <a:moveTo>
                  <a:pt x="0" y="0"/>
                </a:moveTo>
                <a:lnTo>
                  <a:pt x="25524" y="0"/>
                </a:lnTo>
                <a:lnTo>
                  <a:pt x="25524" y="21600"/>
                </a:lnTo>
                <a:lnTo>
                  <a:pt x="0" y="21600"/>
                </a:lnTo>
                <a:close/>
              </a:path>
              <a:path fill="lightenLess" w="25524" h="21600">
                <a:moveTo>
                  <a:pt x="0" y="0"/>
                </a:moveTo>
                <a:lnTo>
                  <a:pt x="25524" y="0"/>
                </a:lnTo>
                <a:lnTo>
                  <a:pt x="24124" y="1400"/>
                </a:lnTo>
                <a:lnTo>
                  <a:pt x="1400" y="1400"/>
                </a:lnTo>
                <a:close/>
              </a:path>
              <a:path fill="darken" w="25524" h="21600">
                <a:moveTo>
                  <a:pt x="25524" y="0"/>
                </a:moveTo>
                <a:lnTo>
                  <a:pt x="25524" y="21600"/>
                </a:lnTo>
                <a:lnTo>
                  <a:pt x="24124" y="20200"/>
                </a:lnTo>
                <a:lnTo>
                  <a:pt x="24124" y="1400"/>
                </a:lnTo>
                <a:close/>
              </a:path>
              <a:path fill="darkenLess" w="25524" h="21600">
                <a:moveTo>
                  <a:pt x="255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24" y="20200"/>
                </a:lnTo>
                <a:close/>
              </a:path>
              <a:path fill="lighten" w="255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24" h="21600">
                <a:moveTo>
                  <a:pt x="5755" y="3794"/>
                </a:moveTo>
                <a:lnTo>
                  <a:pt x="19768" y="10800"/>
                </a:lnTo>
                <a:lnTo>
                  <a:pt x="5755" y="17806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9" dur="indefinite" restart="never" nodeType="tmRoot">
          <p:childTnLst>
            <p:seq>
              <p:cTn id="1540" dur="indefinite" nodeType="mainSeq">
                <p:childTnLst>
                  <p:par>
                    <p:cTn id="1541" fill="hold">
                      <p:stCondLst>
                        <p:cond delay="0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afterEffect" fill="hold" presetClass="entr" presetID="5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5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7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9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0" dur="2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1551" dur="2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3" nodeType="afterEffect" fill="hold" presetClass="entr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5" dur="80"/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6" dur="80"/>
                                        <p:tgtEl>
                                          <p:spTgt spid="7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7" dur="80"/>
                                        <p:tgtEl>
                                          <p:spTgt spid="7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3960"/>
                            </p:stCondLst>
                            <p:childTnLst>
                              <p:par>
                                <p:cTn id="15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Se poate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rId2" action="ppaction://hlinksldjump"/>
          </p:cNvPr>
          <p:cNvSpPr/>
          <p:nvPr/>
        </p:nvSpPr>
        <p:spPr>
          <a:xfrm>
            <a:off x="4343400" y="3429000"/>
            <a:ext cx="1081080" cy="792000"/>
          </a:xfrm>
          <a:custGeom>
            <a:avLst/>
            <a:gdLst>
              <a:gd name="textAreaLeft" fmla="*/ 51120 w 1081080"/>
              <a:gd name="textAreaRight" fmla="*/ 1029960 w 1081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9480" h="21600">
                <a:moveTo>
                  <a:pt x="0" y="0"/>
                </a:moveTo>
                <a:lnTo>
                  <a:pt x="29480" y="0"/>
                </a:lnTo>
                <a:lnTo>
                  <a:pt x="29480" y="21600"/>
                </a:lnTo>
                <a:lnTo>
                  <a:pt x="0" y="21600"/>
                </a:lnTo>
                <a:close/>
              </a:path>
              <a:path fill="lightenLess" w="29480" h="21600">
                <a:moveTo>
                  <a:pt x="0" y="0"/>
                </a:moveTo>
                <a:lnTo>
                  <a:pt x="29480" y="0"/>
                </a:lnTo>
                <a:lnTo>
                  <a:pt x="28080" y="1400"/>
                </a:lnTo>
                <a:lnTo>
                  <a:pt x="1400" y="1400"/>
                </a:lnTo>
                <a:close/>
              </a:path>
              <a:path fill="darken" w="29480" h="21600">
                <a:moveTo>
                  <a:pt x="29480" y="0"/>
                </a:moveTo>
                <a:lnTo>
                  <a:pt x="29480" y="21600"/>
                </a:lnTo>
                <a:lnTo>
                  <a:pt x="28080" y="20200"/>
                </a:lnTo>
                <a:lnTo>
                  <a:pt x="28080" y="1400"/>
                </a:lnTo>
                <a:close/>
              </a:path>
              <a:path fill="darkenLess" w="29480" h="21600">
                <a:moveTo>
                  <a:pt x="294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80" y="20200"/>
                </a:lnTo>
                <a:close/>
              </a:path>
              <a:path fill="lighten" w="294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80" h="21600">
                <a:moveTo>
                  <a:pt x="7734" y="3794"/>
                </a:moveTo>
                <a:lnTo>
                  <a:pt x="21747" y="10800"/>
                </a:lnTo>
                <a:lnTo>
                  <a:pt x="7734" y="17806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5724360" y="1700280"/>
            <a:ext cx="3419640" cy="49417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458640" y="3017880"/>
            <a:ext cx="2665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f800"/>
                </a:solidFill>
                <a:latin typeface="Arial"/>
              </a:rPr>
              <a:t>Dă clic  şi încearcă din n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5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8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96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4" name="" descr=""/>
          <p:cNvPicPr/>
          <p:nvPr/>
        </p:nvPicPr>
        <p:blipFill>
          <a:blip r:embed="rId2"/>
          <a:stretch/>
        </p:blipFill>
        <p:spPr>
          <a:xfrm>
            <a:off x="3733920" y="4076640"/>
            <a:ext cx="2377800" cy="2781360"/>
          </a:xfrm>
          <a:prstGeom prst="rect">
            <a:avLst/>
          </a:prstGeom>
          <a:ln w="0">
            <a:noFill/>
          </a:ln>
        </p:spPr>
      </p:pic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26320" cy="2781360"/>
          </a:xfrm>
          <a:prstGeom prst="rect">
            <a:avLst/>
          </a:prstGeom>
          <a:blipFill rotWithShape="0">
            <a:blip r:embed="rId3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521"/>
                </a:solidFill>
                <a:latin typeface="Arial"/>
              </a:rPr>
              <a:t>            </a:t>
            </a:r>
            <a:br>
              <a:rPr sz="4000"/>
            </a:br>
            <a:r>
              <a:rPr b="1" lang="en-US" sz="4000" spc="-1" strike="noStrike">
                <a:solidFill>
                  <a:srgbClr val="ffc521"/>
                </a:solidFill>
                <a:latin typeface="Arial"/>
              </a:rPr>
              <a:t>                            </a:t>
            </a:r>
            <a:br>
              <a:rPr sz="800"/>
            </a:br>
            <a:r>
              <a:rPr b="1" lang="en-US" sz="800" spc="-1" strike="noStrike">
                <a:solidFill>
                  <a:srgbClr val="ffc521"/>
                </a:solidFill>
                <a:latin typeface="Arial"/>
              </a:rPr>
              <a:t>                                                                                                                        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Am concediu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                          28 de zile.</a:t>
            </a:r>
            <a:br>
              <a:rPr sz="44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" descr=""/>
          <p:cNvPicPr/>
          <p:nvPr/>
        </p:nvPicPr>
        <p:blipFill>
          <a:blip r:embed="rId4"/>
          <a:stretch/>
        </p:blipFill>
        <p:spPr>
          <a:xfrm>
            <a:off x="0" y="260280"/>
            <a:ext cx="2684520" cy="3673440"/>
          </a:xfrm>
          <a:prstGeom prst="rect">
            <a:avLst/>
          </a:prstGeom>
          <a:ln w="0">
            <a:noFill/>
          </a:ln>
        </p:spPr>
      </p:pic>
      <p:pic>
        <p:nvPicPr>
          <p:cNvPr id="707" name="" descr=""/>
          <p:cNvPicPr/>
          <p:nvPr/>
        </p:nvPicPr>
        <p:blipFill>
          <a:blip r:embed="rId5"/>
          <a:stretch/>
        </p:blipFill>
        <p:spPr>
          <a:xfrm>
            <a:off x="2514600" y="304920"/>
            <a:ext cx="2475000" cy="2997000"/>
          </a:xfrm>
          <a:prstGeom prst="rect">
            <a:avLst/>
          </a:prstGeom>
          <a:ln w="0">
            <a:noFill/>
          </a:ln>
        </p:spPr>
      </p:pic>
      <p:pic>
        <p:nvPicPr>
          <p:cNvPr id="708" name="" descr=""/>
          <p:cNvPicPr/>
          <p:nvPr/>
        </p:nvPicPr>
        <p:blipFill>
          <a:blip r:embed="rId6"/>
          <a:stretch/>
        </p:blipFill>
        <p:spPr>
          <a:xfrm>
            <a:off x="4932360" y="1268280"/>
            <a:ext cx="2295360" cy="2638440"/>
          </a:xfrm>
          <a:prstGeom prst="rect">
            <a:avLst/>
          </a:prstGeom>
          <a:ln w="0">
            <a:noFill/>
          </a:ln>
        </p:spPr>
      </p:pic>
      <p:pic>
        <p:nvPicPr>
          <p:cNvPr id="709" name="" descr=""/>
          <p:cNvPicPr/>
          <p:nvPr/>
        </p:nvPicPr>
        <p:blipFill>
          <a:blip r:embed="rId7"/>
          <a:stretch/>
        </p:blipFill>
        <p:spPr>
          <a:xfrm>
            <a:off x="6948360" y="907920"/>
            <a:ext cx="2160720" cy="3168720"/>
          </a:xfrm>
          <a:prstGeom prst="rect">
            <a:avLst/>
          </a:prstGeom>
          <a:ln w="0">
            <a:noFill/>
          </a:ln>
        </p:spPr>
      </p:pic>
      <p:pic>
        <p:nvPicPr>
          <p:cNvPr id="710" name="" descr=""/>
          <p:cNvPicPr/>
          <p:nvPr/>
        </p:nvPicPr>
        <p:blipFill>
          <a:blip r:embed="rId8"/>
          <a:stretch/>
        </p:blipFill>
        <p:spPr>
          <a:xfrm>
            <a:off x="179280" y="2997360"/>
            <a:ext cx="3009960" cy="4076640"/>
          </a:xfrm>
          <a:prstGeom prst="rect">
            <a:avLst/>
          </a:prstGeom>
          <a:ln w="0">
            <a:noFill/>
          </a:ln>
        </p:spPr>
      </p:pic>
      <p:pic>
        <p:nvPicPr>
          <p:cNvPr id="711" name="" descr=""/>
          <p:cNvPicPr/>
          <p:nvPr/>
        </p:nvPicPr>
        <p:blipFill>
          <a:blip r:embed="rId9"/>
          <a:stretch/>
        </p:blipFill>
        <p:spPr>
          <a:xfrm>
            <a:off x="6084720" y="2924280"/>
            <a:ext cx="3246480" cy="393372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2971800" y="3200400"/>
            <a:ext cx="2438280" cy="1219320"/>
          </a:xfrm>
          <a:prstGeom prst="wedgeRoundRectCallout">
            <a:avLst>
              <a:gd name="adj1" fmla="val 32879"/>
              <a:gd name="adj2" fmla="val 91148"/>
              <a:gd name="adj3" fmla="val 16667"/>
            </a:avLst>
          </a:prstGeom>
          <a:solidFill>
            <a:srgbClr val="ccffff">
              <a:alpha val="27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ât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ăptămân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611280" y="1773360"/>
            <a:ext cx="143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3048120" y="1295280"/>
            <a:ext cx="143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5508720" y="2060640"/>
            <a:ext cx="143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116000" y="4365720"/>
            <a:ext cx="14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380360" y="2060640"/>
            <a:ext cx="143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7380360" y="3860640"/>
            <a:ext cx="143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>
            <a:hlinkClick r:id="rId10" action="ppaction://hlinksldjump"/>
          </p:cNvPr>
          <p:cNvSpPr/>
          <p:nvPr/>
        </p:nvSpPr>
        <p:spPr>
          <a:xfrm>
            <a:off x="762120" y="4343400"/>
            <a:ext cx="2447640" cy="936720"/>
          </a:xfrm>
          <a:custGeom>
            <a:avLst/>
            <a:gdLst>
              <a:gd name="textAreaLeft" fmla="*/ 60480 w 2447640"/>
              <a:gd name="textAreaRight" fmla="*/ 2387160 w 2447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56427" h="21600">
                <a:moveTo>
                  <a:pt x="0" y="0"/>
                </a:moveTo>
                <a:lnTo>
                  <a:pt x="56427" y="0"/>
                </a:lnTo>
                <a:lnTo>
                  <a:pt x="56427" y="21600"/>
                </a:lnTo>
                <a:lnTo>
                  <a:pt x="0" y="21600"/>
                </a:lnTo>
                <a:close/>
              </a:path>
              <a:path fill="lightenLess" w="56427" h="21600">
                <a:moveTo>
                  <a:pt x="0" y="0"/>
                </a:moveTo>
                <a:lnTo>
                  <a:pt x="56427" y="0"/>
                </a:lnTo>
                <a:lnTo>
                  <a:pt x="55027" y="1400"/>
                </a:lnTo>
                <a:lnTo>
                  <a:pt x="1400" y="1400"/>
                </a:lnTo>
                <a:close/>
              </a:path>
              <a:path fill="darken" w="56427" h="21600">
                <a:moveTo>
                  <a:pt x="56427" y="0"/>
                </a:moveTo>
                <a:lnTo>
                  <a:pt x="56427" y="21600"/>
                </a:lnTo>
                <a:lnTo>
                  <a:pt x="55027" y="20200"/>
                </a:lnTo>
                <a:lnTo>
                  <a:pt x="55027" y="1400"/>
                </a:lnTo>
                <a:close/>
              </a:path>
              <a:path fill="darkenLess" w="56427" h="21600">
                <a:moveTo>
                  <a:pt x="56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027" y="20200"/>
                </a:lnTo>
                <a:close/>
              </a:path>
              <a:path fill="lighten" w="56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427" h="21600">
                <a:moveTo>
                  <a:pt x="21207" y="3794"/>
                </a:moveTo>
                <a:lnTo>
                  <a:pt x="35220" y="10800"/>
                </a:lnTo>
                <a:lnTo>
                  <a:pt x="21207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>
            <a:hlinkClick r:id="rId11" action="ppaction://hlinksldjump"/>
          </p:cNvPr>
          <p:cNvSpPr/>
          <p:nvPr/>
        </p:nvSpPr>
        <p:spPr>
          <a:xfrm>
            <a:off x="250920" y="1700280"/>
            <a:ext cx="2448000" cy="936720"/>
          </a:xfrm>
          <a:custGeom>
            <a:avLst/>
            <a:gdLst>
              <a:gd name="textAreaLeft" fmla="*/ 60480 w 2448000"/>
              <a:gd name="textAreaRight" fmla="*/ 2387520 w 244800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56435" h="21600">
                <a:moveTo>
                  <a:pt x="0" y="0"/>
                </a:moveTo>
                <a:lnTo>
                  <a:pt x="56435" y="0"/>
                </a:lnTo>
                <a:lnTo>
                  <a:pt x="56435" y="21600"/>
                </a:lnTo>
                <a:lnTo>
                  <a:pt x="0" y="21600"/>
                </a:lnTo>
                <a:close/>
              </a:path>
              <a:path fill="lightenLess" w="56435" h="21600">
                <a:moveTo>
                  <a:pt x="0" y="0"/>
                </a:moveTo>
                <a:lnTo>
                  <a:pt x="56435" y="0"/>
                </a:lnTo>
                <a:lnTo>
                  <a:pt x="55035" y="1400"/>
                </a:lnTo>
                <a:lnTo>
                  <a:pt x="1400" y="1400"/>
                </a:lnTo>
                <a:close/>
              </a:path>
              <a:path fill="darken" w="56435" h="21600">
                <a:moveTo>
                  <a:pt x="56435" y="0"/>
                </a:moveTo>
                <a:lnTo>
                  <a:pt x="56435" y="21600"/>
                </a:lnTo>
                <a:lnTo>
                  <a:pt x="55035" y="20200"/>
                </a:lnTo>
                <a:lnTo>
                  <a:pt x="55035" y="1400"/>
                </a:lnTo>
                <a:close/>
              </a:path>
              <a:path fill="darkenLess" w="56435" h="21600">
                <a:moveTo>
                  <a:pt x="564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035" y="20200"/>
                </a:lnTo>
                <a:close/>
              </a:path>
              <a:path fill="lighten" w="564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435" h="21600">
                <a:moveTo>
                  <a:pt x="21211" y="3794"/>
                </a:moveTo>
                <a:lnTo>
                  <a:pt x="35224" y="10800"/>
                </a:lnTo>
                <a:lnTo>
                  <a:pt x="21211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>
            <a:hlinkClick r:id="rId12" action="ppaction://hlinksldjump"/>
          </p:cNvPr>
          <p:cNvSpPr/>
          <p:nvPr/>
        </p:nvSpPr>
        <p:spPr>
          <a:xfrm>
            <a:off x="2819520" y="1219320"/>
            <a:ext cx="1944720" cy="936360"/>
          </a:xfrm>
          <a:custGeom>
            <a:avLst/>
            <a:gdLst>
              <a:gd name="textAreaLeft" fmla="*/ 60480 w 1944720"/>
              <a:gd name="textAreaRight" fmla="*/ 1884240 w 1944720"/>
              <a:gd name="textAreaTop" fmla="*/ 60480 h 936360"/>
              <a:gd name="textAreaBottom" fmla="*/ 875880 h 936360"/>
            </a:gdLst>
            <a:ahLst/>
            <a:rect l="textAreaLeft" t="textAreaTop" r="textAreaRight" b="textAreaBottom"/>
            <a:pathLst>
              <a:path w="44852" h="21600">
                <a:moveTo>
                  <a:pt x="0" y="0"/>
                </a:moveTo>
                <a:lnTo>
                  <a:pt x="44852" y="0"/>
                </a:lnTo>
                <a:lnTo>
                  <a:pt x="44852" y="21600"/>
                </a:lnTo>
                <a:lnTo>
                  <a:pt x="0" y="21600"/>
                </a:lnTo>
                <a:close/>
              </a:path>
              <a:path fill="lightenLess" w="44852" h="21600">
                <a:moveTo>
                  <a:pt x="0" y="0"/>
                </a:moveTo>
                <a:lnTo>
                  <a:pt x="44852" y="0"/>
                </a:lnTo>
                <a:lnTo>
                  <a:pt x="43452" y="1400"/>
                </a:lnTo>
                <a:lnTo>
                  <a:pt x="1400" y="1400"/>
                </a:lnTo>
                <a:close/>
              </a:path>
              <a:path fill="darken" w="44852" h="21600">
                <a:moveTo>
                  <a:pt x="44852" y="0"/>
                </a:moveTo>
                <a:lnTo>
                  <a:pt x="44852" y="21600"/>
                </a:lnTo>
                <a:lnTo>
                  <a:pt x="43452" y="20200"/>
                </a:lnTo>
                <a:lnTo>
                  <a:pt x="43452" y="1400"/>
                </a:lnTo>
                <a:close/>
              </a:path>
              <a:path fill="darkenLess" w="44852" h="21600">
                <a:moveTo>
                  <a:pt x="448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452" y="20200"/>
                </a:lnTo>
                <a:close/>
              </a:path>
              <a:path fill="lighten" w="448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852" h="21600">
                <a:moveTo>
                  <a:pt x="15419" y="3794"/>
                </a:moveTo>
                <a:lnTo>
                  <a:pt x="29432" y="10800"/>
                </a:lnTo>
                <a:lnTo>
                  <a:pt x="15419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>
            <a:hlinkClick r:id="rId13" action="ppaction://hlinksldjump"/>
          </p:cNvPr>
          <p:cNvSpPr/>
          <p:nvPr/>
        </p:nvSpPr>
        <p:spPr>
          <a:xfrm>
            <a:off x="5219640" y="1989000"/>
            <a:ext cx="1657440" cy="936720"/>
          </a:xfrm>
          <a:custGeom>
            <a:avLst/>
            <a:gdLst>
              <a:gd name="textAreaLeft" fmla="*/ 60480 w 1657440"/>
              <a:gd name="textAreaRight" fmla="*/ 1596960 w 16574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213" h="21600">
                <a:moveTo>
                  <a:pt x="0" y="0"/>
                </a:moveTo>
                <a:lnTo>
                  <a:pt x="38213" y="0"/>
                </a:lnTo>
                <a:lnTo>
                  <a:pt x="38213" y="21600"/>
                </a:lnTo>
                <a:lnTo>
                  <a:pt x="0" y="21600"/>
                </a:lnTo>
                <a:close/>
              </a:path>
              <a:path fill="lightenLess" w="38213" h="21600">
                <a:moveTo>
                  <a:pt x="0" y="0"/>
                </a:moveTo>
                <a:lnTo>
                  <a:pt x="38213" y="0"/>
                </a:lnTo>
                <a:lnTo>
                  <a:pt x="36813" y="1400"/>
                </a:lnTo>
                <a:lnTo>
                  <a:pt x="1400" y="1400"/>
                </a:lnTo>
                <a:close/>
              </a:path>
              <a:path fill="darken" w="38213" h="21600">
                <a:moveTo>
                  <a:pt x="38213" y="0"/>
                </a:moveTo>
                <a:lnTo>
                  <a:pt x="38213" y="21600"/>
                </a:lnTo>
                <a:lnTo>
                  <a:pt x="36813" y="20200"/>
                </a:lnTo>
                <a:lnTo>
                  <a:pt x="36813" y="1400"/>
                </a:lnTo>
                <a:close/>
              </a:path>
              <a:path fill="darkenLess" w="38213" h="21600">
                <a:moveTo>
                  <a:pt x="382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3" y="20200"/>
                </a:lnTo>
                <a:close/>
              </a:path>
              <a:path fill="lighten" w="382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213" h="21600">
                <a:moveTo>
                  <a:pt x="12100" y="3794"/>
                </a:moveTo>
                <a:lnTo>
                  <a:pt x="26113" y="10800"/>
                </a:lnTo>
                <a:lnTo>
                  <a:pt x="1210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>
            <a:hlinkClick r:id="rId14" action="ppaction://hlinksldjump"/>
          </p:cNvPr>
          <p:cNvSpPr/>
          <p:nvPr/>
        </p:nvSpPr>
        <p:spPr>
          <a:xfrm>
            <a:off x="7308720" y="1989000"/>
            <a:ext cx="1835280" cy="936720"/>
          </a:xfrm>
          <a:custGeom>
            <a:avLst/>
            <a:gdLst>
              <a:gd name="textAreaLeft" fmla="*/ 60480 w 1835280"/>
              <a:gd name="textAreaRight" fmla="*/ 1774800 w 183528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42312" h="21600">
                <a:moveTo>
                  <a:pt x="0" y="0"/>
                </a:moveTo>
                <a:lnTo>
                  <a:pt x="42312" y="0"/>
                </a:lnTo>
                <a:lnTo>
                  <a:pt x="42312" y="21600"/>
                </a:lnTo>
                <a:lnTo>
                  <a:pt x="0" y="21600"/>
                </a:lnTo>
                <a:close/>
              </a:path>
              <a:path fill="lightenLess" w="42312" h="21600">
                <a:moveTo>
                  <a:pt x="0" y="0"/>
                </a:moveTo>
                <a:lnTo>
                  <a:pt x="42312" y="0"/>
                </a:lnTo>
                <a:lnTo>
                  <a:pt x="40912" y="1400"/>
                </a:lnTo>
                <a:lnTo>
                  <a:pt x="1400" y="1400"/>
                </a:lnTo>
                <a:close/>
              </a:path>
              <a:path fill="darken" w="42312" h="21600">
                <a:moveTo>
                  <a:pt x="42312" y="0"/>
                </a:moveTo>
                <a:lnTo>
                  <a:pt x="42312" y="21600"/>
                </a:lnTo>
                <a:lnTo>
                  <a:pt x="40912" y="20200"/>
                </a:lnTo>
                <a:lnTo>
                  <a:pt x="40912" y="1400"/>
                </a:lnTo>
                <a:close/>
              </a:path>
              <a:path fill="darkenLess" w="42312" h="21600">
                <a:moveTo>
                  <a:pt x="423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912" y="20200"/>
                </a:lnTo>
                <a:close/>
              </a:path>
              <a:path fill="lighten" w="423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312" h="21600">
                <a:moveTo>
                  <a:pt x="14150" y="3794"/>
                </a:moveTo>
                <a:lnTo>
                  <a:pt x="28163" y="10800"/>
                </a:lnTo>
                <a:lnTo>
                  <a:pt x="1415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>
            <a:hlinkClick r:id="rId15" action="ppaction://hlinksldjump"/>
          </p:cNvPr>
          <p:cNvSpPr/>
          <p:nvPr/>
        </p:nvSpPr>
        <p:spPr>
          <a:xfrm>
            <a:off x="6877080" y="3789360"/>
            <a:ext cx="2448000" cy="936720"/>
          </a:xfrm>
          <a:custGeom>
            <a:avLst/>
            <a:gdLst>
              <a:gd name="textAreaLeft" fmla="*/ 60480 w 2448000"/>
              <a:gd name="textAreaRight" fmla="*/ 2387520 w 244800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56435" h="21600">
                <a:moveTo>
                  <a:pt x="0" y="0"/>
                </a:moveTo>
                <a:lnTo>
                  <a:pt x="56435" y="0"/>
                </a:lnTo>
                <a:lnTo>
                  <a:pt x="56435" y="21600"/>
                </a:lnTo>
                <a:lnTo>
                  <a:pt x="0" y="21600"/>
                </a:lnTo>
                <a:close/>
              </a:path>
              <a:path fill="lightenLess" w="56435" h="21600">
                <a:moveTo>
                  <a:pt x="0" y="0"/>
                </a:moveTo>
                <a:lnTo>
                  <a:pt x="56435" y="0"/>
                </a:lnTo>
                <a:lnTo>
                  <a:pt x="55035" y="1400"/>
                </a:lnTo>
                <a:lnTo>
                  <a:pt x="1400" y="1400"/>
                </a:lnTo>
                <a:close/>
              </a:path>
              <a:path fill="darken" w="56435" h="21600">
                <a:moveTo>
                  <a:pt x="56435" y="0"/>
                </a:moveTo>
                <a:lnTo>
                  <a:pt x="56435" y="21600"/>
                </a:lnTo>
                <a:lnTo>
                  <a:pt x="55035" y="20200"/>
                </a:lnTo>
                <a:lnTo>
                  <a:pt x="55035" y="1400"/>
                </a:lnTo>
                <a:close/>
              </a:path>
              <a:path fill="darkenLess" w="56435" h="21600">
                <a:moveTo>
                  <a:pt x="564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035" y="20200"/>
                </a:lnTo>
                <a:close/>
              </a:path>
              <a:path fill="lighten" w="564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435" h="21600">
                <a:moveTo>
                  <a:pt x="21211" y="3794"/>
                </a:moveTo>
                <a:lnTo>
                  <a:pt x="35224" y="10800"/>
                </a:lnTo>
                <a:lnTo>
                  <a:pt x="21211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1" dur="indefinite" restart="never" nodeType="tmRoot">
          <p:childTnLst>
            <p:seq>
              <p:cTn id="1562" dur="indefinite" nodeType="mainSeq">
                <p:childTnLst>
                  <p:par>
                    <p:cTn id="1563" fill="hold">
                      <p:stCondLst>
                        <p:cond delay="0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6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2" fill="hold">
                            <p:stCondLst>
                              <p:cond delay="3750"/>
                            </p:stCondLst>
                            <p:childTnLst>
                              <p:par>
                                <p:cTn id="1573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5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57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7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7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57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5" name="" descr=""/>
          <p:cNvPicPr/>
          <p:nvPr/>
        </p:nvPicPr>
        <p:blipFill>
          <a:blip r:embed="rId2"/>
          <a:stretch/>
        </p:blipFill>
        <p:spPr>
          <a:xfrm>
            <a:off x="5364000" y="2276640"/>
            <a:ext cx="2973600" cy="3855960"/>
          </a:xfrm>
          <a:prstGeom prst="rect">
            <a:avLst/>
          </a:prstGeom>
          <a:ln w="0">
            <a:noFill/>
          </a:ln>
        </p:spPr>
      </p:pic>
      <p:sp>
        <p:nvSpPr>
          <p:cNvPr id="726" name="">
            <a:hlinkClick r:id="rId3" action="ppaction://hlinksldjump"/>
          </p:cNvPr>
          <p:cNvSpPr/>
          <p:nvPr/>
        </p:nvSpPr>
        <p:spPr>
          <a:xfrm>
            <a:off x="3657600" y="4114800"/>
            <a:ext cx="1008000" cy="792000"/>
          </a:xfrm>
          <a:custGeom>
            <a:avLst/>
            <a:gdLst>
              <a:gd name="textAreaLeft" fmla="*/ 51120 w 1008000"/>
              <a:gd name="textAreaRight" fmla="*/ 956880 w 1008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88" h="21600">
                <a:moveTo>
                  <a:pt x="0" y="0"/>
                </a:moveTo>
                <a:lnTo>
                  <a:pt x="27488" y="0"/>
                </a:lnTo>
                <a:lnTo>
                  <a:pt x="27488" y="21600"/>
                </a:lnTo>
                <a:lnTo>
                  <a:pt x="0" y="21600"/>
                </a:lnTo>
                <a:close/>
              </a:path>
              <a:path fill="lightenLess" w="27488" h="21600">
                <a:moveTo>
                  <a:pt x="0" y="0"/>
                </a:moveTo>
                <a:lnTo>
                  <a:pt x="27488" y="0"/>
                </a:lnTo>
                <a:lnTo>
                  <a:pt x="26088" y="1400"/>
                </a:lnTo>
                <a:lnTo>
                  <a:pt x="1400" y="1400"/>
                </a:lnTo>
                <a:close/>
              </a:path>
              <a:path fill="darken" w="27488" h="21600">
                <a:moveTo>
                  <a:pt x="27488" y="0"/>
                </a:moveTo>
                <a:lnTo>
                  <a:pt x="27488" y="21600"/>
                </a:lnTo>
                <a:lnTo>
                  <a:pt x="26088" y="20200"/>
                </a:lnTo>
                <a:lnTo>
                  <a:pt x="26088" y="1400"/>
                </a:lnTo>
                <a:close/>
              </a:path>
              <a:path fill="darkenLess" w="27488" h="21600">
                <a:moveTo>
                  <a:pt x="274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8" y="20200"/>
                </a:lnTo>
                <a:close/>
              </a:path>
              <a:path fill="lighten" w="274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8" h="21600">
                <a:moveTo>
                  <a:pt x="6738" y="3794"/>
                </a:moveTo>
                <a:lnTo>
                  <a:pt x="20751" y="10800"/>
                </a:lnTo>
                <a:lnTo>
                  <a:pt x="6738" y="17806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2627280" y="476280"/>
            <a:ext cx="518472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Times New Roman"/>
              </a:rPr>
              <a:t>Se poat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04920" y="2971800"/>
            <a:ext cx="3274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f800"/>
                </a:solidFill>
                <a:latin typeface="Arial"/>
              </a:rPr>
              <a:t>Dă clic  şi încearcă din n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9" dur="indefinite" restart="never" nodeType="tmRoot">
          <p:childTnLst>
            <p:seq>
              <p:cTn id="1580" dur="indefinite" nodeType="mainSeq">
                <p:childTnLst>
                  <p:par>
                    <p:cTn id="1581" fill="hold">
                      <p:stCondLst>
                        <p:cond delay="0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afterEffect" fill="hold" presetClass="entr" presetID="5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5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7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9" nodeType="afterEffect" fill="hold" presetClass="entr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1" dur="80"/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2" dur="80"/>
                                        <p:tgtEl>
                                          <p:spTgt spid="7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3" dur="80"/>
                                        <p:tgtEl>
                                          <p:spTgt spid="7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fill="hold">
                            <p:stCondLst>
                              <p:cond delay="1960"/>
                            </p:stCondLst>
                            <p:childTnLst>
                              <p:par>
                                <p:cTn id="15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" descr=""/>
          <p:cNvPicPr/>
          <p:nvPr/>
        </p:nvPicPr>
        <p:blipFill>
          <a:blip r:embed="rId2"/>
          <a:stretch/>
        </p:blipFill>
        <p:spPr>
          <a:xfrm>
            <a:off x="5364000" y="2276640"/>
            <a:ext cx="2973600" cy="3855960"/>
          </a:xfrm>
          <a:prstGeom prst="rect">
            <a:avLst/>
          </a:prstGeom>
          <a:ln w="0">
            <a:noFill/>
          </a:ln>
        </p:spPr>
      </p:pic>
      <p:sp>
        <p:nvSpPr>
          <p:cNvPr id="730" name=""/>
          <p:cNvSpPr/>
          <p:nvPr/>
        </p:nvSpPr>
        <p:spPr>
          <a:xfrm>
            <a:off x="4038480" y="4648320"/>
            <a:ext cx="1008360" cy="792000"/>
          </a:xfrm>
          <a:custGeom>
            <a:avLst/>
            <a:gdLst>
              <a:gd name="textAreaLeft" fmla="*/ 51120 w 1008360"/>
              <a:gd name="textAreaRight" fmla="*/ 957240 w 1008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98" h="21600">
                <a:moveTo>
                  <a:pt x="0" y="0"/>
                </a:moveTo>
                <a:lnTo>
                  <a:pt x="27498" y="0"/>
                </a:lnTo>
                <a:lnTo>
                  <a:pt x="27498" y="21600"/>
                </a:lnTo>
                <a:lnTo>
                  <a:pt x="0" y="21600"/>
                </a:lnTo>
                <a:close/>
              </a:path>
              <a:path fill="lightenLess" w="27498" h="21600">
                <a:moveTo>
                  <a:pt x="0" y="0"/>
                </a:moveTo>
                <a:lnTo>
                  <a:pt x="27498" y="0"/>
                </a:lnTo>
                <a:lnTo>
                  <a:pt x="26098" y="1400"/>
                </a:lnTo>
                <a:lnTo>
                  <a:pt x="1400" y="1400"/>
                </a:lnTo>
                <a:close/>
              </a:path>
              <a:path fill="darken" w="27498" h="21600">
                <a:moveTo>
                  <a:pt x="27498" y="0"/>
                </a:moveTo>
                <a:lnTo>
                  <a:pt x="27498" y="21600"/>
                </a:lnTo>
                <a:lnTo>
                  <a:pt x="26098" y="20200"/>
                </a:lnTo>
                <a:lnTo>
                  <a:pt x="26098" y="1400"/>
                </a:lnTo>
                <a:close/>
              </a:path>
              <a:path fill="darkenLess" w="27498" h="21600">
                <a:moveTo>
                  <a:pt x="27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98" y="20200"/>
                </a:lnTo>
                <a:close/>
              </a:path>
              <a:path fill="lighten" w="27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98" h="21600">
                <a:moveTo>
                  <a:pt x="6743" y="3794"/>
                </a:moveTo>
                <a:lnTo>
                  <a:pt x="20756" y="10800"/>
                </a:lnTo>
                <a:lnTo>
                  <a:pt x="6743" y="17806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2627280" y="476280"/>
            <a:ext cx="518472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Times New Roman"/>
              </a:rPr>
              <a:t>Exagerezi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04920" y="2971800"/>
            <a:ext cx="3274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f800"/>
                </a:solidFill>
                <a:latin typeface="Arial"/>
              </a:rPr>
              <a:t>Dă clic  şi încearcă din n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7" dur="indefinite" restart="never" nodeType="tmRoot">
          <p:childTnLst>
            <p:seq>
              <p:cTn id="1598" dur="indefinite" nodeType="mainSeq">
                <p:childTnLst>
                  <p:par>
                    <p:cTn id="1599" fill="hold">
                      <p:stCondLst>
                        <p:cond delay="0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afterEffect" fill="hold" presetClass="entr" presetID="5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3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5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7" nodeType="afterEffect" fill="hold" presetClass="entr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9" dur="80"/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0" dur="80"/>
                                        <p:tgtEl>
                                          <p:spTgt spid="7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1" dur="80"/>
                                        <p:tgtEl>
                                          <p:spTgt spid="7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2" fill="hold">
                            <p:stCondLst>
                              <p:cond delay="1960"/>
                            </p:stCondLst>
                            <p:childTnLst>
                              <p:par>
                                <p:cTn id="16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3886200" y="4495680"/>
            <a:ext cx="936720" cy="792360"/>
          </a:xfrm>
          <a:custGeom>
            <a:avLst/>
            <a:gdLst>
              <a:gd name="textAreaLeft" fmla="*/ 51120 w 936720"/>
              <a:gd name="textAreaRight" fmla="*/ 885600 w 9367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5534" h="21600">
                <a:moveTo>
                  <a:pt x="0" y="0"/>
                </a:moveTo>
                <a:lnTo>
                  <a:pt x="25534" y="0"/>
                </a:lnTo>
                <a:lnTo>
                  <a:pt x="25534" y="21600"/>
                </a:lnTo>
                <a:lnTo>
                  <a:pt x="0" y="21600"/>
                </a:lnTo>
                <a:close/>
              </a:path>
              <a:path fill="lightenLess" w="25534" h="21600">
                <a:moveTo>
                  <a:pt x="0" y="0"/>
                </a:moveTo>
                <a:lnTo>
                  <a:pt x="25534" y="0"/>
                </a:lnTo>
                <a:lnTo>
                  <a:pt x="24134" y="1400"/>
                </a:lnTo>
                <a:lnTo>
                  <a:pt x="1400" y="1400"/>
                </a:lnTo>
                <a:close/>
              </a:path>
              <a:path fill="darken" w="25534" h="21600">
                <a:moveTo>
                  <a:pt x="25534" y="0"/>
                </a:moveTo>
                <a:lnTo>
                  <a:pt x="25534" y="21600"/>
                </a:lnTo>
                <a:lnTo>
                  <a:pt x="24134" y="20200"/>
                </a:lnTo>
                <a:lnTo>
                  <a:pt x="24134" y="1400"/>
                </a:lnTo>
                <a:close/>
              </a:path>
              <a:path fill="darkenLess" w="25534" h="21600">
                <a:moveTo>
                  <a:pt x="25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4" y="20200"/>
                </a:lnTo>
                <a:close/>
              </a:path>
              <a:path fill="lighten" w="25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4" h="21600">
                <a:moveTo>
                  <a:pt x="5760" y="3794"/>
                </a:moveTo>
                <a:lnTo>
                  <a:pt x="19773" y="10800"/>
                </a:lnTo>
                <a:lnTo>
                  <a:pt x="5760" y="17806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2"/>
          <a:stretch/>
        </p:blipFill>
        <p:spPr>
          <a:xfrm>
            <a:off x="5905440" y="2590920"/>
            <a:ext cx="3238560" cy="3887640"/>
          </a:xfrm>
          <a:prstGeom prst="rect">
            <a:avLst/>
          </a:prstGeom>
          <a:ln w="0">
            <a:noFill/>
          </a:ln>
        </p:spPr>
      </p:pic>
      <p:sp>
        <p:nvSpPr>
          <p:cNvPr id="737" name=""/>
          <p:cNvSpPr txBox="1"/>
          <p:nvPr/>
        </p:nvSpPr>
        <p:spPr>
          <a:xfrm>
            <a:off x="2771640" y="404640"/>
            <a:ext cx="39592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c521"/>
                    </a:gs>
                  </a:gsLst>
                  <a:lin ang="5400000"/>
                </a:gradFill>
                <a:latin typeface="Times New Roman"/>
              </a:rPr>
              <a:t>Oar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c521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04920" y="2971800"/>
            <a:ext cx="3274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f800"/>
                </a:solidFill>
                <a:latin typeface="Arial"/>
              </a:rPr>
              <a:t>Dă clic  şi încearcă din n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5" dur="indefinite" restart="never" nodeType="tmRoot">
          <p:childTnLst>
            <p:seq>
              <p:cTn id="1616" dur="indefinite" nodeType="mainSeq">
                <p:childTnLst>
                  <p:par>
                    <p:cTn id="1617" fill="hold">
                      <p:stCondLst>
                        <p:cond delay="0"/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afterEffect" fill="hold" presetClass="entr" presetID="5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1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3" dur="1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5" nodeType="afterEffect" fill="hold" presetClass="entr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7" dur="80"/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8" dur="80"/>
                                        <p:tgtEl>
                                          <p:spTgt spid="7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9" dur="80"/>
                                        <p:tgtEl>
                                          <p:spTgt spid="7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0" fill="hold">
                            <p:stCondLst>
                              <p:cond delay="1960"/>
                            </p:stCondLst>
                            <p:childTnLst>
                              <p:par>
                                <p:cTn id="16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3581280" y="4572000"/>
            <a:ext cx="1081080" cy="792000"/>
          </a:xfrm>
          <a:custGeom>
            <a:avLst/>
            <a:gdLst>
              <a:gd name="textAreaLeft" fmla="*/ 51120 w 1081080"/>
              <a:gd name="textAreaRight" fmla="*/ 1029960 w 1081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9480" h="21600">
                <a:moveTo>
                  <a:pt x="0" y="0"/>
                </a:moveTo>
                <a:lnTo>
                  <a:pt x="29480" y="0"/>
                </a:lnTo>
                <a:lnTo>
                  <a:pt x="29480" y="21600"/>
                </a:lnTo>
                <a:lnTo>
                  <a:pt x="0" y="21600"/>
                </a:lnTo>
                <a:close/>
              </a:path>
              <a:path fill="lightenLess" w="29480" h="21600">
                <a:moveTo>
                  <a:pt x="0" y="0"/>
                </a:moveTo>
                <a:lnTo>
                  <a:pt x="29480" y="0"/>
                </a:lnTo>
                <a:lnTo>
                  <a:pt x="28080" y="1400"/>
                </a:lnTo>
                <a:lnTo>
                  <a:pt x="1400" y="1400"/>
                </a:lnTo>
                <a:close/>
              </a:path>
              <a:path fill="darken" w="29480" h="21600">
                <a:moveTo>
                  <a:pt x="29480" y="0"/>
                </a:moveTo>
                <a:lnTo>
                  <a:pt x="29480" y="21600"/>
                </a:lnTo>
                <a:lnTo>
                  <a:pt x="28080" y="20200"/>
                </a:lnTo>
                <a:lnTo>
                  <a:pt x="28080" y="1400"/>
                </a:lnTo>
                <a:close/>
              </a:path>
              <a:path fill="darkenLess" w="29480" h="21600">
                <a:moveTo>
                  <a:pt x="294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80" y="20200"/>
                </a:lnTo>
                <a:close/>
              </a:path>
              <a:path fill="lighten" w="294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80" h="21600">
                <a:moveTo>
                  <a:pt x="7734" y="3794"/>
                </a:moveTo>
                <a:lnTo>
                  <a:pt x="21747" y="10800"/>
                </a:lnTo>
                <a:lnTo>
                  <a:pt x="7734" y="17806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" descr=""/>
          <p:cNvPicPr/>
          <p:nvPr/>
        </p:nvPicPr>
        <p:blipFill>
          <a:blip r:embed="rId2"/>
          <a:stretch/>
        </p:blipFill>
        <p:spPr>
          <a:xfrm>
            <a:off x="5724360" y="1700280"/>
            <a:ext cx="3419640" cy="4941720"/>
          </a:xfrm>
          <a:prstGeom prst="rect">
            <a:avLst/>
          </a:prstGeom>
          <a:ln w="0">
            <a:noFill/>
          </a:ln>
        </p:spPr>
      </p:pic>
      <p:sp>
        <p:nvSpPr>
          <p:cNvPr id="741" name=""/>
          <p:cNvSpPr txBox="1"/>
          <p:nvPr/>
        </p:nvSpPr>
        <p:spPr>
          <a:xfrm>
            <a:off x="971640" y="189000"/>
            <a:ext cx="727236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Mai gândeşte-te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42" name=""/>
          <p:cNvSpPr/>
          <p:nvPr/>
        </p:nvSpPr>
        <p:spPr>
          <a:xfrm>
            <a:off x="304920" y="2971800"/>
            <a:ext cx="3274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f800"/>
                </a:solidFill>
                <a:latin typeface="Arial"/>
              </a:rPr>
              <a:t>Dă clic  şi încearcă din n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3" dur="indefinite" restart="never" nodeType="tmRoot">
          <p:childTnLst>
            <p:seq>
              <p:cTn id="1634" dur="indefinite" nodeType="mainSeq">
                <p:childTnLst>
                  <p:par>
                    <p:cTn id="1635" fill="hold">
                      <p:stCondLst>
                        <p:cond delay="0"/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9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1" dur="1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5" dur="80"/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6" dur="80"/>
                                        <p:tgtEl>
                                          <p:spTgt spid="7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7" dur="80"/>
                                        <p:tgtEl>
                                          <p:spTgt spid="7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8" fill="hold">
                            <p:stCondLst>
                              <p:cond delay="1960"/>
                            </p:stCondLst>
                            <p:childTnLst>
                              <p:par>
                                <p:cTn id="16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3" name="" descr=""/>
          <p:cNvPicPr/>
          <p:nvPr/>
        </p:nvPicPr>
        <p:blipFill>
          <a:blip r:embed="rId2"/>
          <a:stretch/>
        </p:blipFill>
        <p:spPr>
          <a:xfrm>
            <a:off x="971640" y="3429000"/>
            <a:ext cx="2216160" cy="2592360"/>
          </a:xfrm>
          <a:prstGeom prst="rect">
            <a:avLst/>
          </a:prstGeom>
          <a:ln w="0">
            <a:noFill/>
          </a:ln>
        </p:spPr>
      </p:pic>
      <p:sp>
        <p:nvSpPr>
          <p:cNvPr id="744" name=""/>
          <p:cNvSpPr txBox="1"/>
          <p:nvPr/>
        </p:nvSpPr>
        <p:spPr>
          <a:xfrm>
            <a:off x="2556000" y="333360"/>
            <a:ext cx="453708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99ff">
                        <a:alpha val="52156"/>
                      </a:srgbClr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Times New Roman"/>
              </a:rPr>
              <a:t>La revedere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99ff">
                      <a:alpha val="52156"/>
                    </a:srgbClr>
                  </a:gs>
                  <a:gs pos="100000">
                    <a:srgbClr val="ff00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45" name=""/>
          <p:cNvSpPr txBox="1"/>
          <p:nvPr/>
        </p:nvSpPr>
        <p:spPr>
          <a:xfrm rot="853800">
            <a:off x="1907640" y="2421000"/>
            <a:ext cx="6145560" cy="300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4548000"/>
                </a:gradFill>
                <a:latin typeface="Times New Roman"/>
              </a:rPr>
              <a:t>Va fi un concediu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4548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4548000"/>
                </a:gradFill>
                <a:latin typeface="Times New Roman"/>
              </a:rPr>
              <a:t>de vis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4548000"/>
              </a:gradFill>
              <a:latin typeface="Times New Roman"/>
              <a:ea typeface="Times New Roman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1332000" y="404640"/>
            <a:ext cx="7272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inunat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47" name=""/>
          <p:cNvSpPr/>
          <p:nvPr/>
        </p:nvSpPr>
        <p:spPr>
          <a:xfrm>
            <a:off x="7315200" y="5638680"/>
            <a:ext cx="936720" cy="792360"/>
          </a:xfrm>
          <a:custGeom>
            <a:avLst/>
            <a:gdLst>
              <a:gd name="textAreaLeft" fmla="*/ 51120 w 936720"/>
              <a:gd name="textAreaRight" fmla="*/ 885600 w 9367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5534" h="21600">
                <a:moveTo>
                  <a:pt x="0" y="0"/>
                </a:moveTo>
                <a:lnTo>
                  <a:pt x="25534" y="0"/>
                </a:lnTo>
                <a:lnTo>
                  <a:pt x="25534" y="21600"/>
                </a:lnTo>
                <a:lnTo>
                  <a:pt x="0" y="21600"/>
                </a:lnTo>
                <a:close/>
              </a:path>
              <a:path fill="lightenLess" w="25534" h="21600">
                <a:moveTo>
                  <a:pt x="0" y="0"/>
                </a:moveTo>
                <a:lnTo>
                  <a:pt x="25534" y="0"/>
                </a:lnTo>
                <a:lnTo>
                  <a:pt x="24134" y="1400"/>
                </a:lnTo>
                <a:lnTo>
                  <a:pt x="1400" y="1400"/>
                </a:lnTo>
                <a:close/>
              </a:path>
              <a:path fill="darken" w="25534" h="21600">
                <a:moveTo>
                  <a:pt x="25534" y="0"/>
                </a:moveTo>
                <a:lnTo>
                  <a:pt x="25534" y="21600"/>
                </a:lnTo>
                <a:lnTo>
                  <a:pt x="24134" y="20200"/>
                </a:lnTo>
                <a:lnTo>
                  <a:pt x="24134" y="1400"/>
                </a:lnTo>
                <a:close/>
              </a:path>
              <a:path fill="darkenLess" w="25534" h="21600">
                <a:moveTo>
                  <a:pt x="25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4" y="20200"/>
                </a:lnTo>
                <a:close/>
              </a:path>
              <a:path fill="lighten" w="25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4" h="21600">
                <a:moveTo>
                  <a:pt x="5760" y="3794"/>
                </a:moveTo>
                <a:lnTo>
                  <a:pt x="19773" y="10800"/>
                </a:lnTo>
                <a:lnTo>
                  <a:pt x="5760" y="17806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1" dur="indefinite" restart="never" nodeType="tmRoot">
          <p:childTnLst>
            <p:seq>
              <p:cTn id="1652" dur="indefinite" nodeType="mainSeq">
                <p:childTnLst>
                  <p:par>
                    <p:cTn id="1653" fill="hold">
                      <p:stCondLst>
                        <p:cond delay="0"/>
                      </p:stCondLst>
                      <p:childTnLst>
                        <p:par>
                          <p:cTn id="1654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7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60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61" dur="1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6" dur="77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67" dur="770" fill="hold"/>
                                        <p:tgtEl>
                                          <p:spTgt spid="7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69" dur="77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71" dur="77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3" fill="hold">
                            <p:stCondLst>
                              <p:cond delay="3500"/>
                            </p:stCondLst>
                            <p:childTnLst>
                              <p:par>
                                <p:cTn id="1674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75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76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77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678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9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0" nodeType="afterEffect" fill="hold" presetClass="path" presetID="4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2.96296E-006 C 0.00035 0.0243 0.00174 0.0419 0.00313 0.0419 C 0.00469 0.0419 0.00591 0.0243 0.00625 2.96296E-006 C 0.00695 0.0243 0.00816 0.0419 0.00955 0.0419 C 0.01094 0.0419 0.01216 0.0243 0.01268 2.96296E-006 C 0.0132 0.0243 0.01441 0.0419 0.0158 0.0419 C 0.01737 0.0419 0.01875 0.0243 0.0191 2.96296E-006 C 0.01962 0.0243 0.02084 0.0419 0.0224 0.0419 C 0.02362 0.0419 0.02518 0.0243 0.02553 2.96296E-006 C 0.02587 0.0243 0.02743 0.0419 0.02882 0.0419 C 0.03021 0.0419 0.03143 0.0243 0.03195 2.96296E-006 C 0.03247 0.0243 0.03368 0.0419 0.03525 0.0419 C 0.03664 0.0419 0.03785 0.0243 0.03837 2.96296E-006 C 0.03889 0.0243 0.04011 0.0419 0.0415 0.0419 C 0.04289 0.0419 0.04445 0.0243 0.0448 2.96296E-006 C 0.04514 0.0243 0.04636 0.0419 0.04809 0.0419 C 0.04948 0.0419 0.0507 0.0243 0.05122 2.96296E-006 E">
                                      <p:cBhvr>
                                        <p:cTn id="1681" dur="500" fill="hold"/>
                                        <p:tgtEl>
                                          <p:spTgt spid="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2" fill="hold">
                            <p:stCondLst>
                              <p:cond delay="4500"/>
                            </p:stCondLst>
                            <p:childTnLst>
                              <p:par>
                                <p:cTn id="1683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5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8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9" fill="hold">
                            <p:stCondLst>
                              <p:cond delay="5000"/>
                            </p:stCondLst>
                            <p:childTnLst>
                              <p:par>
                                <p:cTn id="1690" nodeType="afterEffect" fill="hold" presetClass="path" presetID="2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3.7037E-006 C 0.01701 3.7037E-006 0.03108 0.00231 0.03108 0.00509 C 0.03108 0.0081 0.01701 0.01041 1.11111E-006 0.01041 C -0.01701 0.01041 -0.03108 0.01273 -0.03108 0.01551 C -0.03108 0.01851 -0.01701 0.02083 1.11111E-006 0.02083 C 0.01701 0.02083 0.03108 0.02314 0.03108 0.02592 C 0.03108 0.02893 0.01701 0.03125 1.11111E-006 0.03125 C -0.01701 0.03125 -0.03108 0.03356 -0.03108 0.03657 C -0.03108 0.03935 -0.01701 0.04189 1.11111E-006 0.04189 C 0.01701 0.04189 0.03108 0.03935 0.03108 0.03657 C 0.03108 0.03356 0.01701 0.03125 1.11111E-006 0.03125 C -0.01701 0.03125 -0.03108 0.02893 -0.03108 0.02592 C -0.03108 0.02314 -0.01701 0.02083 1.11111E-006 0.02083 C 0.01701 0.02083 0.03108 0.01851 0.03108 0.01551 C 0.03108 0.01273 0.01701 0.01041 1.11111E-006 0.01041 C -0.01701 0.01041 -0.03108 0.0081 -0.03108 0.00509 C -0.03108 0.00231 -0.01701 3.7037E-006 1.11111E-006 3.7037E-006 Z">
                                      <p:cBhvr>
                                        <p:cTn id="1691" dur="500" fill="hold"/>
                                        <p:tgtEl>
                                          <p:spTgt spid="7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2" fill="hold">
                            <p:stCondLst>
                              <p:cond delay="5500"/>
                            </p:stCondLst>
                            <p:childTnLst>
                              <p:par>
                                <p:cTn id="16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5" fill="hold">
                            <p:stCondLst>
                              <p:cond delay="5500"/>
                            </p:stCondLst>
                            <p:childTnLst>
                              <p:par>
                                <p:cTn id="1696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7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98" dur="250" autoRev="1" fill="hold"/>
                                        <p:tgtEl>
                                          <p:spTgt spid="7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8" name="" descr=""/>
          <p:cNvPicPr/>
          <p:nvPr/>
        </p:nvPicPr>
        <p:blipFill>
          <a:blip r:embed="rId2"/>
          <a:stretch/>
        </p:blipFill>
        <p:spPr>
          <a:xfrm>
            <a:off x="2819520" y="2743200"/>
            <a:ext cx="3192480" cy="3600360"/>
          </a:xfrm>
          <a:prstGeom prst="rect">
            <a:avLst/>
          </a:prstGeom>
          <a:ln w="0">
            <a:noFill/>
          </a:ln>
        </p:spPr>
      </p:pic>
      <p:sp>
        <p:nvSpPr>
          <p:cNvPr id="749" name=""/>
          <p:cNvSpPr/>
          <p:nvPr/>
        </p:nvSpPr>
        <p:spPr>
          <a:xfrm rot="21236400">
            <a:off x="175680" y="671400"/>
            <a:ext cx="86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cc"/>
                </a:solidFill>
                <a:latin typeface="Arial"/>
              </a:rPr>
              <a:t>Succes mai departe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9" dur="indefinite" restart="never" nodeType="tmRoot">
          <p:childTnLst>
            <p:seq>
              <p:cTn id="1700" dur="indefinite" nodeType="mainSeq">
                <p:childTnLst>
                  <p:par>
                    <p:cTn id="1701" fill="hold">
                      <p:stCondLst>
                        <p:cond delay="0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5" dur="385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06" dur="385" fill="hold"/>
                                        <p:tgtEl>
                                          <p:spTgt spid="7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0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08" dur="385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0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10" dur="385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1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14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1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3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4" nodeType="after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7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72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2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2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72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>
            <a:hlinkClick r:id="rId2" action="ppaction://hlinksldjump"/>
          </p:cNvPr>
          <p:cNvSpPr/>
          <p:nvPr/>
        </p:nvSpPr>
        <p:spPr>
          <a:xfrm>
            <a:off x="3809880" y="4495680"/>
            <a:ext cx="1081080" cy="792360"/>
          </a:xfrm>
          <a:custGeom>
            <a:avLst/>
            <a:gdLst>
              <a:gd name="textAreaLeft" fmla="*/ 51120 w 1081080"/>
              <a:gd name="textAreaRight" fmla="*/ 1029960 w 108108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9467" h="21600">
                <a:moveTo>
                  <a:pt x="0" y="0"/>
                </a:moveTo>
                <a:lnTo>
                  <a:pt x="29467" y="0"/>
                </a:lnTo>
                <a:lnTo>
                  <a:pt x="29467" y="21600"/>
                </a:lnTo>
                <a:lnTo>
                  <a:pt x="0" y="21600"/>
                </a:lnTo>
                <a:close/>
              </a:path>
              <a:path fill="lightenLess" w="29467" h="21600">
                <a:moveTo>
                  <a:pt x="0" y="0"/>
                </a:moveTo>
                <a:lnTo>
                  <a:pt x="29467" y="0"/>
                </a:lnTo>
                <a:lnTo>
                  <a:pt x="28067" y="1400"/>
                </a:lnTo>
                <a:lnTo>
                  <a:pt x="1400" y="1400"/>
                </a:lnTo>
                <a:close/>
              </a:path>
              <a:path fill="darken" w="29467" h="21600">
                <a:moveTo>
                  <a:pt x="29467" y="0"/>
                </a:moveTo>
                <a:lnTo>
                  <a:pt x="29467" y="21600"/>
                </a:lnTo>
                <a:lnTo>
                  <a:pt x="28067" y="20200"/>
                </a:lnTo>
                <a:lnTo>
                  <a:pt x="28067" y="1400"/>
                </a:lnTo>
                <a:close/>
              </a:path>
              <a:path fill="darkenLess" w="29467" h="21600">
                <a:moveTo>
                  <a:pt x="294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67" y="20200"/>
                </a:lnTo>
                <a:close/>
              </a:path>
              <a:path fill="lighten" w="294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67" h="21600">
                <a:moveTo>
                  <a:pt x="7727" y="3794"/>
                </a:moveTo>
                <a:lnTo>
                  <a:pt x="21740" y="10800"/>
                </a:lnTo>
                <a:lnTo>
                  <a:pt x="7727" y="17806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5724360" y="1676520"/>
            <a:ext cx="3419640" cy="4941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468360" y="333360"/>
            <a:ext cx="8242200" cy="12193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28600" y="2438280"/>
            <a:ext cx="2819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f800"/>
                </a:solidFill>
                <a:latin typeface="Arial"/>
              </a:rPr>
              <a:t>Dă clic  şi încearcă din n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96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2916360" cy="29304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179280" y="1773360"/>
            <a:ext cx="2637000" cy="29304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0" y="3716280"/>
            <a:ext cx="3019320" cy="31417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5508720" y="476280"/>
            <a:ext cx="3240000" cy="29304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6084720" y="1989000"/>
            <a:ext cx="2637000" cy="29307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7"/>
          <a:stretch/>
        </p:blipFill>
        <p:spPr>
          <a:xfrm>
            <a:off x="5364000" y="3927600"/>
            <a:ext cx="3600720" cy="29304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539640" y="119700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 rot="30600">
            <a:off x="469800" y="1555920"/>
            <a:ext cx="20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280" y="5013360"/>
            <a:ext cx="35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1341360"/>
            <a:ext cx="2158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3333cc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2852640"/>
            <a:ext cx="2158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3333cc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8920" y="4869000"/>
            <a:ext cx="21589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33cc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1280" y="1341360"/>
            <a:ext cx="2016000" cy="1081080"/>
          </a:xfrm>
          <a:custGeom>
            <a:avLst/>
            <a:gdLst>
              <a:gd name="textAreaLeft" fmla="*/ 69840 w 2016000"/>
              <a:gd name="textAreaRight" fmla="*/ 1946160 w 2016000"/>
              <a:gd name="textAreaTop" fmla="*/ 69840 h 1081080"/>
              <a:gd name="textAreaBottom" fmla="*/ 1011240 h 1081080"/>
            </a:gdLst>
            <a:ahLst/>
            <a:rect l="textAreaLeft" t="textAreaTop" r="textAreaRight" b="textAreaBottom"/>
            <a:pathLst>
              <a:path w="40274" h="21600">
                <a:moveTo>
                  <a:pt x="0" y="0"/>
                </a:moveTo>
                <a:lnTo>
                  <a:pt x="40274" y="0"/>
                </a:lnTo>
                <a:lnTo>
                  <a:pt x="40274" y="21600"/>
                </a:lnTo>
                <a:lnTo>
                  <a:pt x="0" y="21600"/>
                </a:lnTo>
                <a:close/>
              </a:path>
              <a:path fill="lightenLess" w="40274" h="21600">
                <a:moveTo>
                  <a:pt x="0" y="0"/>
                </a:moveTo>
                <a:lnTo>
                  <a:pt x="40274" y="0"/>
                </a:lnTo>
                <a:lnTo>
                  <a:pt x="38874" y="1400"/>
                </a:lnTo>
                <a:lnTo>
                  <a:pt x="1400" y="1400"/>
                </a:lnTo>
                <a:close/>
              </a:path>
              <a:path fill="darken" w="40274" h="21600">
                <a:moveTo>
                  <a:pt x="40274" y="0"/>
                </a:moveTo>
                <a:lnTo>
                  <a:pt x="40274" y="21600"/>
                </a:lnTo>
                <a:lnTo>
                  <a:pt x="38874" y="20200"/>
                </a:lnTo>
                <a:lnTo>
                  <a:pt x="38874" y="1400"/>
                </a:lnTo>
                <a:close/>
              </a:path>
              <a:path fill="darkenLess" w="40274" h="21600">
                <a:moveTo>
                  <a:pt x="402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874" y="20200"/>
                </a:lnTo>
                <a:close/>
              </a:path>
              <a:path fill="lighten" w="402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274" h="21600">
                <a:moveTo>
                  <a:pt x="13130" y="3794"/>
                </a:moveTo>
                <a:lnTo>
                  <a:pt x="27143" y="10800"/>
                </a:lnTo>
                <a:lnTo>
                  <a:pt x="1313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rId8" action="ppaction://hlinksldjump"/>
          </p:cNvPr>
          <p:cNvSpPr/>
          <p:nvPr/>
        </p:nvSpPr>
        <p:spPr>
          <a:xfrm>
            <a:off x="539640" y="4797360"/>
            <a:ext cx="2016360" cy="1081080"/>
          </a:xfrm>
          <a:custGeom>
            <a:avLst/>
            <a:gdLst>
              <a:gd name="textAreaLeft" fmla="*/ 69840 w 2016360"/>
              <a:gd name="textAreaRight" fmla="*/ 1946520 w 2016360"/>
              <a:gd name="textAreaTop" fmla="*/ 69840 h 1081080"/>
              <a:gd name="textAreaBottom" fmla="*/ 1011240 h 1081080"/>
            </a:gdLst>
            <a:ahLst/>
            <a:rect l="textAreaLeft" t="textAreaTop" r="textAreaRight" b="textAreaBottom"/>
            <a:pathLst>
              <a:path w="40281" h="21600">
                <a:moveTo>
                  <a:pt x="0" y="0"/>
                </a:moveTo>
                <a:lnTo>
                  <a:pt x="40281" y="0"/>
                </a:lnTo>
                <a:lnTo>
                  <a:pt x="40281" y="21600"/>
                </a:lnTo>
                <a:lnTo>
                  <a:pt x="0" y="21600"/>
                </a:lnTo>
                <a:close/>
              </a:path>
              <a:path fill="lightenLess" w="40281" h="21600">
                <a:moveTo>
                  <a:pt x="0" y="0"/>
                </a:moveTo>
                <a:lnTo>
                  <a:pt x="40281" y="0"/>
                </a:lnTo>
                <a:lnTo>
                  <a:pt x="38881" y="1400"/>
                </a:lnTo>
                <a:lnTo>
                  <a:pt x="1400" y="1400"/>
                </a:lnTo>
                <a:close/>
              </a:path>
              <a:path fill="darken" w="40281" h="21600">
                <a:moveTo>
                  <a:pt x="40281" y="0"/>
                </a:moveTo>
                <a:lnTo>
                  <a:pt x="40281" y="21600"/>
                </a:lnTo>
                <a:lnTo>
                  <a:pt x="38881" y="20200"/>
                </a:lnTo>
                <a:lnTo>
                  <a:pt x="38881" y="1400"/>
                </a:lnTo>
                <a:close/>
              </a:path>
              <a:path fill="darkenLess" w="40281" h="21600">
                <a:moveTo>
                  <a:pt x="402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881" y="20200"/>
                </a:lnTo>
                <a:close/>
              </a:path>
              <a:path fill="lighten" w="402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281" h="21600">
                <a:moveTo>
                  <a:pt x="13134" y="3794"/>
                </a:moveTo>
                <a:lnTo>
                  <a:pt x="27147" y="10800"/>
                </a:lnTo>
                <a:lnTo>
                  <a:pt x="1313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156360" y="1557360"/>
            <a:ext cx="2158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3333cc"/>
                </a:solidFill>
                <a:latin typeface="Comic Sans MS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372360" y="3284640"/>
            <a:ext cx="21589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33cc"/>
                </a:solidFill>
                <a:latin typeface="Comic Sans MS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56360" y="5229360"/>
            <a:ext cx="21589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3333cc"/>
                </a:solidFill>
                <a:latin typeface="Comic Sans MS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9" action="ppaction://hlinksldjump"/>
          </p:cNvPr>
          <p:cNvSpPr/>
          <p:nvPr/>
        </p:nvSpPr>
        <p:spPr>
          <a:xfrm>
            <a:off x="6012000" y="5084640"/>
            <a:ext cx="2950920" cy="1586160"/>
          </a:xfrm>
          <a:custGeom>
            <a:avLst/>
            <a:gdLst>
              <a:gd name="textAreaLeft" fmla="*/ 102600 w 2950920"/>
              <a:gd name="textAreaRight" fmla="*/ 2848320 w 2950920"/>
              <a:gd name="textAreaTop" fmla="*/ 102600 h 1586160"/>
              <a:gd name="textAreaBottom" fmla="*/ 1483560 h 1586160"/>
            </a:gdLst>
            <a:ahLst/>
            <a:rect l="textAreaLeft" t="textAreaTop" r="textAreaRight" b="textAreaBottom"/>
            <a:pathLst>
              <a:path w="40181" h="21600">
                <a:moveTo>
                  <a:pt x="0" y="0"/>
                </a:moveTo>
                <a:lnTo>
                  <a:pt x="40181" y="0"/>
                </a:lnTo>
                <a:lnTo>
                  <a:pt x="40181" y="21600"/>
                </a:lnTo>
                <a:lnTo>
                  <a:pt x="0" y="21600"/>
                </a:lnTo>
                <a:close/>
              </a:path>
              <a:path fill="lightenLess" w="40181" h="21600">
                <a:moveTo>
                  <a:pt x="0" y="0"/>
                </a:moveTo>
                <a:lnTo>
                  <a:pt x="40181" y="0"/>
                </a:lnTo>
                <a:lnTo>
                  <a:pt x="38781" y="1400"/>
                </a:lnTo>
                <a:lnTo>
                  <a:pt x="1400" y="1400"/>
                </a:lnTo>
                <a:close/>
              </a:path>
              <a:path fill="darken" w="40181" h="21600">
                <a:moveTo>
                  <a:pt x="40181" y="0"/>
                </a:moveTo>
                <a:lnTo>
                  <a:pt x="40181" y="21600"/>
                </a:lnTo>
                <a:lnTo>
                  <a:pt x="38781" y="20200"/>
                </a:lnTo>
                <a:lnTo>
                  <a:pt x="38781" y="1400"/>
                </a:lnTo>
                <a:close/>
              </a:path>
              <a:path fill="darkenLess" w="40181" h="21600">
                <a:moveTo>
                  <a:pt x="4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81" y="20200"/>
                </a:lnTo>
                <a:close/>
              </a:path>
              <a:path fill="lighten" w="4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181" h="21600">
                <a:moveTo>
                  <a:pt x="13084" y="3794"/>
                </a:moveTo>
                <a:lnTo>
                  <a:pt x="27097" y="10800"/>
                </a:lnTo>
                <a:lnTo>
                  <a:pt x="1308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300720" y="1557360"/>
            <a:ext cx="2519280" cy="1224000"/>
          </a:xfrm>
          <a:custGeom>
            <a:avLst/>
            <a:gdLst>
              <a:gd name="textAreaLeft" fmla="*/ 79200 w 2519280"/>
              <a:gd name="textAreaRight" fmla="*/ 2440080 w 251928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44451" h="21600">
                <a:moveTo>
                  <a:pt x="0" y="0"/>
                </a:moveTo>
                <a:lnTo>
                  <a:pt x="44451" y="0"/>
                </a:lnTo>
                <a:lnTo>
                  <a:pt x="44451" y="21600"/>
                </a:lnTo>
                <a:lnTo>
                  <a:pt x="0" y="21600"/>
                </a:lnTo>
                <a:close/>
              </a:path>
              <a:path fill="lightenLess" w="44451" h="21600">
                <a:moveTo>
                  <a:pt x="0" y="0"/>
                </a:moveTo>
                <a:lnTo>
                  <a:pt x="44451" y="0"/>
                </a:lnTo>
                <a:lnTo>
                  <a:pt x="43051" y="1400"/>
                </a:lnTo>
                <a:lnTo>
                  <a:pt x="1400" y="1400"/>
                </a:lnTo>
                <a:close/>
              </a:path>
              <a:path fill="darken" w="44451" h="21600">
                <a:moveTo>
                  <a:pt x="44451" y="0"/>
                </a:moveTo>
                <a:lnTo>
                  <a:pt x="44451" y="21600"/>
                </a:lnTo>
                <a:lnTo>
                  <a:pt x="43051" y="20200"/>
                </a:lnTo>
                <a:lnTo>
                  <a:pt x="43051" y="1400"/>
                </a:lnTo>
                <a:close/>
              </a:path>
              <a:path fill="darkenLess" w="44451" h="21600">
                <a:moveTo>
                  <a:pt x="444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051" y="20200"/>
                </a:lnTo>
                <a:close/>
              </a:path>
              <a:path fill="lighten" w="444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451" h="21600">
                <a:moveTo>
                  <a:pt x="15219" y="3794"/>
                </a:moveTo>
                <a:lnTo>
                  <a:pt x="29232" y="10800"/>
                </a:lnTo>
                <a:lnTo>
                  <a:pt x="15219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0"/>
          <a:stretch/>
        </p:blipFill>
        <p:spPr>
          <a:xfrm>
            <a:off x="2700360" y="4508640"/>
            <a:ext cx="2668680" cy="2349360"/>
          </a:xfrm>
          <a:prstGeom prst="rect">
            <a:avLst/>
          </a:prstGeom>
          <a:ln w="0">
            <a:noFill/>
          </a:ln>
        </p:spPr>
      </p:pic>
      <p:sp>
        <p:nvSpPr>
          <p:cNvPr id="171" name="">
            <a:hlinkClick r:id="rId11" action="ppaction://hlinksldjump"/>
          </p:cNvPr>
          <p:cNvSpPr/>
          <p:nvPr/>
        </p:nvSpPr>
        <p:spPr>
          <a:xfrm>
            <a:off x="6335640" y="2924280"/>
            <a:ext cx="2808360" cy="1439640"/>
          </a:xfrm>
          <a:custGeom>
            <a:avLst/>
            <a:gdLst>
              <a:gd name="textAreaLeft" fmla="*/ 93240 w 2808360"/>
              <a:gd name="textAreaRight" fmla="*/ 2715120 w 2808360"/>
              <a:gd name="textAreaTop" fmla="*/ 93240 h 1439640"/>
              <a:gd name="textAreaBottom" fmla="*/ 1346400 h 1439640"/>
            </a:gdLst>
            <a:ahLst/>
            <a:rect l="textAreaLeft" t="textAreaTop" r="textAreaRight" b="textAreaBottom"/>
            <a:pathLst>
              <a:path w="42131" h="21600">
                <a:moveTo>
                  <a:pt x="0" y="0"/>
                </a:moveTo>
                <a:lnTo>
                  <a:pt x="42131" y="0"/>
                </a:lnTo>
                <a:lnTo>
                  <a:pt x="42131" y="21600"/>
                </a:lnTo>
                <a:lnTo>
                  <a:pt x="0" y="21600"/>
                </a:lnTo>
                <a:close/>
              </a:path>
              <a:path fill="lightenLess" w="42131" h="21600">
                <a:moveTo>
                  <a:pt x="0" y="0"/>
                </a:moveTo>
                <a:lnTo>
                  <a:pt x="42131" y="0"/>
                </a:lnTo>
                <a:lnTo>
                  <a:pt x="40731" y="1400"/>
                </a:lnTo>
                <a:lnTo>
                  <a:pt x="1400" y="1400"/>
                </a:lnTo>
                <a:close/>
              </a:path>
              <a:path fill="darken" w="42131" h="21600">
                <a:moveTo>
                  <a:pt x="42131" y="0"/>
                </a:moveTo>
                <a:lnTo>
                  <a:pt x="42131" y="21600"/>
                </a:lnTo>
                <a:lnTo>
                  <a:pt x="40731" y="20200"/>
                </a:lnTo>
                <a:lnTo>
                  <a:pt x="40731" y="1400"/>
                </a:lnTo>
                <a:close/>
              </a:path>
              <a:path fill="darkenLess" w="42131" h="21600">
                <a:moveTo>
                  <a:pt x="421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731" y="20200"/>
                </a:lnTo>
                <a:close/>
              </a:path>
              <a:path fill="lighten" w="421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131" h="21600">
                <a:moveTo>
                  <a:pt x="14059" y="3794"/>
                </a:moveTo>
                <a:lnTo>
                  <a:pt x="28072" y="10800"/>
                </a:lnTo>
                <a:lnTo>
                  <a:pt x="14059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2"/>
          <a:stretch/>
        </p:blipFill>
        <p:spPr>
          <a:xfrm>
            <a:off x="3059280" y="1413000"/>
            <a:ext cx="3001680" cy="3608280"/>
          </a:xfrm>
          <a:prstGeom prst="rect">
            <a:avLst/>
          </a:prstGeom>
          <a:ln w="0">
            <a:noFill/>
          </a:ln>
        </p:spPr>
      </p:pic>
      <p:sp>
        <p:nvSpPr>
          <p:cNvPr id="173" name="">
            <a:hlinkClick r:id="rId13" action="ppaction://hlinksldjump"/>
          </p:cNvPr>
          <p:cNvSpPr/>
          <p:nvPr/>
        </p:nvSpPr>
        <p:spPr>
          <a:xfrm>
            <a:off x="539640" y="2924280"/>
            <a:ext cx="2016360" cy="1081080"/>
          </a:xfrm>
          <a:custGeom>
            <a:avLst/>
            <a:gdLst>
              <a:gd name="textAreaLeft" fmla="*/ 69840 w 2016360"/>
              <a:gd name="textAreaRight" fmla="*/ 1946520 w 2016360"/>
              <a:gd name="textAreaTop" fmla="*/ 69840 h 1081080"/>
              <a:gd name="textAreaBottom" fmla="*/ 1011240 h 1081080"/>
            </a:gdLst>
            <a:ahLst/>
            <a:rect l="textAreaLeft" t="textAreaTop" r="textAreaRight" b="textAreaBottom"/>
            <a:pathLst>
              <a:path w="40281" h="21600">
                <a:moveTo>
                  <a:pt x="0" y="0"/>
                </a:moveTo>
                <a:lnTo>
                  <a:pt x="40281" y="0"/>
                </a:lnTo>
                <a:lnTo>
                  <a:pt x="40281" y="21600"/>
                </a:lnTo>
                <a:lnTo>
                  <a:pt x="0" y="21600"/>
                </a:lnTo>
                <a:close/>
              </a:path>
              <a:path fill="lightenLess" w="40281" h="21600">
                <a:moveTo>
                  <a:pt x="0" y="0"/>
                </a:moveTo>
                <a:lnTo>
                  <a:pt x="40281" y="0"/>
                </a:lnTo>
                <a:lnTo>
                  <a:pt x="38881" y="1400"/>
                </a:lnTo>
                <a:lnTo>
                  <a:pt x="1400" y="1400"/>
                </a:lnTo>
                <a:close/>
              </a:path>
              <a:path fill="darken" w="40281" h="21600">
                <a:moveTo>
                  <a:pt x="40281" y="0"/>
                </a:moveTo>
                <a:lnTo>
                  <a:pt x="40281" y="21600"/>
                </a:lnTo>
                <a:lnTo>
                  <a:pt x="38881" y="20200"/>
                </a:lnTo>
                <a:lnTo>
                  <a:pt x="38881" y="1400"/>
                </a:lnTo>
                <a:close/>
              </a:path>
              <a:path fill="darkenLess" w="40281" h="21600">
                <a:moveTo>
                  <a:pt x="402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881" y="20200"/>
                </a:lnTo>
                <a:close/>
              </a:path>
              <a:path fill="lighten" w="402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281" h="21600">
                <a:moveTo>
                  <a:pt x="13134" y="3794"/>
                </a:moveTo>
                <a:lnTo>
                  <a:pt x="27147" y="10800"/>
                </a:lnTo>
                <a:lnTo>
                  <a:pt x="1313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5T14:40:40Z</dcterms:created>
  <dc:creator>elvira</dc:creator>
  <dc:description/>
  <dc:language>en-US</dc:language>
  <cp:lastModifiedBy>IULIA</cp:lastModifiedBy>
  <dcterms:modified xsi:type="dcterms:W3CDTF">2009-10-29T13:10:12Z</dcterms:modified>
  <cp:revision>32</cp:revision>
  <dc:subject/>
  <dc:title>aventuri matematice</dc:title>
</cp:coreProperties>
</file>